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42-4A0B-49B0-BC62-A463E08D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B3F-7B8D-4F58-B7CD-0465415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49A-C78F-494F-A790-A5C224DE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04C-8B27-4E32-9317-F64A2490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B18-DEA5-40F5-ABFC-8AF0363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FAAB-D956-4FBA-A002-92B1266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165-EA41-40CD-90FB-B61147B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D6D-035D-4A8B-8E6D-914B71A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4C68-067D-430E-8BA2-CE5A322F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917A-CD18-4802-9BFC-4647F2A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C05A-5E16-490E-8E39-16E1119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499-2422-4F96-9360-1C9FA155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50D-50CE-4FD4-85CA-9364912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57D6-A645-47D3-A662-E231C84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0F2-94CD-4492-9259-5980AB0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A5AD-FE07-4108-A7D4-08F689D3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E82-AA3F-4B3C-BBFB-540A9BF5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F47-1C9C-4BA9-8D3D-BB37E163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588-68F0-45EF-B9F1-0FEEC73D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956-8BD1-4FA5-9132-755C1B0C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DB3-D1B9-40FD-B699-1D42D9D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7B4-672C-47CD-9A1B-AE5B437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E05-550E-4640-81E9-3C2D1D4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C4A-5E42-48A0-AA45-8406EBF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CC8-4E7C-449C-B306-1B816C6F4B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896-78CE-43A4-AC88-DAD24FB2E5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ecember 1st Warm-up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the equation or inequality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The product of the number S and 5 is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) 12 is the quotient of a number N and 4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) The sum of 81 and 4 3/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1581120"/>
            <a:ext cx="4910040" cy="1812960"/>
          </a:xfrm>
          <a:custGeom>
            <a:avLst/>
            <a:gdLst/>
            <a:ahLst/>
            <a:rect l="l" t="t" r="r" b="b"/>
            <a:pathLst>
              <a:path w="13643" h="5037">
                <a:moveTo>
                  <a:pt x="7739" y="4911"/>
                </a:moveTo>
                <a:cubicBezTo>
                  <a:pt x="7770" y="4903"/>
                  <a:pt x="7796" y="4872"/>
                  <a:pt x="7838" y="4862"/>
                </a:cubicBezTo>
                <a:cubicBezTo>
                  <a:pt x="7889" y="4850"/>
                  <a:pt x="7967" y="4837"/>
                  <a:pt x="8012" y="4837"/>
                </a:cubicBezTo>
                <a:cubicBezTo>
                  <a:pt x="8097" y="4837"/>
                  <a:pt x="8164" y="4843"/>
                  <a:pt x="8235" y="4837"/>
                </a:cubicBezTo>
                <a:cubicBezTo>
                  <a:pt x="8338" y="4829"/>
                  <a:pt x="8432" y="4802"/>
                  <a:pt x="8533" y="4787"/>
                </a:cubicBezTo>
                <a:cubicBezTo>
                  <a:pt x="8654" y="4769"/>
                  <a:pt x="8762" y="4741"/>
                  <a:pt x="8880" y="4713"/>
                </a:cubicBezTo>
                <a:cubicBezTo>
                  <a:pt x="8971" y="4692"/>
                  <a:pt x="9065" y="4687"/>
                  <a:pt x="9153" y="4663"/>
                </a:cubicBezTo>
                <a:cubicBezTo>
                  <a:pt x="9226" y="4643"/>
                  <a:pt x="9303" y="4612"/>
                  <a:pt x="9376" y="4589"/>
                </a:cubicBezTo>
                <a:cubicBezTo>
                  <a:pt x="9448" y="4567"/>
                  <a:pt x="9503" y="4556"/>
                  <a:pt x="9575" y="4539"/>
                </a:cubicBezTo>
                <a:cubicBezTo>
                  <a:pt x="9676" y="4515"/>
                  <a:pt x="9770" y="4483"/>
                  <a:pt x="9872" y="4465"/>
                </a:cubicBezTo>
                <a:cubicBezTo>
                  <a:pt x="9955" y="4451"/>
                  <a:pt x="10038" y="4450"/>
                  <a:pt x="10120" y="4440"/>
                </a:cubicBezTo>
                <a:cubicBezTo>
                  <a:pt x="10219" y="4428"/>
                  <a:pt x="10320" y="4421"/>
                  <a:pt x="10418" y="4415"/>
                </a:cubicBezTo>
                <a:cubicBezTo>
                  <a:pt x="10731" y="4397"/>
                  <a:pt x="11052" y="4404"/>
                  <a:pt x="11361" y="4390"/>
                </a:cubicBezTo>
                <a:cubicBezTo>
                  <a:pt x="11490" y="4384"/>
                  <a:pt x="11607" y="4409"/>
                  <a:pt x="11733" y="4415"/>
                </a:cubicBezTo>
                <a:cubicBezTo>
                  <a:pt x="11916" y="4423"/>
                  <a:pt x="12096" y="4432"/>
                  <a:pt x="12278" y="4440"/>
                </a:cubicBezTo>
                <a:cubicBezTo>
                  <a:pt x="12438" y="4447"/>
                  <a:pt x="12590" y="4463"/>
                  <a:pt x="12750" y="4465"/>
                </a:cubicBezTo>
                <a:cubicBezTo>
                  <a:pt x="12901" y="4467"/>
                  <a:pt x="13047" y="4455"/>
                  <a:pt x="13196" y="4440"/>
                </a:cubicBezTo>
                <a:cubicBezTo>
                  <a:pt x="13294" y="4430"/>
                  <a:pt x="13393" y="4423"/>
                  <a:pt x="13494" y="4415"/>
                </a:cubicBezTo>
                <a:cubicBezTo>
                  <a:pt x="13660" y="4401"/>
                  <a:pt x="13820" y="4390"/>
                  <a:pt x="13990" y="4390"/>
                </a:cubicBezTo>
                <a:cubicBezTo>
                  <a:pt x="14191" y="4390"/>
                  <a:pt x="14387" y="4392"/>
                  <a:pt x="14585" y="4415"/>
                </a:cubicBezTo>
                <a:cubicBezTo>
                  <a:pt x="14695" y="4428"/>
                  <a:pt x="14803" y="4448"/>
                  <a:pt x="14908" y="4465"/>
                </a:cubicBezTo>
                <a:cubicBezTo>
                  <a:pt x="14985" y="4477"/>
                  <a:pt x="15052" y="4475"/>
                  <a:pt x="15131" y="4490"/>
                </a:cubicBezTo>
                <a:cubicBezTo>
                  <a:pt x="15234" y="4509"/>
                  <a:pt x="15349" y="4532"/>
                  <a:pt x="15453" y="4564"/>
                </a:cubicBezTo>
                <a:cubicBezTo>
                  <a:pt x="15546" y="4593"/>
                  <a:pt x="15660" y="4629"/>
                  <a:pt x="15751" y="4663"/>
                </a:cubicBezTo>
                <a:cubicBezTo>
                  <a:pt x="15812" y="4686"/>
                  <a:pt x="15864" y="4718"/>
                  <a:pt x="15925" y="4738"/>
                </a:cubicBezTo>
                <a:cubicBezTo>
                  <a:pt x="15983" y="4757"/>
                  <a:pt x="16041" y="4768"/>
                  <a:pt x="16098" y="4787"/>
                </a:cubicBezTo>
                <a:cubicBezTo>
                  <a:pt x="16174" y="4812"/>
                  <a:pt x="16219" y="4823"/>
                  <a:pt x="16297" y="4837"/>
                </a:cubicBezTo>
                <a:cubicBezTo>
                  <a:pt x="16394" y="4855"/>
                  <a:pt x="16494" y="4847"/>
                  <a:pt x="16594" y="4862"/>
                </a:cubicBezTo>
                <a:cubicBezTo>
                  <a:pt x="16674" y="4874"/>
                  <a:pt x="16759" y="4900"/>
                  <a:pt x="16842" y="4911"/>
                </a:cubicBezTo>
                <a:cubicBezTo>
                  <a:pt x="16920" y="4921"/>
                  <a:pt x="16988" y="4927"/>
                  <a:pt x="17066" y="4936"/>
                </a:cubicBezTo>
                <a:cubicBezTo>
                  <a:pt x="17134" y="4944"/>
                  <a:pt x="17195" y="4952"/>
                  <a:pt x="17264" y="4961"/>
                </a:cubicBezTo>
                <a:cubicBezTo>
                  <a:pt x="17314" y="4967"/>
                  <a:pt x="17344" y="4976"/>
                  <a:pt x="17388" y="4986"/>
                </a:cubicBezTo>
                <a:cubicBezTo>
                  <a:pt x="17470" y="5004"/>
                  <a:pt x="17485" y="4993"/>
                  <a:pt x="17562" y="5035"/>
                </a:cubicBezTo>
                <a:cubicBezTo>
                  <a:pt x="17574" y="5041"/>
                  <a:pt x="17593" y="5073"/>
                  <a:pt x="17611" y="5085"/>
                </a:cubicBezTo>
                <a:cubicBezTo>
                  <a:pt x="17611" y="5110"/>
                  <a:pt x="17611" y="5118"/>
                  <a:pt x="17636" y="5110"/>
                </a:cubicBezTo>
                <a:cubicBezTo>
                  <a:pt x="17639" y="5072"/>
                  <a:pt x="17620" y="4885"/>
                  <a:pt x="17636" y="4936"/>
                </a:cubicBezTo>
                <a:cubicBezTo>
                  <a:pt x="17661" y="5015"/>
                  <a:pt x="17650" y="5080"/>
                  <a:pt x="17661" y="5159"/>
                </a:cubicBezTo>
                <a:cubicBezTo>
                  <a:pt x="17598" y="5148"/>
                  <a:pt x="17544" y="5150"/>
                  <a:pt x="17487" y="5135"/>
                </a:cubicBezTo>
                <a:cubicBezTo>
                  <a:pt x="17471" y="5127"/>
                  <a:pt x="17454" y="5118"/>
                  <a:pt x="17438" y="5110"/>
                </a:cubicBezTo>
              </a:path>
              <a:path w="13643" h="5037">
                <a:moveTo>
                  <a:pt x="6251" y="9103"/>
                </a:moveTo>
                <a:cubicBezTo>
                  <a:pt x="6332" y="9127"/>
                  <a:pt x="6392" y="9143"/>
                  <a:pt x="6474" y="9178"/>
                </a:cubicBezTo>
                <a:cubicBezTo>
                  <a:pt x="6608" y="9235"/>
                  <a:pt x="6716" y="9291"/>
                  <a:pt x="6871" y="9277"/>
                </a:cubicBezTo>
                <a:cubicBezTo>
                  <a:pt x="6989" y="9266"/>
                  <a:pt x="7103" y="9222"/>
                  <a:pt x="7218" y="9203"/>
                </a:cubicBezTo>
                <a:cubicBezTo>
                  <a:pt x="7357" y="9180"/>
                  <a:pt x="7499" y="9174"/>
                  <a:pt x="7640" y="9153"/>
                </a:cubicBezTo>
                <a:cubicBezTo>
                  <a:pt x="7822" y="9126"/>
                  <a:pt x="8005" y="9103"/>
                  <a:pt x="8186" y="9079"/>
                </a:cubicBezTo>
                <a:cubicBezTo>
                  <a:pt x="8294" y="9065"/>
                  <a:pt x="8398" y="9056"/>
                  <a:pt x="8508" y="9054"/>
                </a:cubicBezTo>
                <a:cubicBezTo>
                  <a:pt x="8665" y="9052"/>
                  <a:pt x="8801" y="9066"/>
                  <a:pt x="8954" y="9103"/>
                </a:cubicBezTo>
                <a:cubicBezTo>
                  <a:pt x="9020" y="9119"/>
                  <a:pt x="9069" y="9155"/>
                  <a:pt x="9128" y="9178"/>
                </a:cubicBezTo>
                <a:cubicBezTo>
                  <a:pt x="9199" y="9206"/>
                  <a:pt x="9289" y="9230"/>
                  <a:pt x="9351" y="9277"/>
                </a:cubicBezTo>
                <a:cubicBezTo>
                  <a:pt x="9414" y="9325"/>
                  <a:pt x="9457" y="9380"/>
                  <a:pt x="9500" y="9426"/>
                </a:cubicBezTo>
                <a:cubicBezTo>
                  <a:pt x="9638" y="9219"/>
                  <a:pt x="9769" y="9104"/>
                  <a:pt x="10021" y="9079"/>
                </a:cubicBezTo>
                <a:cubicBezTo>
                  <a:pt x="10175" y="9064"/>
                  <a:pt x="10341" y="9107"/>
                  <a:pt x="10492" y="9128"/>
                </a:cubicBezTo>
                <a:cubicBezTo>
                  <a:pt x="10620" y="9146"/>
                  <a:pt x="10759" y="9168"/>
                  <a:pt x="10889" y="9178"/>
                </a:cubicBezTo>
                <a:cubicBezTo>
                  <a:pt x="11155" y="9199"/>
                  <a:pt x="11420" y="9163"/>
                  <a:pt x="11683" y="9203"/>
                </a:cubicBezTo>
                <a:cubicBezTo>
                  <a:pt x="11788" y="9219"/>
                  <a:pt x="11896" y="9235"/>
                  <a:pt x="12005" y="9227"/>
                </a:cubicBezTo>
                <a:cubicBezTo>
                  <a:pt x="12076" y="9222"/>
                  <a:pt x="12158" y="9214"/>
                  <a:pt x="12229" y="9203"/>
                </a:cubicBezTo>
                <a:cubicBezTo>
                  <a:pt x="12284" y="9195"/>
                  <a:pt x="12354" y="9171"/>
                  <a:pt x="12402" y="9153"/>
                </a:cubicBezTo>
                <a:cubicBezTo>
                  <a:pt x="12460" y="9131"/>
                  <a:pt x="12517" y="9106"/>
                  <a:pt x="12576" y="9079"/>
                </a:cubicBezTo>
                <a:cubicBezTo>
                  <a:pt x="12599" y="9069"/>
                  <a:pt x="12603" y="9064"/>
                  <a:pt x="12626" y="9054"/>
                </a:cubicBezTo>
              </a:path>
              <a:path w="13643" h="5037">
                <a:moveTo>
                  <a:pt x="10344" y="7665"/>
                </a:moveTo>
                <a:cubicBezTo>
                  <a:pt x="10440" y="7643"/>
                  <a:pt x="10542" y="7607"/>
                  <a:pt x="10641" y="7590"/>
                </a:cubicBezTo>
                <a:cubicBezTo>
                  <a:pt x="10732" y="7574"/>
                  <a:pt x="10822" y="7576"/>
                  <a:pt x="10914" y="7565"/>
                </a:cubicBezTo>
                <a:cubicBezTo>
                  <a:pt x="10985" y="7557"/>
                  <a:pt x="11061" y="7548"/>
                  <a:pt x="11137" y="7541"/>
                </a:cubicBezTo>
                <a:cubicBezTo>
                  <a:pt x="11253" y="7530"/>
                  <a:pt x="11368" y="7527"/>
                  <a:pt x="11485" y="7516"/>
                </a:cubicBezTo>
                <a:cubicBezTo>
                  <a:pt x="11602" y="7505"/>
                  <a:pt x="11740" y="7487"/>
                  <a:pt x="11857" y="7466"/>
                </a:cubicBezTo>
                <a:cubicBezTo>
                  <a:pt x="11992" y="7441"/>
                  <a:pt x="12120" y="7410"/>
                  <a:pt x="12254" y="7392"/>
                </a:cubicBezTo>
                <a:cubicBezTo>
                  <a:pt x="12388" y="7374"/>
                  <a:pt x="12495" y="7389"/>
                  <a:pt x="12626" y="7392"/>
                </a:cubicBezTo>
                <a:cubicBezTo>
                  <a:pt x="12779" y="7396"/>
                  <a:pt x="12923" y="7403"/>
                  <a:pt x="13072" y="7417"/>
                </a:cubicBezTo>
                <a:cubicBezTo>
                  <a:pt x="13185" y="7427"/>
                  <a:pt x="13304" y="7431"/>
                  <a:pt x="13419" y="7441"/>
                </a:cubicBezTo>
                <a:cubicBezTo>
                  <a:pt x="13561" y="7454"/>
                  <a:pt x="13678" y="7445"/>
                  <a:pt x="13816" y="7441"/>
                </a:cubicBezTo>
                <a:cubicBezTo>
                  <a:pt x="13951" y="7437"/>
                  <a:pt x="14095" y="7451"/>
                  <a:pt x="14213" y="7466"/>
                </a:cubicBezTo>
                <a:cubicBezTo>
                  <a:pt x="14297" y="7476"/>
                  <a:pt x="14378" y="7481"/>
                  <a:pt x="14461" y="7491"/>
                </a:cubicBezTo>
                <a:cubicBezTo>
                  <a:pt x="14557" y="7503"/>
                  <a:pt x="14666" y="7533"/>
                  <a:pt x="14759" y="7541"/>
                </a:cubicBezTo>
                <a:cubicBezTo>
                  <a:pt x="14966" y="7558"/>
                  <a:pt x="15181" y="7511"/>
                  <a:pt x="15379" y="7516"/>
                </a:cubicBezTo>
                <a:cubicBezTo>
                  <a:pt x="15523" y="7520"/>
                  <a:pt x="15681" y="7551"/>
                  <a:pt x="15825" y="7565"/>
                </a:cubicBezTo>
                <a:cubicBezTo>
                  <a:pt x="16000" y="7583"/>
                  <a:pt x="16172" y="7604"/>
                  <a:pt x="16346" y="7640"/>
                </a:cubicBezTo>
                <a:cubicBezTo>
                  <a:pt x="16467" y="7665"/>
                  <a:pt x="16597" y="7706"/>
                  <a:pt x="16718" y="7714"/>
                </a:cubicBezTo>
                <a:cubicBezTo>
                  <a:pt x="16952" y="7730"/>
                  <a:pt x="17182" y="7698"/>
                  <a:pt x="17413" y="7689"/>
                </a:cubicBezTo>
                <a:cubicBezTo>
                  <a:pt x="17612" y="7681"/>
                  <a:pt x="17811" y="7699"/>
                  <a:pt x="18008" y="7714"/>
                </a:cubicBezTo>
                <a:cubicBezTo>
                  <a:pt x="18207" y="7729"/>
                  <a:pt x="18406" y="7755"/>
                  <a:pt x="18604" y="7764"/>
                </a:cubicBezTo>
                <a:cubicBezTo>
                  <a:pt x="18771" y="7772"/>
                  <a:pt x="18934" y="7774"/>
                  <a:pt x="19100" y="7789"/>
                </a:cubicBezTo>
                <a:cubicBezTo>
                  <a:pt x="19232" y="7801"/>
                  <a:pt x="19363" y="7808"/>
                  <a:pt x="19496" y="7813"/>
                </a:cubicBezTo>
                <a:cubicBezTo>
                  <a:pt x="19559" y="7815"/>
                  <a:pt x="19623" y="7811"/>
                  <a:pt x="19695" y="7813"/>
                </a:cubicBezTo>
                <a:cubicBezTo>
                  <a:pt x="19703" y="7813"/>
                  <a:pt x="19712" y="7813"/>
                  <a:pt x="19720" y="7813"/>
                </a:cubicBezTo>
                <a:cubicBezTo>
                  <a:pt x="19720" y="7937"/>
                  <a:pt x="19720" y="8062"/>
                  <a:pt x="19720" y="8186"/>
                </a:cubicBezTo>
                <a:cubicBezTo>
                  <a:pt x="19698" y="8145"/>
                  <a:pt x="19636" y="8063"/>
                  <a:pt x="19621" y="8037"/>
                </a:cubicBezTo>
                <a:cubicBezTo>
                  <a:pt x="19621" y="8029"/>
                  <a:pt x="19621" y="8020"/>
                  <a:pt x="19621" y="8012"/>
                </a:cubicBezTo>
                <a:cubicBezTo>
                  <a:pt x="19643" y="8036"/>
                  <a:pt x="19622" y="8111"/>
                  <a:pt x="19670" y="8136"/>
                </a:cubicBezTo>
                <a:cubicBezTo>
                  <a:pt x="19714" y="8159"/>
                  <a:pt x="19679" y="8203"/>
                  <a:pt x="19745" y="8186"/>
                </a:cubicBezTo>
                <a:cubicBezTo>
                  <a:pt x="19818" y="8167"/>
                  <a:pt x="19842" y="8087"/>
                  <a:pt x="19893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57200" y="2170080"/>
            <a:ext cx="4759560" cy="187200"/>
          </a:xfrm>
          <a:custGeom>
            <a:avLst/>
            <a:gdLst/>
            <a:ahLst/>
            <a:rect l="l" t="t" r="r" b="b"/>
            <a:pathLst>
              <a:path w="13222" h="521">
                <a:moveTo>
                  <a:pt x="3795" y="6201"/>
                </a:moveTo>
                <a:cubicBezTo>
                  <a:pt x="3826" y="6255"/>
                  <a:pt x="3817" y="6292"/>
                  <a:pt x="3870" y="6325"/>
                </a:cubicBezTo>
                <a:cubicBezTo>
                  <a:pt x="3968" y="6385"/>
                  <a:pt x="4058" y="6371"/>
                  <a:pt x="4167" y="6375"/>
                </a:cubicBezTo>
                <a:cubicBezTo>
                  <a:pt x="4295" y="6379"/>
                  <a:pt x="4414" y="6376"/>
                  <a:pt x="4539" y="6350"/>
                </a:cubicBezTo>
                <a:cubicBezTo>
                  <a:pt x="4656" y="6326"/>
                  <a:pt x="4770" y="6300"/>
                  <a:pt x="4887" y="6276"/>
                </a:cubicBezTo>
                <a:cubicBezTo>
                  <a:pt x="4987" y="6255"/>
                  <a:pt x="5105" y="6214"/>
                  <a:pt x="5209" y="6201"/>
                </a:cubicBezTo>
                <a:cubicBezTo>
                  <a:pt x="5293" y="6191"/>
                  <a:pt x="5374" y="6188"/>
                  <a:pt x="5457" y="6176"/>
                </a:cubicBezTo>
                <a:cubicBezTo>
                  <a:pt x="5539" y="6164"/>
                  <a:pt x="5622" y="6163"/>
                  <a:pt x="5705" y="6152"/>
                </a:cubicBezTo>
                <a:cubicBezTo>
                  <a:pt x="5830" y="6135"/>
                  <a:pt x="5927" y="6148"/>
                  <a:pt x="6052" y="6152"/>
                </a:cubicBezTo>
                <a:cubicBezTo>
                  <a:pt x="6268" y="6160"/>
                  <a:pt x="6489" y="6137"/>
                  <a:pt x="6697" y="6176"/>
                </a:cubicBezTo>
                <a:cubicBezTo>
                  <a:pt x="6789" y="6193"/>
                  <a:pt x="6873" y="6218"/>
                  <a:pt x="6970" y="6251"/>
                </a:cubicBezTo>
                <a:cubicBezTo>
                  <a:pt x="7015" y="6266"/>
                  <a:pt x="7078" y="6303"/>
                  <a:pt x="7119" y="6325"/>
                </a:cubicBezTo>
                <a:cubicBezTo>
                  <a:pt x="7127" y="6333"/>
                  <a:pt x="7136" y="6342"/>
                  <a:pt x="7144" y="6350"/>
                </a:cubicBezTo>
                <a:cubicBezTo>
                  <a:pt x="7189" y="6305"/>
                  <a:pt x="7208" y="6250"/>
                  <a:pt x="7268" y="6226"/>
                </a:cubicBezTo>
                <a:cubicBezTo>
                  <a:pt x="7374" y="6185"/>
                  <a:pt x="7437" y="6222"/>
                  <a:pt x="7541" y="6226"/>
                </a:cubicBezTo>
                <a:cubicBezTo>
                  <a:pt x="7680" y="6232"/>
                  <a:pt x="7803" y="6231"/>
                  <a:pt x="7938" y="6251"/>
                </a:cubicBezTo>
                <a:cubicBezTo>
                  <a:pt x="8071" y="6270"/>
                  <a:pt x="8199" y="6273"/>
                  <a:pt x="8334" y="6276"/>
                </a:cubicBezTo>
                <a:cubicBezTo>
                  <a:pt x="8454" y="6279"/>
                  <a:pt x="8561" y="6298"/>
                  <a:pt x="8682" y="6300"/>
                </a:cubicBezTo>
                <a:cubicBezTo>
                  <a:pt x="8780" y="6302"/>
                  <a:pt x="8858" y="6320"/>
                  <a:pt x="8954" y="6325"/>
                </a:cubicBezTo>
                <a:cubicBezTo>
                  <a:pt x="9074" y="6331"/>
                  <a:pt x="9192" y="6325"/>
                  <a:pt x="9302" y="6325"/>
                </a:cubicBezTo>
                <a:cubicBezTo>
                  <a:pt x="9439" y="6325"/>
                  <a:pt x="9541" y="6288"/>
                  <a:pt x="9674" y="6251"/>
                </a:cubicBezTo>
                <a:cubicBezTo>
                  <a:pt x="9740" y="6233"/>
                  <a:pt x="9807" y="6239"/>
                  <a:pt x="9872" y="6226"/>
                </a:cubicBezTo>
                <a:cubicBezTo>
                  <a:pt x="9906" y="6219"/>
                  <a:pt x="9954" y="6209"/>
                  <a:pt x="9996" y="6201"/>
                </a:cubicBezTo>
                <a:cubicBezTo>
                  <a:pt x="10043" y="6192"/>
                  <a:pt x="10131" y="6188"/>
                  <a:pt x="10170" y="6152"/>
                </a:cubicBezTo>
                <a:cubicBezTo>
                  <a:pt x="10202" y="6123"/>
                  <a:pt x="10201" y="6058"/>
                  <a:pt x="10220" y="6028"/>
                </a:cubicBezTo>
              </a:path>
              <a:path w="13222" h="521">
                <a:moveTo>
                  <a:pt x="10939" y="6325"/>
                </a:moveTo>
                <a:cubicBezTo>
                  <a:pt x="10980" y="6350"/>
                  <a:pt x="11066" y="6432"/>
                  <a:pt x="11112" y="6449"/>
                </a:cubicBezTo>
                <a:cubicBezTo>
                  <a:pt x="11213" y="6487"/>
                  <a:pt x="11247" y="6459"/>
                  <a:pt x="11336" y="6449"/>
                </a:cubicBezTo>
                <a:cubicBezTo>
                  <a:pt x="11477" y="6433"/>
                  <a:pt x="11614" y="6387"/>
                  <a:pt x="11757" y="6375"/>
                </a:cubicBezTo>
                <a:cubicBezTo>
                  <a:pt x="11832" y="6369"/>
                  <a:pt x="11943" y="6354"/>
                  <a:pt x="12005" y="6350"/>
                </a:cubicBezTo>
                <a:cubicBezTo>
                  <a:pt x="12108" y="6343"/>
                  <a:pt x="12199" y="6327"/>
                  <a:pt x="12303" y="6325"/>
                </a:cubicBezTo>
                <a:cubicBezTo>
                  <a:pt x="12382" y="6323"/>
                  <a:pt x="12449" y="6305"/>
                  <a:pt x="12526" y="6300"/>
                </a:cubicBezTo>
                <a:cubicBezTo>
                  <a:pt x="12632" y="6293"/>
                  <a:pt x="12734" y="6307"/>
                  <a:pt x="12824" y="6325"/>
                </a:cubicBezTo>
                <a:cubicBezTo>
                  <a:pt x="12914" y="6343"/>
                  <a:pt x="13007" y="6370"/>
                  <a:pt x="13097" y="6400"/>
                </a:cubicBezTo>
                <a:cubicBezTo>
                  <a:pt x="13189" y="6431"/>
                  <a:pt x="13260" y="6485"/>
                  <a:pt x="13345" y="6524"/>
                </a:cubicBezTo>
                <a:cubicBezTo>
                  <a:pt x="13367" y="6534"/>
                  <a:pt x="13396" y="6538"/>
                  <a:pt x="13419" y="6548"/>
                </a:cubicBezTo>
                <a:cubicBezTo>
                  <a:pt x="13495" y="6467"/>
                  <a:pt x="13474" y="6441"/>
                  <a:pt x="13593" y="6400"/>
                </a:cubicBezTo>
                <a:cubicBezTo>
                  <a:pt x="13698" y="6364"/>
                  <a:pt x="13831" y="6334"/>
                  <a:pt x="13940" y="6325"/>
                </a:cubicBezTo>
                <a:cubicBezTo>
                  <a:pt x="14029" y="6317"/>
                  <a:pt x="14128" y="6305"/>
                  <a:pt x="14213" y="6300"/>
                </a:cubicBezTo>
                <a:cubicBezTo>
                  <a:pt x="14413" y="6289"/>
                  <a:pt x="14614" y="6316"/>
                  <a:pt x="14808" y="6325"/>
                </a:cubicBezTo>
                <a:cubicBezTo>
                  <a:pt x="14974" y="6333"/>
                  <a:pt x="15140" y="6323"/>
                  <a:pt x="15304" y="6350"/>
                </a:cubicBezTo>
                <a:cubicBezTo>
                  <a:pt x="15424" y="6370"/>
                  <a:pt x="15529" y="6373"/>
                  <a:pt x="15652" y="6375"/>
                </a:cubicBezTo>
                <a:cubicBezTo>
                  <a:pt x="15735" y="6377"/>
                  <a:pt x="15833" y="6395"/>
                  <a:pt x="15900" y="6400"/>
                </a:cubicBezTo>
                <a:cubicBezTo>
                  <a:pt x="16151" y="6417"/>
                  <a:pt x="16455" y="6428"/>
                  <a:pt x="16694" y="6375"/>
                </a:cubicBezTo>
                <a:cubicBezTo>
                  <a:pt x="16741" y="6364"/>
                  <a:pt x="16799" y="6352"/>
                  <a:pt x="16842" y="6325"/>
                </a:cubicBezTo>
                <a:cubicBezTo>
                  <a:pt x="16896" y="6291"/>
                  <a:pt x="16957" y="6210"/>
                  <a:pt x="16991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3840" y="2490840"/>
            <a:ext cx="63360" cy="9360"/>
          </a:xfrm>
          <a:custGeom>
            <a:avLst/>
            <a:gdLst/>
            <a:ahLst/>
            <a:rect l="l" t="t" r="r" b="b"/>
            <a:pathLst>
              <a:path w="175" h="25">
                <a:moveTo>
                  <a:pt x="13345" y="6945"/>
                </a:moveTo>
                <a:cubicBezTo>
                  <a:pt x="13437" y="6945"/>
                  <a:pt x="13464" y="6947"/>
                  <a:pt x="13519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1760" y="2411280"/>
            <a:ext cx="1133280" cy="214560"/>
          </a:xfrm>
          <a:custGeom>
            <a:avLst/>
            <a:gdLst/>
            <a:ahLst/>
            <a:rect l="l" t="t" r="r" b="b"/>
            <a:pathLst>
              <a:path w="3151" h="597">
                <a:moveTo>
                  <a:pt x="7987" y="6796"/>
                </a:moveTo>
                <a:cubicBezTo>
                  <a:pt x="8023" y="6834"/>
                  <a:pt x="7917" y="6735"/>
                  <a:pt x="7838" y="6747"/>
                </a:cubicBezTo>
                <a:cubicBezTo>
                  <a:pt x="7730" y="6764"/>
                  <a:pt x="7651" y="6845"/>
                  <a:pt x="7615" y="6945"/>
                </a:cubicBezTo>
                <a:cubicBezTo>
                  <a:pt x="7615" y="6953"/>
                  <a:pt x="7615" y="6962"/>
                  <a:pt x="7615" y="6970"/>
                </a:cubicBezTo>
                <a:cubicBezTo>
                  <a:pt x="7663" y="7043"/>
                  <a:pt x="7778" y="6988"/>
                  <a:pt x="7863" y="6995"/>
                </a:cubicBezTo>
                <a:cubicBezTo>
                  <a:pt x="7989" y="7005"/>
                  <a:pt x="8011" y="7051"/>
                  <a:pt x="8062" y="7144"/>
                </a:cubicBezTo>
                <a:cubicBezTo>
                  <a:pt x="7967" y="7225"/>
                  <a:pt x="7847" y="7298"/>
                  <a:pt x="7714" y="7293"/>
                </a:cubicBezTo>
                <a:cubicBezTo>
                  <a:pt x="7666" y="7269"/>
                  <a:pt x="7650" y="7262"/>
                  <a:pt x="7665" y="7218"/>
                </a:cubicBezTo>
              </a:path>
              <a:path w="3151" h="597">
                <a:moveTo>
                  <a:pt x="8136" y="6796"/>
                </a:moveTo>
                <a:cubicBezTo>
                  <a:pt x="8214" y="6891"/>
                  <a:pt x="8279" y="6999"/>
                  <a:pt x="8359" y="7094"/>
                </a:cubicBezTo>
                <a:cubicBezTo>
                  <a:pt x="8398" y="7140"/>
                  <a:pt x="8421" y="7143"/>
                  <a:pt x="8434" y="7193"/>
                </a:cubicBezTo>
              </a:path>
              <a:path w="3151" h="597">
                <a:moveTo>
                  <a:pt x="8483" y="6772"/>
                </a:moveTo>
                <a:cubicBezTo>
                  <a:pt x="8418" y="6876"/>
                  <a:pt x="8368" y="7024"/>
                  <a:pt x="8285" y="7119"/>
                </a:cubicBezTo>
                <a:cubicBezTo>
                  <a:pt x="8260" y="7119"/>
                  <a:pt x="8252" y="7119"/>
                  <a:pt x="8260" y="7144"/>
                </a:cubicBezTo>
              </a:path>
              <a:path w="3151" h="597">
                <a:moveTo>
                  <a:pt x="8855" y="6697"/>
                </a:moveTo>
                <a:cubicBezTo>
                  <a:pt x="8830" y="6697"/>
                  <a:pt x="8806" y="6697"/>
                  <a:pt x="8781" y="6697"/>
                </a:cubicBezTo>
                <a:cubicBezTo>
                  <a:pt x="8781" y="6761"/>
                  <a:pt x="8769" y="6811"/>
                  <a:pt x="8756" y="6871"/>
                </a:cubicBezTo>
                <a:cubicBezTo>
                  <a:pt x="8756" y="6879"/>
                  <a:pt x="8756" y="6888"/>
                  <a:pt x="8756" y="6896"/>
                </a:cubicBezTo>
                <a:cubicBezTo>
                  <a:pt x="8822" y="6896"/>
                  <a:pt x="8875" y="6857"/>
                  <a:pt x="8930" y="6896"/>
                </a:cubicBezTo>
                <a:cubicBezTo>
                  <a:pt x="9016" y="6957"/>
                  <a:pt x="8989" y="7090"/>
                  <a:pt x="8905" y="7144"/>
                </a:cubicBezTo>
                <a:cubicBezTo>
                  <a:pt x="8838" y="7187"/>
                  <a:pt x="8745" y="7206"/>
                  <a:pt x="8682" y="7169"/>
                </a:cubicBezTo>
              </a:path>
              <a:path w="3151" h="597">
                <a:moveTo>
                  <a:pt x="8905" y="6772"/>
                </a:moveTo>
                <a:cubicBezTo>
                  <a:pt x="8905" y="6744"/>
                  <a:pt x="8903" y="6733"/>
                  <a:pt x="8880" y="6722"/>
                </a:cubicBezTo>
                <a:cubicBezTo>
                  <a:pt x="8955" y="6714"/>
                  <a:pt x="9026" y="6697"/>
                  <a:pt x="9103" y="6697"/>
                </a:cubicBezTo>
              </a:path>
              <a:path w="3151" h="597">
                <a:moveTo>
                  <a:pt x="9426" y="6896"/>
                </a:moveTo>
                <a:cubicBezTo>
                  <a:pt x="9494" y="6882"/>
                  <a:pt x="9557" y="6840"/>
                  <a:pt x="9624" y="6821"/>
                </a:cubicBezTo>
                <a:cubicBezTo>
                  <a:pt x="9649" y="6821"/>
                  <a:pt x="9657" y="6821"/>
                  <a:pt x="9649" y="6846"/>
                </a:cubicBezTo>
              </a:path>
              <a:path w="3151" h="597">
                <a:moveTo>
                  <a:pt x="9376" y="7069"/>
                </a:moveTo>
                <a:cubicBezTo>
                  <a:pt x="9456" y="7029"/>
                  <a:pt x="9534" y="6970"/>
                  <a:pt x="9624" y="6970"/>
                </a:cubicBezTo>
              </a:path>
              <a:path w="3151" h="597">
                <a:moveTo>
                  <a:pt x="9897" y="6747"/>
                </a:moveTo>
                <a:cubicBezTo>
                  <a:pt x="10034" y="6727"/>
                  <a:pt x="10072" y="6715"/>
                  <a:pt x="10195" y="6772"/>
                </a:cubicBezTo>
                <a:cubicBezTo>
                  <a:pt x="10139" y="6903"/>
                  <a:pt x="9823" y="7170"/>
                  <a:pt x="9823" y="7193"/>
                </a:cubicBezTo>
                <a:cubicBezTo>
                  <a:pt x="9917" y="7152"/>
                  <a:pt x="10015" y="7119"/>
                  <a:pt x="10120" y="7144"/>
                </a:cubicBezTo>
                <a:cubicBezTo>
                  <a:pt x="10233" y="7171"/>
                  <a:pt x="10184" y="7194"/>
                  <a:pt x="10294" y="7094"/>
                </a:cubicBezTo>
              </a:path>
              <a:path w="3151" h="597">
                <a:moveTo>
                  <a:pt x="10542" y="6747"/>
                </a:moveTo>
                <a:cubicBezTo>
                  <a:pt x="10460" y="6809"/>
                  <a:pt x="10401" y="6880"/>
                  <a:pt x="10418" y="6995"/>
                </a:cubicBezTo>
                <a:cubicBezTo>
                  <a:pt x="10434" y="7104"/>
                  <a:pt x="10502" y="7180"/>
                  <a:pt x="10616" y="7169"/>
                </a:cubicBezTo>
                <a:cubicBezTo>
                  <a:pt x="10712" y="7160"/>
                  <a:pt x="10753" y="7092"/>
                  <a:pt x="10765" y="6995"/>
                </a:cubicBezTo>
                <a:cubicBezTo>
                  <a:pt x="10773" y="6929"/>
                  <a:pt x="10733" y="6841"/>
                  <a:pt x="10666" y="6821"/>
                </a:cubicBezTo>
                <a:cubicBezTo>
                  <a:pt x="10606" y="6803"/>
                  <a:pt x="10613" y="6817"/>
                  <a:pt x="10567" y="67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411280"/>
            <a:ext cx="857160" cy="177840"/>
          </a:xfrm>
          <a:custGeom>
            <a:avLst/>
            <a:gdLst/>
            <a:ahLst/>
            <a:rect l="l" t="t" r="r" b="b"/>
            <a:pathLst>
              <a:path w="2382" h="497">
                <a:moveTo>
                  <a:pt x="12353" y="6846"/>
                </a:moveTo>
                <a:cubicBezTo>
                  <a:pt x="12361" y="6846"/>
                  <a:pt x="12370" y="6846"/>
                  <a:pt x="12378" y="6846"/>
                </a:cubicBezTo>
                <a:cubicBezTo>
                  <a:pt x="12363" y="6787"/>
                  <a:pt x="12298" y="6749"/>
                  <a:pt x="12229" y="6772"/>
                </a:cubicBezTo>
                <a:cubicBezTo>
                  <a:pt x="12159" y="6817"/>
                  <a:pt x="12139" y="6829"/>
                  <a:pt x="12105" y="6871"/>
                </a:cubicBezTo>
                <a:cubicBezTo>
                  <a:pt x="12126" y="6957"/>
                  <a:pt x="12275" y="6927"/>
                  <a:pt x="12353" y="6945"/>
                </a:cubicBezTo>
                <a:cubicBezTo>
                  <a:pt x="12441" y="6966"/>
                  <a:pt x="12477" y="7077"/>
                  <a:pt x="12378" y="7119"/>
                </a:cubicBezTo>
                <a:cubicBezTo>
                  <a:pt x="12288" y="7157"/>
                  <a:pt x="12237" y="7147"/>
                  <a:pt x="12154" y="7119"/>
                </a:cubicBezTo>
              </a:path>
              <a:path w="2382" h="497">
                <a:moveTo>
                  <a:pt x="12626" y="6921"/>
                </a:moveTo>
                <a:cubicBezTo>
                  <a:pt x="12596" y="6950"/>
                  <a:pt x="12584" y="6964"/>
                  <a:pt x="12576" y="6995"/>
                </a:cubicBezTo>
                <a:cubicBezTo>
                  <a:pt x="12595" y="6995"/>
                  <a:pt x="12703" y="6989"/>
                  <a:pt x="12650" y="6945"/>
                </a:cubicBezTo>
                <a:cubicBezTo>
                  <a:pt x="12626" y="6945"/>
                  <a:pt x="12617" y="6945"/>
                  <a:pt x="12601" y="6945"/>
                </a:cubicBezTo>
              </a:path>
              <a:path w="2382" h="497">
                <a:moveTo>
                  <a:pt x="13097" y="6697"/>
                </a:moveTo>
                <a:cubicBezTo>
                  <a:pt x="13002" y="6697"/>
                  <a:pt x="12947" y="6665"/>
                  <a:pt x="12923" y="6747"/>
                </a:cubicBezTo>
                <a:cubicBezTo>
                  <a:pt x="12905" y="6808"/>
                  <a:pt x="12898" y="6817"/>
                  <a:pt x="12898" y="6871"/>
                </a:cubicBezTo>
                <a:cubicBezTo>
                  <a:pt x="12971" y="6871"/>
                  <a:pt x="13084" y="6851"/>
                  <a:pt x="13146" y="6896"/>
                </a:cubicBezTo>
                <a:cubicBezTo>
                  <a:pt x="13321" y="7022"/>
                  <a:pt x="13051" y="7105"/>
                  <a:pt x="12973" y="7119"/>
                </a:cubicBezTo>
                <a:cubicBezTo>
                  <a:pt x="12928" y="7119"/>
                  <a:pt x="12915" y="7122"/>
                  <a:pt x="12898" y="7094"/>
                </a:cubicBezTo>
              </a:path>
              <a:path w="2382" h="497">
                <a:moveTo>
                  <a:pt x="13295" y="6821"/>
                </a:moveTo>
                <a:cubicBezTo>
                  <a:pt x="13365" y="6821"/>
                  <a:pt x="13420" y="6801"/>
                  <a:pt x="13469" y="6821"/>
                </a:cubicBezTo>
              </a:path>
              <a:path w="2382" h="497">
                <a:moveTo>
                  <a:pt x="13742" y="6796"/>
                </a:moveTo>
                <a:cubicBezTo>
                  <a:pt x="13834" y="6808"/>
                  <a:pt x="14107" y="6856"/>
                  <a:pt x="13990" y="7020"/>
                </a:cubicBezTo>
                <a:cubicBezTo>
                  <a:pt x="13916" y="7124"/>
                  <a:pt x="13713" y="7147"/>
                  <a:pt x="13643" y="7094"/>
                </a:cubicBezTo>
                <a:cubicBezTo>
                  <a:pt x="13756" y="7052"/>
                  <a:pt x="13856" y="7005"/>
                  <a:pt x="13965" y="7094"/>
                </a:cubicBezTo>
                <a:cubicBezTo>
                  <a:pt x="13982" y="7111"/>
                  <a:pt x="13998" y="7127"/>
                  <a:pt x="14015" y="7144"/>
                </a:cubicBezTo>
              </a:path>
              <a:path w="2382" h="497">
                <a:moveTo>
                  <a:pt x="14288" y="6871"/>
                </a:moveTo>
                <a:cubicBezTo>
                  <a:pt x="14232" y="6904"/>
                  <a:pt x="14139" y="7033"/>
                  <a:pt x="14188" y="7119"/>
                </a:cubicBezTo>
                <a:cubicBezTo>
                  <a:pt x="14267" y="7260"/>
                  <a:pt x="14445" y="7184"/>
                  <a:pt x="14486" y="7069"/>
                </a:cubicBezTo>
                <a:cubicBezTo>
                  <a:pt x="14523" y="6966"/>
                  <a:pt x="14416" y="6899"/>
                  <a:pt x="14337" y="6871"/>
                </a:cubicBezTo>
                <a:cubicBezTo>
                  <a:pt x="14329" y="6871"/>
                  <a:pt x="14320" y="6871"/>
                  <a:pt x="1431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80080" y="2401920"/>
            <a:ext cx="776160" cy="223920"/>
          </a:xfrm>
          <a:custGeom>
            <a:avLst/>
            <a:gdLst/>
            <a:ahLst/>
            <a:rect l="l" t="t" r="r" b="b"/>
            <a:pathLst>
              <a:path w="2159" h="622">
                <a:moveTo>
                  <a:pt x="16073" y="6672"/>
                </a:moveTo>
                <a:cubicBezTo>
                  <a:pt x="16130" y="6672"/>
                  <a:pt x="15975" y="6695"/>
                  <a:pt x="15949" y="6697"/>
                </a:cubicBezTo>
                <a:cubicBezTo>
                  <a:pt x="15900" y="6700"/>
                  <a:pt x="15870" y="6681"/>
                  <a:pt x="15825" y="6672"/>
                </a:cubicBezTo>
                <a:cubicBezTo>
                  <a:pt x="15825" y="6733"/>
                  <a:pt x="15804" y="6785"/>
                  <a:pt x="15801" y="6846"/>
                </a:cubicBezTo>
                <a:cubicBezTo>
                  <a:pt x="15799" y="6887"/>
                  <a:pt x="15801" y="6929"/>
                  <a:pt x="15801" y="6970"/>
                </a:cubicBezTo>
                <a:cubicBezTo>
                  <a:pt x="15829" y="6960"/>
                  <a:pt x="15858" y="6929"/>
                  <a:pt x="15900" y="6921"/>
                </a:cubicBezTo>
                <a:cubicBezTo>
                  <a:pt x="15952" y="6911"/>
                  <a:pt x="16037" y="6931"/>
                  <a:pt x="16073" y="6970"/>
                </a:cubicBezTo>
                <a:cubicBezTo>
                  <a:pt x="16109" y="7009"/>
                  <a:pt x="16098" y="7071"/>
                  <a:pt x="16098" y="7119"/>
                </a:cubicBezTo>
                <a:cubicBezTo>
                  <a:pt x="16098" y="7199"/>
                  <a:pt x="15934" y="7210"/>
                  <a:pt x="15875" y="7218"/>
                </a:cubicBezTo>
                <a:cubicBezTo>
                  <a:pt x="15807" y="7227"/>
                  <a:pt x="15776" y="7207"/>
                  <a:pt x="15776" y="7144"/>
                </a:cubicBezTo>
              </a:path>
              <a:path w="2159" h="622">
                <a:moveTo>
                  <a:pt x="16421" y="6921"/>
                </a:moveTo>
                <a:cubicBezTo>
                  <a:pt x="16421" y="6896"/>
                  <a:pt x="16421" y="6888"/>
                  <a:pt x="16421" y="6871"/>
                </a:cubicBezTo>
                <a:cubicBezTo>
                  <a:pt x="16372" y="6871"/>
                  <a:pt x="16314" y="6832"/>
                  <a:pt x="16272" y="6846"/>
                </a:cubicBezTo>
                <a:cubicBezTo>
                  <a:pt x="16219" y="6864"/>
                  <a:pt x="16202" y="6889"/>
                  <a:pt x="16197" y="6945"/>
                </a:cubicBezTo>
                <a:cubicBezTo>
                  <a:pt x="16193" y="6991"/>
                  <a:pt x="16198" y="7015"/>
                  <a:pt x="16247" y="7020"/>
                </a:cubicBezTo>
                <a:cubicBezTo>
                  <a:pt x="16315" y="7028"/>
                  <a:pt x="16312" y="7040"/>
                  <a:pt x="16371" y="7045"/>
                </a:cubicBezTo>
                <a:cubicBezTo>
                  <a:pt x="16420" y="7049"/>
                  <a:pt x="16434" y="7097"/>
                  <a:pt x="16446" y="7144"/>
                </a:cubicBezTo>
                <a:cubicBezTo>
                  <a:pt x="16462" y="7208"/>
                  <a:pt x="16442" y="7223"/>
                  <a:pt x="16396" y="7243"/>
                </a:cubicBezTo>
                <a:cubicBezTo>
                  <a:pt x="16303" y="7283"/>
                  <a:pt x="16313" y="7291"/>
                  <a:pt x="16222" y="7268"/>
                </a:cubicBezTo>
                <a:cubicBezTo>
                  <a:pt x="16190" y="7260"/>
                  <a:pt x="16183" y="7248"/>
                  <a:pt x="16173" y="7218"/>
                </a:cubicBezTo>
              </a:path>
              <a:path w="2159" h="622">
                <a:moveTo>
                  <a:pt x="16743" y="6995"/>
                </a:moveTo>
                <a:cubicBezTo>
                  <a:pt x="16809" y="6995"/>
                  <a:pt x="16876" y="6995"/>
                  <a:pt x="16942" y="6995"/>
                </a:cubicBezTo>
              </a:path>
              <a:path w="2159" h="622">
                <a:moveTo>
                  <a:pt x="16768" y="7119"/>
                </a:moveTo>
                <a:cubicBezTo>
                  <a:pt x="16821" y="7119"/>
                  <a:pt x="16902" y="7099"/>
                  <a:pt x="16917" y="7144"/>
                </a:cubicBezTo>
              </a:path>
              <a:path w="2159" h="622">
                <a:moveTo>
                  <a:pt x="17190" y="6846"/>
                </a:moveTo>
                <a:cubicBezTo>
                  <a:pt x="17259" y="6776"/>
                  <a:pt x="17266" y="6772"/>
                  <a:pt x="17363" y="6772"/>
                </a:cubicBezTo>
                <a:cubicBezTo>
                  <a:pt x="17363" y="6925"/>
                  <a:pt x="17344" y="6981"/>
                  <a:pt x="17239" y="7094"/>
                </a:cubicBezTo>
                <a:cubicBezTo>
                  <a:pt x="17190" y="7146"/>
                  <a:pt x="17139" y="7183"/>
                  <a:pt x="17115" y="7243"/>
                </a:cubicBezTo>
                <a:cubicBezTo>
                  <a:pt x="17180" y="7221"/>
                  <a:pt x="17216" y="7193"/>
                  <a:pt x="17289" y="7193"/>
                </a:cubicBezTo>
                <a:cubicBezTo>
                  <a:pt x="17348" y="7193"/>
                  <a:pt x="17349" y="7204"/>
                  <a:pt x="17388" y="7243"/>
                </a:cubicBezTo>
              </a:path>
              <a:path w="2159" h="622">
                <a:moveTo>
                  <a:pt x="17711" y="6846"/>
                </a:moveTo>
                <a:cubicBezTo>
                  <a:pt x="17641" y="6906"/>
                  <a:pt x="17598" y="6989"/>
                  <a:pt x="17611" y="7094"/>
                </a:cubicBezTo>
                <a:cubicBezTo>
                  <a:pt x="17633" y="7183"/>
                  <a:pt x="17634" y="7208"/>
                  <a:pt x="17686" y="7243"/>
                </a:cubicBezTo>
                <a:cubicBezTo>
                  <a:pt x="17781" y="7228"/>
                  <a:pt x="17934" y="7204"/>
                  <a:pt x="17934" y="7069"/>
                </a:cubicBezTo>
                <a:cubicBezTo>
                  <a:pt x="17934" y="6993"/>
                  <a:pt x="17841" y="6888"/>
                  <a:pt x="17785" y="6846"/>
                </a:cubicBezTo>
                <a:cubicBezTo>
                  <a:pt x="17745" y="6826"/>
                  <a:pt x="17738" y="6817"/>
                  <a:pt x="17711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22920" y="2820960"/>
            <a:ext cx="2463840" cy="528840"/>
          </a:xfrm>
          <a:custGeom>
            <a:avLst/>
            <a:gdLst/>
            <a:ahLst/>
            <a:rect l="l" t="t" r="r" b="b"/>
            <a:pathLst>
              <a:path w="6847" h="1465">
                <a:moveTo>
                  <a:pt x="13395" y="9029"/>
                </a:moveTo>
                <a:cubicBezTo>
                  <a:pt x="13424" y="9090"/>
                  <a:pt x="13409" y="9148"/>
                  <a:pt x="13469" y="9203"/>
                </a:cubicBezTo>
                <a:cubicBezTo>
                  <a:pt x="13573" y="9300"/>
                  <a:pt x="13740" y="9277"/>
                  <a:pt x="13866" y="9277"/>
                </a:cubicBezTo>
                <a:cubicBezTo>
                  <a:pt x="14023" y="9277"/>
                  <a:pt x="14185" y="9259"/>
                  <a:pt x="14337" y="9227"/>
                </a:cubicBezTo>
                <a:cubicBezTo>
                  <a:pt x="14454" y="9202"/>
                  <a:pt x="14570" y="9181"/>
                  <a:pt x="14684" y="9153"/>
                </a:cubicBezTo>
                <a:cubicBezTo>
                  <a:pt x="14810" y="9122"/>
                  <a:pt x="14929" y="9146"/>
                  <a:pt x="15056" y="9128"/>
                </a:cubicBezTo>
                <a:cubicBezTo>
                  <a:pt x="15191" y="9109"/>
                  <a:pt x="15315" y="9103"/>
                  <a:pt x="15453" y="9103"/>
                </a:cubicBezTo>
                <a:cubicBezTo>
                  <a:pt x="15604" y="9103"/>
                  <a:pt x="15724" y="9077"/>
                  <a:pt x="15875" y="9103"/>
                </a:cubicBezTo>
                <a:cubicBezTo>
                  <a:pt x="15991" y="9123"/>
                  <a:pt x="16105" y="9127"/>
                  <a:pt x="16222" y="9153"/>
                </a:cubicBezTo>
                <a:cubicBezTo>
                  <a:pt x="16322" y="9175"/>
                  <a:pt x="16431" y="9205"/>
                  <a:pt x="16495" y="9252"/>
                </a:cubicBezTo>
                <a:cubicBezTo>
                  <a:pt x="16513" y="9265"/>
                  <a:pt x="16533" y="9291"/>
                  <a:pt x="16545" y="9302"/>
                </a:cubicBezTo>
                <a:cubicBezTo>
                  <a:pt x="16632" y="9227"/>
                  <a:pt x="16695" y="9170"/>
                  <a:pt x="16818" y="9153"/>
                </a:cubicBezTo>
                <a:cubicBezTo>
                  <a:pt x="16965" y="9133"/>
                  <a:pt x="17114" y="9128"/>
                  <a:pt x="17264" y="9128"/>
                </a:cubicBezTo>
                <a:cubicBezTo>
                  <a:pt x="17394" y="9128"/>
                  <a:pt x="17532" y="9139"/>
                  <a:pt x="17661" y="9153"/>
                </a:cubicBezTo>
                <a:cubicBezTo>
                  <a:pt x="17777" y="9166"/>
                  <a:pt x="17891" y="9195"/>
                  <a:pt x="18008" y="9203"/>
                </a:cubicBezTo>
                <a:cubicBezTo>
                  <a:pt x="18102" y="9210"/>
                  <a:pt x="18123" y="9183"/>
                  <a:pt x="18207" y="9153"/>
                </a:cubicBezTo>
                <a:cubicBezTo>
                  <a:pt x="18250" y="9138"/>
                  <a:pt x="18293" y="9128"/>
                  <a:pt x="18331" y="9103"/>
                </a:cubicBezTo>
                <a:cubicBezTo>
                  <a:pt x="18331" y="9079"/>
                  <a:pt x="18331" y="9071"/>
                  <a:pt x="18355" y="9079"/>
                </a:cubicBezTo>
              </a:path>
              <a:path w="6847" h="1465">
                <a:moveTo>
                  <a:pt x="15230" y="7938"/>
                </a:moveTo>
                <a:cubicBezTo>
                  <a:pt x="15190" y="7925"/>
                  <a:pt x="15205" y="7904"/>
                  <a:pt x="15205" y="7962"/>
                </a:cubicBezTo>
                <a:cubicBezTo>
                  <a:pt x="15205" y="8044"/>
                  <a:pt x="15219" y="8106"/>
                  <a:pt x="15230" y="8186"/>
                </a:cubicBezTo>
                <a:cubicBezTo>
                  <a:pt x="15214" y="8122"/>
                  <a:pt x="15218" y="8058"/>
                  <a:pt x="15205" y="7987"/>
                </a:cubicBezTo>
                <a:cubicBezTo>
                  <a:pt x="15183" y="7922"/>
                  <a:pt x="15175" y="7907"/>
                  <a:pt x="15180" y="7863"/>
                </a:cubicBezTo>
                <a:cubicBezTo>
                  <a:pt x="15225" y="7852"/>
                  <a:pt x="15326" y="7972"/>
                  <a:pt x="15379" y="8037"/>
                </a:cubicBezTo>
                <a:cubicBezTo>
                  <a:pt x="15422" y="8089"/>
                  <a:pt x="15455" y="8138"/>
                  <a:pt x="15503" y="8186"/>
                </a:cubicBezTo>
                <a:cubicBezTo>
                  <a:pt x="15503" y="8108"/>
                  <a:pt x="15468" y="7948"/>
                  <a:pt x="15528" y="7888"/>
                </a:cubicBezTo>
                <a:cubicBezTo>
                  <a:pt x="15528" y="7896"/>
                  <a:pt x="15528" y="7905"/>
                  <a:pt x="15528" y="7913"/>
                </a:cubicBezTo>
              </a:path>
              <a:path w="6847" h="1465">
                <a:moveTo>
                  <a:pt x="19124" y="9153"/>
                </a:moveTo>
                <a:cubicBezTo>
                  <a:pt x="19235" y="9153"/>
                  <a:pt x="19336" y="9131"/>
                  <a:pt x="19447" y="9128"/>
                </a:cubicBezTo>
                <a:cubicBezTo>
                  <a:pt x="19566" y="9125"/>
                  <a:pt x="19658" y="9114"/>
                  <a:pt x="19769" y="9128"/>
                </a:cubicBezTo>
                <a:cubicBezTo>
                  <a:pt x="19847" y="9138"/>
                  <a:pt x="20219" y="9088"/>
                  <a:pt x="20241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03720" y="2697120"/>
            <a:ext cx="438120" cy="384120"/>
          </a:xfrm>
          <a:custGeom>
            <a:avLst/>
            <a:gdLst/>
            <a:ahLst/>
            <a:rect l="l" t="t" r="r" b="b"/>
            <a:pathLst>
              <a:path w="1216" h="1068">
                <a:moveTo>
                  <a:pt x="9475" y="7987"/>
                </a:moveTo>
                <a:cubicBezTo>
                  <a:pt x="9579" y="8008"/>
                  <a:pt x="9686" y="8006"/>
                  <a:pt x="9798" y="8012"/>
                </a:cubicBezTo>
                <a:cubicBezTo>
                  <a:pt x="9838" y="8014"/>
                  <a:pt x="9881" y="8012"/>
                  <a:pt x="9922" y="8012"/>
                </a:cubicBezTo>
              </a:path>
              <a:path w="1216" h="1068">
                <a:moveTo>
                  <a:pt x="9723" y="7739"/>
                </a:moveTo>
                <a:cubicBezTo>
                  <a:pt x="9723" y="7829"/>
                  <a:pt x="9741" y="7748"/>
                  <a:pt x="9723" y="7739"/>
                </a:cubicBezTo>
              </a:path>
              <a:path w="1216" h="1068">
                <a:moveTo>
                  <a:pt x="9748" y="8285"/>
                </a:moveTo>
                <a:cubicBezTo>
                  <a:pt x="9729" y="8227"/>
                  <a:pt x="9706" y="8265"/>
                  <a:pt x="9699" y="8310"/>
                </a:cubicBezTo>
                <a:cubicBezTo>
                  <a:pt x="9720" y="8289"/>
                  <a:pt x="9788" y="8145"/>
                  <a:pt x="9699" y="8210"/>
                </a:cubicBezTo>
                <a:cubicBezTo>
                  <a:pt x="9679" y="8251"/>
                  <a:pt x="9660" y="8267"/>
                  <a:pt x="9699" y="8260"/>
                </a:cubicBezTo>
              </a:path>
              <a:path w="1216" h="1068">
                <a:moveTo>
                  <a:pt x="9773" y="7739"/>
                </a:moveTo>
                <a:cubicBezTo>
                  <a:pt x="9748" y="7739"/>
                  <a:pt x="9740" y="7739"/>
                  <a:pt x="9723" y="7739"/>
                </a:cubicBezTo>
                <a:cubicBezTo>
                  <a:pt x="9723" y="7794"/>
                  <a:pt x="9738" y="7800"/>
                  <a:pt x="9699" y="7813"/>
                </a:cubicBezTo>
              </a:path>
              <a:path w="1216" h="1068">
                <a:moveTo>
                  <a:pt x="9351" y="8310"/>
                </a:moveTo>
                <a:cubicBezTo>
                  <a:pt x="9388" y="8295"/>
                  <a:pt x="9420" y="8300"/>
                  <a:pt x="9500" y="8334"/>
                </a:cubicBezTo>
                <a:cubicBezTo>
                  <a:pt x="9606" y="8379"/>
                  <a:pt x="9683" y="8384"/>
                  <a:pt x="9798" y="8359"/>
                </a:cubicBezTo>
                <a:cubicBezTo>
                  <a:pt x="9904" y="8336"/>
                  <a:pt x="9999" y="8279"/>
                  <a:pt x="10096" y="8235"/>
                </a:cubicBezTo>
                <a:cubicBezTo>
                  <a:pt x="10202" y="8186"/>
                  <a:pt x="10233" y="8131"/>
                  <a:pt x="10294" y="8037"/>
                </a:cubicBezTo>
                <a:cubicBezTo>
                  <a:pt x="10347" y="7957"/>
                  <a:pt x="10382" y="7885"/>
                  <a:pt x="10393" y="7789"/>
                </a:cubicBezTo>
                <a:cubicBezTo>
                  <a:pt x="10403" y="7705"/>
                  <a:pt x="10381" y="7663"/>
                  <a:pt x="10344" y="7590"/>
                </a:cubicBezTo>
                <a:cubicBezTo>
                  <a:pt x="10283" y="7469"/>
                  <a:pt x="10189" y="7491"/>
                  <a:pt x="10071" y="7491"/>
                </a:cubicBezTo>
                <a:cubicBezTo>
                  <a:pt x="9946" y="7491"/>
                  <a:pt x="9803" y="7546"/>
                  <a:pt x="9699" y="7615"/>
                </a:cubicBezTo>
                <a:cubicBezTo>
                  <a:pt x="9573" y="7699"/>
                  <a:pt x="9426" y="7797"/>
                  <a:pt x="9327" y="7913"/>
                </a:cubicBezTo>
                <a:cubicBezTo>
                  <a:pt x="9229" y="8028"/>
                  <a:pt x="9188" y="8190"/>
                  <a:pt x="9178" y="8334"/>
                </a:cubicBezTo>
                <a:cubicBezTo>
                  <a:pt x="9177" y="8352"/>
                  <a:pt x="9160" y="8565"/>
                  <a:pt x="9203" y="8558"/>
                </a:cubicBezTo>
                <a:cubicBezTo>
                  <a:pt x="9236" y="8541"/>
                  <a:pt x="9269" y="8525"/>
                  <a:pt x="9302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84240" y="2813040"/>
            <a:ext cx="152640" cy="71280"/>
          </a:xfrm>
          <a:custGeom>
            <a:avLst/>
            <a:gdLst/>
            <a:ahLst/>
            <a:rect l="l" t="t" r="r" b="b"/>
            <a:pathLst>
              <a:path w="422" h="200">
                <a:moveTo>
                  <a:pt x="5259" y="7813"/>
                </a:moveTo>
                <a:cubicBezTo>
                  <a:pt x="5210" y="7813"/>
                  <a:pt x="5415" y="7813"/>
                  <a:pt x="5457" y="7813"/>
                </a:cubicBezTo>
                <a:cubicBezTo>
                  <a:pt x="5507" y="7813"/>
                  <a:pt x="5556" y="7813"/>
                  <a:pt x="5606" y="7813"/>
                </a:cubicBezTo>
              </a:path>
              <a:path w="422" h="200">
                <a:moveTo>
                  <a:pt x="5358" y="7962"/>
                </a:moveTo>
                <a:cubicBezTo>
                  <a:pt x="5320" y="7975"/>
                  <a:pt x="5337" y="7987"/>
                  <a:pt x="5283" y="7987"/>
                </a:cubicBezTo>
                <a:cubicBezTo>
                  <a:pt x="5234" y="7987"/>
                  <a:pt x="5334" y="7987"/>
                  <a:pt x="5383" y="7987"/>
                </a:cubicBezTo>
                <a:cubicBezTo>
                  <a:pt x="5461" y="7987"/>
                  <a:pt x="5529" y="8012"/>
                  <a:pt x="5606" y="8012"/>
                </a:cubicBezTo>
                <a:cubicBezTo>
                  <a:pt x="5648" y="8012"/>
                  <a:pt x="5644" y="8022"/>
                  <a:pt x="5655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76760" y="364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492" y="10120"/>
                </a:moveTo>
                <a:lnTo>
                  <a:pt x="10492" y="10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28960" y="3483000"/>
            <a:ext cx="214200" cy="187200"/>
          </a:xfrm>
          <a:custGeom>
            <a:avLst/>
            <a:gdLst/>
            <a:ahLst/>
            <a:rect l="l" t="t" r="r" b="b"/>
            <a:pathLst>
              <a:path w="596" h="522">
                <a:moveTo>
                  <a:pt x="8136" y="9674"/>
                </a:moveTo>
                <a:cubicBezTo>
                  <a:pt x="8196" y="9794"/>
                  <a:pt x="8161" y="9979"/>
                  <a:pt x="8161" y="10120"/>
                </a:cubicBezTo>
                <a:cubicBezTo>
                  <a:pt x="8161" y="10295"/>
                  <a:pt x="8161" y="10145"/>
                  <a:pt x="8161" y="10120"/>
                </a:cubicBezTo>
              </a:path>
              <a:path w="596" h="522">
                <a:moveTo>
                  <a:pt x="8458" y="9773"/>
                </a:moveTo>
                <a:cubicBezTo>
                  <a:pt x="8503" y="9706"/>
                  <a:pt x="8606" y="9755"/>
                  <a:pt x="8657" y="9823"/>
                </a:cubicBezTo>
                <a:cubicBezTo>
                  <a:pt x="8746" y="9940"/>
                  <a:pt x="8702" y="10100"/>
                  <a:pt x="8558" y="10120"/>
                </a:cubicBezTo>
                <a:cubicBezTo>
                  <a:pt x="8438" y="10137"/>
                  <a:pt x="8410" y="10132"/>
                  <a:pt x="8334" y="10071"/>
                </a:cubicBezTo>
                <a:cubicBezTo>
                  <a:pt x="8440" y="9996"/>
                  <a:pt x="8536" y="9956"/>
                  <a:pt x="8657" y="10046"/>
                </a:cubicBezTo>
                <a:cubicBezTo>
                  <a:pt x="8669" y="10055"/>
                  <a:pt x="8705" y="10100"/>
                  <a:pt x="873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1160" y="3527280"/>
            <a:ext cx="13356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9029" y="9823"/>
                </a:moveTo>
                <a:cubicBezTo>
                  <a:pt x="9106" y="9808"/>
                  <a:pt x="9169" y="9798"/>
                  <a:pt x="9252" y="9798"/>
                </a:cubicBezTo>
                <a:cubicBezTo>
                  <a:pt x="9302" y="9798"/>
                  <a:pt x="9318" y="9798"/>
                  <a:pt x="9351" y="9798"/>
                </a:cubicBezTo>
              </a:path>
              <a:path w="373" h="150">
                <a:moveTo>
                  <a:pt x="9103" y="9947"/>
                </a:moveTo>
                <a:cubicBezTo>
                  <a:pt x="9202" y="9947"/>
                  <a:pt x="9302" y="9947"/>
                  <a:pt x="9401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10000" y="3456000"/>
            <a:ext cx="722160" cy="196920"/>
          </a:xfrm>
          <a:custGeom>
            <a:avLst/>
            <a:gdLst/>
            <a:ahLst/>
            <a:rect l="l" t="t" r="r" b="b"/>
            <a:pathLst>
              <a:path w="2010" h="547">
                <a:moveTo>
                  <a:pt x="9773" y="9748"/>
                </a:moveTo>
                <a:cubicBezTo>
                  <a:pt x="9773" y="9714"/>
                  <a:pt x="9759" y="9955"/>
                  <a:pt x="9748" y="10021"/>
                </a:cubicBezTo>
                <a:cubicBezTo>
                  <a:pt x="9748" y="9920"/>
                  <a:pt x="9756" y="9872"/>
                  <a:pt x="9773" y="9773"/>
                </a:cubicBezTo>
                <a:cubicBezTo>
                  <a:pt x="9773" y="9748"/>
                  <a:pt x="9773" y="9740"/>
                  <a:pt x="9773" y="9723"/>
                </a:cubicBezTo>
                <a:cubicBezTo>
                  <a:pt x="9859" y="9775"/>
                  <a:pt x="9900" y="9911"/>
                  <a:pt x="9971" y="9996"/>
                </a:cubicBezTo>
                <a:cubicBezTo>
                  <a:pt x="10114" y="10166"/>
                  <a:pt x="10079" y="9883"/>
                  <a:pt x="10096" y="9773"/>
                </a:cubicBezTo>
                <a:cubicBezTo>
                  <a:pt x="10096" y="9765"/>
                  <a:pt x="10096" y="9756"/>
                  <a:pt x="10096" y="9748"/>
                </a:cubicBezTo>
              </a:path>
              <a:path w="2010" h="547">
                <a:moveTo>
                  <a:pt x="10344" y="9872"/>
                </a:moveTo>
                <a:cubicBezTo>
                  <a:pt x="10460" y="9872"/>
                  <a:pt x="10575" y="9872"/>
                  <a:pt x="10691" y="9872"/>
                </a:cubicBezTo>
              </a:path>
              <a:path w="2010" h="547">
                <a:moveTo>
                  <a:pt x="10542" y="9674"/>
                </a:moveTo>
                <a:cubicBezTo>
                  <a:pt x="10542" y="9707"/>
                  <a:pt x="10542" y="9723"/>
                  <a:pt x="10542" y="9748"/>
                </a:cubicBezTo>
              </a:path>
              <a:path w="2010" h="547">
                <a:moveTo>
                  <a:pt x="10889" y="9699"/>
                </a:moveTo>
                <a:cubicBezTo>
                  <a:pt x="10929" y="9767"/>
                  <a:pt x="10924" y="9911"/>
                  <a:pt x="10939" y="9947"/>
                </a:cubicBezTo>
                <a:cubicBezTo>
                  <a:pt x="10947" y="9947"/>
                  <a:pt x="10956" y="9947"/>
                  <a:pt x="10964" y="9947"/>
                </a:cubicBezTo>
                <a:cubicBezTo>
                  <a:pt x="11065" y="9939"/>
                  <a:pt x="11158" y="9922"/>
                  <a:pt x="11261" y="9922"/>
                </a:cubicBezTo>
              </a:path>
              <a:path w="2010" h="547">
                <a:moveTo>
                  <a:pt x="11162" y="9599"/>
                </a:moveTo>
                <a:cubicBezTo>
                  <a:pt x="11162" y="9758"/>
                  <a:pt x="11183" y="9912"/>
                  <a:pt x="11187" y="10071"/>
                </a:cubicBezTo>
                <a:cubicBezTo>
                  <a:pt x="11187" y="10096"/>
                  <a:pt x="11187" y="10120"/>
                  <a:pt x="11187" y="10145"/>
                </a:cubicBezTo>
              </a:path>
              <a:path w="2010" h="547">
                <a:moveTo>
                  <a:pt x="11658" y="9674"/>
                </a:moveTo>
                <a:cubicBezTo>
                  <a:pt x="11579" y="9674"/>
                  <a:pt x="11550" y="9677"/>
                  <a:pt x="11509" y="9723"/>
                </a:cubicBezTo>
                <a:cubicBezTo>
                  <a:pt x="11436" y="9874"/>
                  <a:pt x="11509" y="9883"/>
                  <a:pt x="11633" y="9971"/>
                </a:cubicBezTo>
                <a:cubicBezTo>
                  <a:pt x="11714" y="10032"/>
                  <a:pt x="11738" y="10036"/>
                  <a:pt x="11757" y="10096"/>
                </a:cubicBezTo>
                <a:cubicBezTo>
                  <a:pt x="11679" y="10135"/>
                  <a:pt x="11471" y="10148"/>
                  <a:pt x="11534" y="9971"/>
                </a:cubicBezTo>
                <a:cubicBezTo>
                  <a:pt x="11546" y="9938"/>
                  <a:pt x="11775" y="9710"/>
                  <a:pt x="11757" y="9699"/>
                </a:cubicBezTo>
                <a:cubicBezTo>
                  <a:pt x="11708" y="9699"/>
                  <a:pt x="11691" y="9699"/>
                  <a:pt x="11658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16080" y="3697200"/>
            <a:ext cx="1866960" cy="411120"/>
          </a:xfrm>
          <a:custGeom>
            <a:avLst/>
            <a:gdLst/>
            <a:ahLst/>
            <a:rect l="l" t="t" r="r" b="b"/>
            <a:pathLst>
              <a:path w="5185" h="1142">
                <a:moveTo>
                  <a:pt x="6598" y="10616"/>
                </a:moveTo>
                <a:cubicBezTo>
                  <a:pt x="6598" y="10534"/>
                  <a:pt x="6598" y="10733"/>
                  <a:pt x="6598" y="10815"/>
                </a:cubicBezTo>
                <a:cubicBezTo>
                  <a:pt x="6598" y="10872"/>
                  <a:pt x="6613" y="11081"/>
                  <a:pt x="6598" y="11088"/>
                </a:cubicBezTo>
              </a:path>
              <a:path w="5185" h="1142">
                <a:moveTo>
                  <a:pt x="6300" y="10864"/>
                </a:moveTo>
                <a:cubicBezTo>
                  <a:pt x="6387" y="10843"/>
                  <a:pt x="6475" y="10851"/>
                  <a:pt x="6573" y="10840"/>
                </a:cubicBezTo>
                <a:cubicBezTo>
                  <a:pt x="6661" y="10830"/>
                  <a:pt x="6734" y="10815"/>
                  <a:pt x="6821" y="10815"/>
                </a:cubicBezTo>
                <a:cubicBezTo>
                  <a:pt x="6829" y="10815"/>
                  <a:pt x="6838" y="10815"/>
                  <a:pt x="6846" y="10815"/>
                </a:cubicBezTo>
              </a:path>
              <a:path w="5185" h="1142">
                <a:moveTo>
                  <a:pt x="9500" y="10616"/>
                </a:moveTo>
                <a:cubicBezTo>
                  <a:pt x="9360" y="10595"/>
                  <a:pt x="9278" y="10615"/>
                  <a:pt x="9178" y="10716"/>
                </a:cubicBezTo>
                <a:cubicBezTo>
                  <a:pt x="9241" y="10773"/>
                  <a:pt x="9464" y="10872"/>
                  <a:pt x="9451" y="10964"/>
                </a:cubicBezTo>
                <a:cubicBezTo>
                  <a:pt x="9399" y="11015"/>
                  <a:pt x="9380" y="11032"/>
                  <a:pt x="9327" y="11038"/>
                </a:cubicBezTo>
                <a:cubicBezTo>
                  <a:pt x="9265" y="10956"/>
                  <a:pt x="9344" y="10822"/>
                  <a:pt x="9426" y="10740"/>
                </a:cubicBezTo>
                <a:cubicBezTo>
                  <a:pt x="9451" y="10740"/>
                  <a:pt x="9459" y="10740"/>
                  <a:pt x="9451" y="10716"/>
                </a:cubicBezTo>
              </a:path>
              <a:path w="5185" h="1142">
                <a:moveTo>
                  <a:pt x="9674" y="10592"/>
                </a:moveTo>
                <a:cubicBezTo>
                  <a:pt x="9689" y="10709"/>
                  <a:pt x="9717" y="10821"/>
                  <a:pt x="9723" y="10939"/>
                </a:cubicBezTo>
                <a:cubicBezTo>
                  <a:pt x="9723" y="10947"/>
                  <a:pt x="9723" y="10956"/>
                  <a:pt x="9723" y="10964"/>
                </a:cubicBezTo>
              </a:path>
              <a:path w="5185" h="1142">
                <a:moveTo>
                  <a:pt x="6325" y="11237"/>
                </a:moveTo>
                <a:cubicBezTo>
                  <a:pt x="6414" y="11281"/>
                  <a:pt x="6432" y="11325"/>
                  <a:pt x="6524" y="11361"/>
                </a:cubicBezTo>
                <a:cubicBezTo>
                  <a:pt x="6765" y="11455"/>
                  <a:pt x="7088" y="11391"/>
                  <a:pt x="7243" y="11162"/>
                </a:cubicBezTo>
                <a:cubicBezTo>
                  <a:pt x="7395" y="10938"/>
                  <a:pt x="7303" y="10554"/>
                  <a:pt x="7094" y="10393"/>
                </a:cubicBezTo>
                <a:cubicBezTo>
                  <a:pt x="6904" y="10246"/>
                  <a:pt x="6598" y="10253"/>
                  <a:pt x="6375" y="10269"/>
                </a:cubicBezTo>
                <a:cubicBezTo>
                  <a:pt x="6106" y="10289"/>
                  <a:pt x="5896" y="10354"/>
                  <a:pt x="5879" y="10666"/>
                </a:cubicBezTo>
                <a:cubicBezTo>
                  <a:pt x="5863" y="10948"/>
                  <a:pt x="5941" y="11336"/>
                  <a:pt x="6276" y="11385"/>
                </a:cubicBezTo>
                <a:cubicBezTo>
                  <a:pt x="6411" y="11359"/>
                  <a:pt x="6461" y="11344"/>
                  <a:pt x="6524" y="11261"/>
                </a:cubicBezTo>
              </a:path>
              <a:path w="5185" h="1142">
                <a:moveTo>
                  <a:pt x="7193" y="10691"/>
                </a:moveTo>
                <a:cubicBezTo>
                  <a:pt x="7274" y="10653"/>
                  <a:pt x="7366" y="10614"/>
                  <a:pt x="7466" y="10592"/>
                </a:cubicBezTo>
                <a:cubicBezTo>
                  <a:pt x="7637" y="10554"/>
                  <a:pt x="7812" y="10567"/>
                  <a:pt x="7987" y="10567"/>
                </a:cubicBezTo>
                <a:cubicBezTo>
                  <a:pt x="8140" y="10567"/>
                  <a:pt x="8283" y="10588"/>
                  <a:pt x="8434" y="10592"/>
                </a:cubicBezTo>
                <a:cubicBezTo>
                  <a:pt x="8606" y="10597"/>
                  <a:pt x="8789" y="10608"/>
                  <a:pt x="8954" y="10567"/>
                </a:cubicBezTo>
                <a:cubicBezTo>
                  <a:pt x="9117" y="10526"/>
                  <a:pt x="9268" y="10469"/>
                  <a:pt x="9426" y="10418"/>
                </a:cubicBezTo>
                <a:cubicBezTo>
                  <a:pt x="9529" y="10385"/>
                  <a:pt x="9588" y="10368"/>
                  <a:pt x="9699" y="10368"/>
                </a:cubicBezTo>
                <a:cubicBezTo>
                  <a:pt x="9847" y="10368"/>
                  <a:pt x="9973" y="10346"/>
                  <a:pt x="10120" y="10368"/>
                </a:cubicBezTo>
                <a:cubicBezTo>
                  <a:pt x="10223" y="10383"/>
                  <a:pt x="10337" y="10416"/>
                  <a:pt x="10443" y="10443"/>
                </a:cubicBezTo>
                <a:cubicBezTo>
                  <a:pt x="10530" y="10465"/>
                  <a:pt x="10693" y="10466"/>
                  <a:pt x="10765" y="10517"/>
                </a:cubicBezTo>
                <a:cubicBezTo>
                  <a:pt x="10814" y="10552"/>
                  <a:pt x="10814" y="10617"/>
                  <a:pt x="10840" y="10666"/>
                </a:cubicBezTo>
                <a:cubicBezTo>
                  <a:pt x="10882" y="10744"/>
                  <a:pt x="10912" y="10808"/>
                  <a:pt x="10939" y="10889"/>
                </a:cubicBezTo>
                <a:cubicBezTo>
                  <a:pt x="10895" y="10830"/>
                  <a:pt x="10838" y="10781"/>
                  <a:pt x="10790" y="10740"/>
                </a:cubicBezTo>
                <a:cubicBezTo>
                  <a:pt x="10824" y="10792"/>
                  <a:pt x="10897" y="10880"/>
                  <a:pt x="10914" y="10914"/>
                </a:cubicBezTo>
                <a:cubicBezTo>
                  <a:pt x="10914" y="10922"/>
                  <a:pt x="10914" y="10931"/>
                  <a:pt x="10914" y="10939"/>
                </a:cubicBezTo>
                <a:cubicBezTo>
                  <a:pt x="10955" y="10890"/>
                  <a:pt x="11028" y="10813"/>
                  <a:pt x="11063" y="10740"/>
                </a:cubicBezTo>
                <a:cubicBezTo>
                  <a:pt x="11063" y="10732"/>
                  <a:pt x="11063" y="10724"/>
                  <a:pt x="11063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1000" y="3687840"/>
            <a:ext cx="376200" cy="26820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2502" y="10592"/>
                </a:moveTo>
                <a:cubicBezTo>
                  <a:pt x="12502" y="10674"/>
                  <a:pt x="12490" y="10737"/>
                  <a:pt x="12477" y="10815"/>
                </a:cubicBezTo>
                <a:cubicBezTo>
                  <a:pt x="12575" y="10805"/>
                  <a:pt x="12634" y="10780"/>
                  <a:pt x="12725" y="10740"/>
                </a:cubicBezTo>
              </a:path>
              <a:path w="1043" h="745">
                <a:moveTo>
                  <a:pt x="12650" y="10443"/>
                </a:moveTo>
                <a:cubicBezTo>
                  <a:pt x="12662" y="10602"/>
                  <a:pt x="12701" y="10778"/>
                  <a:pt x="12675" y="10939"/>
                </a:cubicBezTo>
                <a:cubicBezTo>
                  <a:pt x="12655" y="10979"/>
                  <a:pt x="12636" y="10995"/>
                  <a:pt x="12675" y="10988"/>
                </a:cubicBezTo>
              </a:path>
              <a:path w="1043" h="745">
                <a:moveTo>
                  <a:pt x="12973" y="10319"/>
                </a:moveTo>
                <a:cubicBezTo>
                  <a:pt x="13012" y="10319"/>
                  <a:pt x="13161" y="10262"/>
                  <a:pt x="13171" y="10319"/>
                </a:cubicBezTo>
                <a:cubicBezTo>
                  <a:pt x="13122" y="10368"/>
                  <a:pt x="13105" y="10385"/>
                  <a:pt x="13072" y="10418"/>
                </a:cubicBezTo>
                <a:cubicBezTo>
                  <a:pt x="12961" y="10352"/>
                  <a:pt x="13150" y="10379"/>
                  <a:pt x="13196" y="10418"/>
                </a:cubicBezTo>
                <a:cubicBezTo>
                  <a:pt x="13252" y="10465"/>
                  <a:pt x="13010" y="10625"/>
                  <a:pt x="12948" y="10567"/>
                </a:cubicBezTo>
                <a:cubicBezTo>
                  <a:pt x="12948" y="10542"/>
                  <a:pt x="12948" y="10517"/>
                  <a:pt x="12948" y="10492"/>
                </a:cubicBezTo>
              </a:path>
              <a:path w="1043" h="745">
                <a:moveTo>
                  <a:pt x="13320" y="10244"/>
                </a:moveTo>
                <a:cubicBezTo>
                  <a:pt x="13349" y="10389"/>
                  <a:pt x="13322" y="10520"/>
                  <a:pt x="13271" y="10666"/>
                </a:cubicBezTo>
                <a:cubicBezTo>
                  <a:pt x="13241" y="10752"/>
                  <a:pt x="13186" y="10887"/>
                  <a:pt x="13122" y="10939"/>
                </a:cubicBezTo>
              </a:path>
              <a:path w="1043" h="745">
                <a:moveTo>
                  <a:pt x="13320" y="10641"/>
                </a:moveTo>
                <a:cubicBezTo>
                  <a:pt x="13345" y="10691"/>
                  <a:pt x="13353" y="10707"/>
                  <a:pt x="13320" y="10740"/>
                </a:cubicBezTo>
                <a:cubicBezTo>
                  <a:pt x="13393" y="10740"/>
                  <a:pt x="13447" y="10735"/>
                  <a:pt x="13519" y="10716"/>
                </a:cubicBezTo>
              </a:path>
              <a:path w="1043" h="745">
                <a:moveTo>
                  <a:pt x="13519" y="10517"/>
                </a:moveTo>
                <a:cubicBezTo>
                  <a:pt x="13476" y="10655"/>
                  <a:pt x="13469" y="10769"/>
                  <a:pt x="13469" y="10914"/>
                </a:cubicBezTo>
                <a:cubicBezTo>
                  <a:pt x="13469" y="10931"/>
                  <a:pt x="13469" y="10947"/>
                  <a:pt x="13469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0160" y="4500720"/>
            <a:ext cx="160560" cy="27000"/>
          </a:xfrm>
          <a:custGeom>
            <a:avLst/>
            <a:gdLst/>
            <a:ahLst/>
            <a:rect l="l" t="t" r="r" b="b"/>
            <a:pathLst>
              <a:path w="448" h="75">
                <a:moveTo>
                  <a:pt x="12055" y="12576"/>
                </a:moveTo>
                <a:cubicBezTo>
                  <a:pt x="12205" y="12556"/>
                  <a:pt x="12347" y="12512"/>
                  <a:pt x="12502" y="125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46640" y="4491000"/>
            <a:ext cx="268200" cy="206280"/>
          </a:xfrm>
          <a:custGeom>
            <a:avLst/>
            <a:gdLst/>
            <a:ahLst/>
            <a:rect l="l" t="t" r="r" b="b"/>
            <a:pathLst>
              <a:path w="745" h="571">
                <a:moveTo>
                  <a:pt x="9872" y="12477"/>
                </a:moveTo>
                <a:cubicBezTo>
                  <a:pt x="9747" y="12521"/>
                  <a:pt x="9676" y="12564"/>
                  <a:pt x="9575" y="12650"/>
                </a:cubicBezTo>
                <a:cubicBezTo>
                  <a:pt x="9635" y="12783"/>
                  <a:pt x="9809" y="12818"/>
                  <a:pt x="9922" y="12948"/>
                </a:cubicBezTo>
                <a:cubicBezTo>
                  <a:pt x="9817" y="13023"/>
                  <a:pt x="9583" y="13094"/>
                  <a:pt x="9748" y="12874"/>
                </a:cubicBezTo>
                <a:cubicBezTo>
                  <a:pt x="9759" y="12859"/>
                  <a:pt x="10000" y="12658"/>
                  <a:pt x="9947" y="12650"/>
                </a:cubicBezTo>
                <a:cubicBezTo>
                  <a:pt x="9939" y="12650"/>
                  <a:pt x="9930" y="12650"/>
                  <a:pt x="9922" y="12650"/>
                </a:cubicBezTo>
              </a:path>
              <a:path w="745" h="571">
                <a:moveTo>
                  <a:pt x="10220" y="12526"/>
                </a:moveTo>
                <a:cubicBezTo>
                  <a:pt x="10231" y="12667"/>
                  <a:pt x="10105" y="12921"/>
                  <a:pt x="10244" y="12948"/>
                </a:cubicBezTo>
                <a:cubicBezTo>
                  <a:pt x="10269" y="12931"/>
                  <a:pt x="10294" y="12915"/>
                  <a:pt x="10319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67120" y="4500720"/>
            <a:ext cx="125280" cy="134640"/>
          </a:xfrm>
          <a:custGeom>
            <a:avLst/>
            <a:gdLst/>
            <a:ahLst/>
            <a:rect l="l" t="t" r="r" b="b"/>
            <a:pathLst>
              <a:path w="349" h="373">
                <a:moveTo>
                  <a:pt x="10840" y="12502"/>
                </a:moveTo>
                <a:cubicBezTo>
                  <a:pt x="10850" y="12627"/>
                  <a:pt x="10864" y="12747"/>
                  <a:pt x="10864" y="12874"/>
                </a:cubicBezTo>
              </a:path>
              <a:path w="349" h="373">
                <a:moveTo>
                  <a:pt x="10740" y="12725"/>
                </a:moveTo>
                <a:cubicBezTo>
                  <a:pt x="10842" y="12694"/>
                  <a:pt x="10953" y="12681"/>
                  <a:pt x="11063" y="12675"/>
                </a:cubicBezTo>
                <a:cubicBezTo>
                  <a:pt x="11071" y="12675"/>
                  <a:pt x="11080" y="12675"/>
                  <a:pt x="1108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3240" y="4375080"/>
            <a:ext cx="312840" cy="357120"/>
          </a:xfrm>
          <a:custGeom>
            <a:avLst/>
            <a:gdLst/>
            <a:ahLst/>
            <a:rect l="l" t="t" r="r" b="b"/>
            <a:pathLst>
              <a:path w="870" h="993">
                <a:moveTo>
                  <a:pt x="11534" y="12427"/>
                </a:moveTo>
                <a:cubicBezTo>
                  <a:pt x="11516" y="12506"/>
                  <a:pt x="11509" y="12568"/>
                  <a:pt x="11509" y="12650"/>
                </a:cubicBezTo>
                <a:cubicBezTo>
                  <a:pt x="11639" y="12706"/>
                  <a:pt x="11701" y="12657"/>
                  <a:pt x="11807" y="12576"/>
                </a:cubicBezTo>
              </a:path>
              <a:path w="870" h="993">
                <a:moveTo>
                  <a:pt x="11733" y="12303"/>
                </a:moveTo>
                <a:cubicBezTo>
                  <a:pt x="11733" y="12526"/>
                  <a:pt x="11733" y="12750"/>
                  <a:pt x="11733" y="12973"/>
                </a:cubicBezTo>
              </a:path>
              <a:path w="870" h="993">
                <a:moveTo>
                  <a:pt x="12030" y="12179"/>
                </a:moveTo>
                <a:cubicBezTo>
                  <a:pt x="12094" y="12179"/>
                  <a:pt x="12171" y="12131"/>
                  <a:pt x="12229" y="12154"/>
                </a:cubicBezTo>
                <a:cubicBezTo>
                  <a:pt x="12276" y="12173"/>
                  <a:pt x="12187" y="12240"/>
                  <a:pt x="12154" y="12278"/>
                </a:cubicBezTo>
                <a:cubicBezTo>
                  <a:pt x="12146" y="12278"/>
                  <a:pt x="12137" y="12278"/>
                  <a:pt x="12129" y="12278"/>
                </a:cubicBezTo>
                <a:cubicBezTo>
                  <a:pt x="12179" y="12278"/>
                  <a:pt x="12354" y="12272"/>
                  <a:pt x="12229" y="12328"/>
                </a:cubicBezTo>
                <a:cubicBezTo>
                  <a:pt x="12168" y="12348"/>
                  <a:pt x="12153" y="12346"/>
                  <a:pt x="12129" y="12378"/>
                </a:cubicBezTo>
              </a:path>
              <a:path w="870" h="993">
                <a:moveTo>
                  <a:pt x="12154" y="12774"/>
                </a:moveTo>
                <a:cubicBezTo>
                  <a:pt x="12154" y="12824"/>
                  <a:pt x="12154" y="12873"/>
                  <a:pt x="12154" y="12923"/>
                </a:cubicBezTo>
                <a:cubicBezTo>
                  <a:pt x="12230" y="12923"/>
                  <a:pt x="12256" y="12923"/>
                  <a:pt x="12303" y="12898"/>
                </a:cubicBezTo>
              </a:path>
              <a:path w="870" h="993">
                <a:moveTo>
                  <a:pt x="12378" y="12750"/>
                </a:moveTo>
                <a:cubicBezTo>
                  <a:pt x="12354" y="12844"/>
                  <a:pt x="12338" y="12964"/>
                  <a:pt x="12328" y="13072"/>
                </a:cubicBezTo>
                <a:cubicBezTo>
                  <a:pt x="12328" y="13113"/>
                  <a:pt x="12328" y="13121"/>
                  <a:pt x="1232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01920" y="1616040"/>
            <a:ext cx="403200" cy="420840"/>
          </a:xfrm>
          <a:custGeom>
            <a:avLst/>
            <a:gdLst/>
            <a:ahLst/>
            <a:rect l="l" t="t" r="r" b="b"/>
            <a:pathLst>
              <a:path w="1118" h="1166">
                <a:moveTo>
                  <a:pt x="7020" y="4862"/>
                </a:moveTo>
                <a:cubicBezTo>
                  <a:pt x="7020" y="4835"/>
                  <a:pt x="7122" y="4949"/>
                  <a:pt x="7169" y="4986"/>
                </a:cubicBezTo>
                <a:cubicBezTo>
                  <a:pt x="7262" y="5060"/>
                  <a:pt x="7348" y="5139"/>
                  <a:pt x="7441" y="5209"/>
                </a:cubicBezTo>
                <a:cubicBezTo>
                  <a:pt x="7449" y="5217"/>
                  <a:pt x="7458" y="5226"/>
                  <a:pt x="7466" y="5234"/>
                </a:cubicBezTo>
              </a:path>
              <a:path w="1118" h="1166">
                <a:moveTo>
                  <a:pt x="7342" y="4762"/>
                </a:moveTo>
                <a:cubicBezTo>
                  <a:pt x="7320" y="4873"/>
                  <a:pt x="7224" y="5039"/>
                  <a:pt x="7169" y="5135"/>
                </a:cubicBezTo>
                <a:cubicBezTo>
                  <a:pt x="7111" y="5235"/>
                  <a:pt x="6972" y="5350"/>
                  <a:pt x="6945" y="5457"/>
                </a:cubicBezTo>
              </a:path>
              <a:path w="1118" h="1166">
                <a:moveTo>
                  <a:pt x="6846" y="5407"/>
                </a:moveTo>
                <a:cubicBezTo>
                  <a:pt x="6862" y="5423"/>
                  <a:pt x="6892" y="5453"/>
                  <a:pt x="6921" y="5482"/>
                </a:cubicBezTo>
                <a:cubicBezTo>
                  <a:pt x="7005" y="5566"/>
                  <a:pt x="7081" y="5556"/>
                  <a:pt x="7193" y="5556"/>
                </a:cubicBezTo>
                <a:cubicBezTo>
                  <a:pt x="7284" y="5556"/>
                  <a:pt x="7357" y="5559"/>
                  <a:pt x="7441" y="5531"/>
                </a:cubicBezTo>
                <a:cubicBezTo>
                  <a:pt x="7523" y="5504"/>
                  <a:pt x="7573" y="5488"/>
                  <a:pt x="7640" y="5432"/>
                </a:cubicBezTo>
                <a:cubicBezTo>
                  <a:pt x="7708" y="5375"/>
                  <a:pt x="7751" y="5270"/>
                  <a:pt x="7764" y="5184"/>
                </a:cubicBezTo>
                <a:cubicBezTo>
                  <a:pt x="7776" y="5101"/>
                  <a:pt x="7771" y="5040"/>
                  <a:pt x="7764" y="4961"/>
                </a:cubicBezTo>
                <a:cubicBezTo>
                  <a:pt x="7758" y="4896"/>
                  <a:pt x="7760" y="4845"/>
                  <a:pt x="7739" y="4787"/>
                </a:cubicBezTo>
                <a:cubicBezTo>
                  <a:pt x="7708" y="4701"/>
                  <a:pt x="7646" y="4665"/>
                  <a:pt x="7590" y="4614"/>
                </a:cubicBezTo>
                <a:cubicBezTo>
                  <a:pt x="7531" y="4560"/>
                  <a:pt x="7471" y="4524"/>
                  <a:pt x="7392" y="4514"/>
                </a:cubicBezTo>
                <a:cubicBezTo>
                  <a:pt x="7290" y="4501"/>
                  <a:pt x="7219" y="4483"/>
                  <a:pt x="7119" y="4514"/>
                </a:cubicBezTo>
                <a:cubicBezTo>
                  <a:pt x="7033" y="4540"/>
                  <a:pt x="6920" y="4549"/>
                  <a:pt x="6871" y="4638"/>
                </a:cubicBezTo>
                <a:cubicBezTo>
                  <a:pt x="6822" y="4727"/>
                  <a:pt x="6764" y="4816"/>
                  <a:pt x="6722" y="4911"/>
                </a:cubicBezTo>
                <a:cubicBezTo>
                  <a:pt x="6696" y="4969"/>
                  <a:pt x="6662" y="5096"/>
                  <a:pt x="6672" y="5159"/>
                </a:cubicBezTo>
                <a:cubicBezTo>
                  <a:pt x="6684" y="5231"/>
                  <a:pt x="6693" y="5317"/>
                  <a:pt x="6722" y="5383"/>
                </a:cubicBezTo>
                <a:cubicBezTo>
                  <a:pt x="6751" y="5448"/>
                  <a:pt x="6781" y="5483"/>
                  <a:pt x="6821" y="5531"/>
                </a:cubicBezTo>
                <a:cubicBezTo>
                  <a:pt x="6858" y="5575"/>
                  <a:pt x="6906" y="5597"/>
                  <a:pt x="6921" y="5631"/>
                </a:cubicBezTo>
                <a:cubicBezTo>
                  <a:pt x="6921" y="5639"/>
                  <a:pt x="6921" y="5647"/>
                  <a:pt x="6921" y="56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13320" y="1652760"/>
            <a:ext cx="1714680" cy="696600"/>
          </a:xfrm>
          <a:custGeom>
            <a:avLst/>
            <a:gdLst/>
            <a:ahLst/>
            <a:rect l="l" t="t" r="r" b="b"/>
            <a:pathLst>
              <a:path w="4763" h="1936">
                <a:moveTo>
                  <a:pt x="19348" y="6375"/>
                </a:moveTo>
                <a:cubicBezTo>
                  <a:pt x="19439" y="6375"/>
                  <a:pt x="19558" y="6368"/>
                  <a:pt x="19645" y="6350"/>
                </a:cubicBezTo>
                <a:cubicBezTo>
                  <a:pt x="19702" y="6338"/>
                  <a:pt x="19703" y="6298"/>
                  <a:pt x="19720" y="6350"/>
                </a:cubicBezTo>
              </a:path>
              <a:path w="4763" h="1936">
                <a:moveTo>
                  <a:pt x="19695" y="4738"/>
                </a:moveTo>
                <a:cubicBezTo>
                  <a:pt x="19629" y="4738"/>
                  <a:pt x="19562" y="4738"/>
                  <a:pt x="19496" y="4738"/>
                </a:cubicBezTo>
                <a:cubicBezTo>
                  <a:pt x="19496" y="4804"/>
                  <a:pt x="19481" y="4908"/>
                  <a:pt x="19472" y="4936"/>
                </a:cubicBezTo>
                <a:cubicBezTo>
                  <a:pt x="19472" y="4944"/>
                  <a:pt x="19472" y="4953"/>
                  <a:pt x="19472" y="4961"/>
                </a:cubicBezTo>
                <a:cubicBezTo>
                  <a:pt x="19545" y="4961"/>
                  <a:pt x="19549" y="4921"/>
                  <a:pt x="19621" y="4887"/>
                </a:cubicBezTo>
                <a:cubicBezTo>
                  <a:pt x="19672" y="4863"/>
                  <a:pt x="19730" y="4925"/>
                  <a:pt x="19745" y="4936"/>
                </a:cubicBezTo>
                <a:cubicBezTo>
                  <a:pt x="19778" y="4959"/>
                  <a:pt x="19832" y="5002"/>
                  <a:pt x="19794" y="5060"/>
                </a:cubicBezTo>
                <a:cubicBezTo>
                  <a:pt x="19767" y="5101"/>
                  <a:pt x="19644" y="5175"/>
                  <a:pt x="19596" y="5184"/>
                </a:cubicBezTo>
                <a:cubicBezTo>
                  <a:pt x="19507" y="5202"/>
                  <a:pt x="19476" y="5191"/>
                  <a:pt x="19397" y="5184"/>
                </a:cubicBezTo>
                <a:cubicBezTo>
                  <a:pt x="19372" y="5184"/>
                  <a:pt x="19364" y="5184"/>
                  <a:pt x="19372" y="5159"/>
                </a:cubicBezTo>
              </a:path>
              <a:path w="4763" h="1936">
                <a:moveTo>
                  <a:pt x="20265" y="6251"/>
                </a:moveTo>
                <a:cubicBezTo>
                  <a:pt x="20291" y="6198"/>
                  <a:pt x="20276" y="6281"/>
                  <a:pt x="20315" y="6300"/>
                </a:cubicBezTo>
                <a:cubicBezTo>
                  <a:pt x="20336" y="6310"/>
                  <a:pt x="20407" y="6286"/>
                  <a:pt x="20414" y="6276"/>
                </a:cubicBezTo>
                <a:cubicBezTo>
                  <a:pt x="20414" y="6268"/>
                  <a:pt x="20414" y="6259"/>
                  <a:pt x="20414" y="6251"/>
                </a:cubicBezTo>
                <a:cubicBezTo>
                  <a:pt x="20424" y="6293"/>
                  <a:pt x="20455" y="6344"/>
                  <a:pt x="20513" y="6325"/>
                </a:cubicBezTo>
                <a:cubicBezTo>
                  <a:pt x="20545" y="6314"/>
                  <a:pt x="20552" y="6285"/>
                  <a:pt x="20588" y="6276"/>
                </a:cubicBezTo>
                <a:cubicBezTo>
                  <a:pt x="20603" y="6347"/>
                  <a:pt x="20623" y="6376"/>
                  <a:pt x="20687" y="6325"/>
                </a:cubicBezTo>
                <a:cubicBezTo>
                  <a:pt x="20744" y="6279"/>
                  <a:pt x="20693" y="6276"/>
                  <a:pt x="20786" y="6276"/>
                </a:cubicBezTo>
                <a:cubicBezTo>
                  <a:pt x="20814" y="6276"/>
                  <a:pt x="20825" y="6274"/>
                  <a:pt x="20836" y="6251"/>
                </a:cubicBezTo>
              </a:path>
              <a:path w="4763" h="1936">
                <a:moveTo>
                  <a:pt x="20340" y="5011"/>
                </a:moveTo>
                <a:cubicBezTo>
                  <a:pt x="20369" y="4966"/>
                  <a:pt x="20470" y="4986"/>
                  <a:pt x="20538" y="4986"/>
                </a:cubicBezTo>
                <a:cubicBezTo>
                  <a:pt x="20571" y="4986"/>
                  <a:pt x="20605" y="4986"/>
                  <a:pt x="20638" y="4986"/>
                </a:cubicBezTo>
              </a:path>
              <a:path w="4763" h="1936">
                <a:moveTo>
                  <a:pt x="20340" y="5159"/>
                </a:moveTo>
                <a:cubicBezTo>
                  <a:pt x="20392" y="5146"/>
                  <a:pt x="20458" y="5150"/>
                  <a:pt x="20513" y="5135"/>
                </a:cubicBezTo>
                <a:cubicBezTo>
                  <a:pt x="20578" y="5117"/>
                  <a:pt x="20565" y="5129"/>
                  <a:pt x="20613" y="5135"/>
                </a:cubicBezTo>
                <a:cubicBezTo>
                  <a:pt x="20621" y="5135"/>
                  <a:pt x="20630" y="5135"/>
                  <a:pt x="20638" y="5135"/>
                </a:cubicBezTo>
              </a:path>
              <a:path w="4763" h="1936">
                <a:moveTo>
                  <a:pt x="21382" y="4688"/>
                </a:moveTo>
                <a:cubicBezTo>
                  <a:pt x="21390" y="4676"/>
                  <a:pt x="21497" y="4600"/>
                  <a:pt x="21530" y="4589"/>
                </a:cubicBezTo>
                <a:cubicBezTo>
                  <a:pt x="21583" y="4571"/>
                  <a:pt x="21635" y="4603"/>
                  <a:pt x="21630" y="4663"/>
                </a:cubicBezTo>
                <a:cubicBezTo>
                  <a:pt x="21619" y="4806"/>
                  <a:pt x="21528" y="4857"/>
                  <a:pt x="21456" y="4961"/>
                </a:cubicBezTo>
                <a:cubicBezTo>
                  <a:pt x="21412" y="5025"/>
                  <a:pt x="21317" y="5048"/>
                  <a:pt x="21282" y="5110"/>
                </a:cubicBezTo>
                <a:cubicBezTo>
                  <a:pt x="21282" y="5135"/>
                  <a:pt x="21282" y="5143"/>
                  <a:pt x="21282" y="5159"/>
                </a:cubicBezTo>
                <a:cubicBezTo>
                  <a:pt x="21295" y="5122"/>
                  <a:pt x="21364" y="5094"/>
                  <a:pt x="21406" y="5060"/>
                </a:cubicBezTo>
                <a:cubicBezTo>
                  <a:pt x="21452" y="5023"/>
                  <a:pt x="21504" y="5025"/>
                  <a:pt x="21555" y="5060"/>
                </a:cubicBezTo>
                <a:cubicBezTo>
                  <a:pt x="21604" y="5093"/>
                  <a:pt x="21609" y="5148"/>
                  <a:pt x="21679" y="5135"/>
                </a:cubicBezTo>
                <a:cubicBezTo>
                  <a:pt x="21763" y="5120"/>
                  <a:pt x="21758" y="5101"/>
                  <a:pt x="21803" y="5085"/>
                </a:cubicBezTo>
              </a:path>
              <a:path w="4763" h="1936">
                <a:moveTo>
                  <a:pt x="22101" y="4663"/>
                </a:moveTo>
                <a:cubicBezTo>
                  <a:pt x="22085" y="4728"/>
                  <a:pt x="22028" y="4791"/>
                  <a:pt x="22002" y="4862"/>
                </a:cubicBezTo>
                <a:cubicBezTo>
                  <a:pt x="21990" y="4894"/>
                  <a:pt x="21954" y="4995"/>
                  <a:pt x="21977" y="5035"/>
                </a:cubicBezTo>
                <a:cubicBezTo>
                  <a:pt x="21996" y="5069"/>
                  <a:pt x="22008" y="5107"/>
                  <a:pt x="22051" y="5110"/>
                </a:cubicBezTo>
                <a:cubicBezTo>
                  <a:pt x="22132" y="5116"/>
                  <a:pt x="22200" y="5109"/>
                  <a:pt x="22250" y="5035"/>
                </a:cubicBezTo>
                <a:cubicBezTo>
                  <a:pt x="22267" y="5010"/>
                  <a:pt x="22290" y="4900"/>
                  <a:pt x="22299" y="4862"/>
                </a:cubicBezTo>
                <a:cubicBezTo>
                  <a:pt x="22309" y="4820"/>
                  <a:pt x="22258" y="4737"/>
                  <a:pt x="22225" y="4713"/>
                </a:cubicBezTo>
                <a:cubicBezTo>
                  <a:pt x="22181" y="4682"/>
                  <a:pt x="22153" y="4663"/>
                  <a:pt x="22101" y="4663"/>
                </a:cubicBezTo>
              </a:path>
              <a:path w="4763" h="1936">
                <a:moveTo>
                  <a:pt x="17537" y="6524"/>
                </a:moveTo>
                <a:cubicBezTo>
                  <a:pt x="17575" y="6514"/>
                  <a:pt x="17621" y="6512"/>
                  <a:pt x="17661" y="6499"/>
                </a:cubicBezTo>
                <a:cubicBezTo>
                  <a:pt x="17743" y="6472"/>
                  <a:pt x="17728" y="6493"/>
                  <a:pt x="17810" y="6499"/>
                </a:cubicBezTo>
                <a:cubicBezTo>
                  <a:pt x="17867" y="6503"/>
                  <a:pt x="17966" y="6467"/>
                  <a:pt x="18008" y="6474"/>
                </a:cubicBezTo>
                <a:cubicBezTo>
                  <a:pt x="18080" y="6485"/>
                  <a:pt x="18077" y="6494"/>
                  <a:pt x="18157" y="6474"/>
                </a:cubicBezTo>
                <a:cubicBezTo>
                  <a:pt x="18240" y="6453"/>
                  <a:pt x="18344" y="6465"/>
                  <a:pt x="18430" y="6449"/>
                </a:cubicBezTo>
                <a:cubicBezTo>
                  <a:pt x="18531" y="6430"/>
                  <a:pt x="18629" y="6449"/>
                  <a:pt x="18728" y="6424"/>
                </a:cubicBezTo>
                <a:cubicBezTo>
                  <a:pt x="18752" y="6424"/>
                  <a:pt x="18760" y="6424"/>
                  <a:pt x="1875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7960" y="2697120"/>
            <a:ext cx="25092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20985" y="7491"/>
                </a:moveTo>
                <a:cubicBezTo>
                  <a:pt x="20985" y="7603"/>
                  <a:pt x="20938" y="7682"/>
                  <a:pt x="20910" y="7789"/>
                </a:cubicBezTo>
                <a:cubicBezTo>
                  <a:pt x="20910" y="7797"/>
                  <a:pt x="20910" y="7805"/>
                  <a:pt x="20910" y="7813"/>
                </a:cubicBezTo>
                <a:cubicBezTo>
                  <a:pt x="20953" y="7818"/>
                  <a:pt x="21105" y="7883"/>
                  <a:pt x="21134" y="7863"/>
                </a:cubicBezTo>
                <a:cubicBezTo>
                  <a:pt x="21134" y="7855"/>
                  <a:pt x="21134" y="7846"/>
                  <a:pt x="21134" y="7838"/>
                </a:cubicBezTo>
              </a:path>
              <a:path w="696" h="547">
                <a:moveTo>
                  <a:pt x="21109" y="7491"/>
                </a:moveTo>
                <a:cubicBezTo>
                  <a:pt x="21131" y="7667"/>
                  <a:pt x="21134" y="7834"/>
                  <a:pt x="21134" y="8012"/>
                </a:cubicBezTo>
                <a:cubicBezTo>
                  <a:pt x="21134" y="8020"/>
                  <a:pt x="21134" y="8029"/>
                  <a:pt x="21134" y="8037"/>
                </a:cubicBezTo>
              </a:path>
              <a:path w="696" h="547">
                <a:moveTo>
                  <a:pt x="21580" y="7516"/>
                </a:moveTo>
                <a:cubicBezTo>
                  <a:pt x="21466" y="7491"/>
                  <a:pt x="21366" y="7533"/>
                  <a:pt x="21332" y="7665"/>
                </a:cubicBezTo>
                <a:cubicBezTo>
                  <a:pt x="21291" y="7821"/>
                  <a:pt x="21466" y="7827"/>
                  <a:pt x="21555" y="7888"/>
                </a:cubicBezTo>
                <a:cubicBezTo>
                  <a:pt x="21594" y="7927"/>
                  <a:pt x="21611" y="7928"/>
                  <a:pt x="21605" y="7962"/>
                </a:cubicBezTo>
                <a:cubicBezTo>
                  <a:pt x="21564" y="7979"/>
                  <a:pt x="21353" y="8071"/>
                  <a:pt x="21357" y="7987"/>
                </a:cubicBezTo>
                <a:cubicBezTo>
                  <a:pt x="21363" y="7845"/>
                  <a:pt x="21515" y="7759"/>
                  <a:pt x="21555" y="7615"/>
                </a:cubicBezTo>
                <a:cubicBezTo>
                  <a:pt x="21555" y="7587"/>
                  <a:pt x="21553" y="7576"/>
                  <a:pt x="21530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66920" y="270504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3845" y="7615"/>
                </a:moveTo>
                <a:cubicBezTo>
                  <a:pt x="3823" y="7586"/>
                  <a:pt x="3812" y="7509"/>
                  <a:pt x="3795" y="7541"/>
                </a:cubicBezTo>
                <a:cubicBezTo>
                  <a:pt x="3748" y="7631"/>
                  <a:pt x="3831" y="7820"/>
                  <a:pt x="3845" y="7913"/>
                </a:cubicBezTo>
                <a:cubicBezTo>
                  <a:pt x="3845" y="7938"/>
                  <a:pt x="3845" y="7946"/>
                  <a:pt x="3845" y="7962"/>
                </a:cubicBezTo>
              </a:path>
              <a:path w="745" h="497">
                <a:moveTo>
                  <a:pt x="4118" y="7590"/>
                </a:moveTo>
                <a:cubicBezTo>
                  <a:pt x="4150" y="7526"/>
                  <a:pt x="4254" y="7481"/>
                  <a:pt x="4316" y="7565"/>
                </a:cubicBezTo>
                <a:cubicBezTo>
                  <a:pt x="4442" y="7736"/>
                  <a:pt x="4339" y="7934"/>
                  <a:pt x="4167" y="8012"/>
                </a:cubicBezTo>
                <a:cubicBezTo>
                  <a:pt x="4142" y="8012"/>
                  <a:pt x="4118" y="8012"/>
                  <a:pt x="4093" y="8012"/>
                </a:cubicBezTo>
                <a:cubicBezTo>
                  <a:pt x="4010" y="7957"/>
                  <a:pt x="4147" y="7860"/>
                  <a:pt x="4217" y="7838"/>
                </a:cubicBezTo>
                <a:cubicBezTo>
                  <a:pt x="4342" y="7799"/>
                  <a:pt x="4439" y="7857"/>
                  <a:pt x="4514" y="7938"/>
                </a:cubicBezTo>
                <a:cubicBezTo>
                  <a:pt x="4522" y="7946"/>
                  <a:pt x="4531" y="7954"/>
                  <a:pt x="4539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9080" y="5045040"/>
            <a:ext cx="768600" cy="1438200"/>
          </a:xfrm>
          <a:custGeom>
            <a:avLst/>
            <a:gdLst/>
            <a:ahLst/>
            <a:rect l="l" t="t" r="r" b="b"/>
            <a:pathLst>
              <a:path w="2134" h="3994">
                <a:moveTo>
                  <a:pt x="4688" y="14015"/>
                </a:moveTo>
                <a:lnTo>
                  <a:pt x="4688" y="14015"/>
                </a:lnTo>
              </a:path>
              <a:path w="2134" h="3994">
                <a:moveTo>
                  <a:pt x="2555" y="18008"/>
                </a:moveTo>
                <a:lnTo>
                  <a:pt x="2555" y="1800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55840" y="4321080"/>
            <a:ext cx="1554120" cy="73080"/>
          </a:xfrm>
          <a:custGeom>
            <a:avLst/>
            <a:gdLst/>
            <a:ahLst/>
            <a:rect l="l" t="t" r="r" b="b"/>
            <a:pathLst>
              <a:path w="4317" h="200">
                <a:moveTo>
                  <a:pt x="4043" y="12005"/>
                </a:moveTo>
                <a:cubicBezTo>
                  <a:pt x="4196" y="12040"/>
                  <a:pt x="4325" y="12175"/>
                  <a:pt x="4490" y="12204"/>
                </a:cubicBezTo>
                <a:cubicBezTo>
                  <a:pt x="4709" y="12243"/>
                  <a:pt x="4942" y="12145"/>
                  <a:pt x="5159" y="12129"/>
                </a:cubicBezTo>
                <a:cubicBezTo>
                  <a:pt x="5389" y="12112"/>
                  <a:pt x="5624" y="12119"/>
                  <a:pt x="5854" y="12105"/>
                </a:cubicBezTo>
                <a:cubicBezTo>
                  <a:pt x="6012" y="12095"/>
                  <a:pt x="6166" y="12080"/>
                  <a:pt x="6325" y="12080"/>
                </a:cubicBezTo>
                <a:cubicBezTo>
                  <a:pt x="6402" y="12080"/>
                  <a:pt x="6474" y="12090"/>
                  <a:pt x="6548" y="12105"/>
                </a:cubicBezTo>
                <a:cubicBezTo>
                  <a:pt x="6689" y="12134"/>
                  <a:pt x="6824" y="12129"/>
                  <a:pt x="6970" y="12129"/>
                </a:cubicBezTo>
                <a:cubicBezTo>
                  <a:pt x="7098" y="12129"/>
                  <a:pt x="7216" y="12109"/>
                  <a:pt x="7342" y="12105"/>
                </a:cubicBezTo>
                <a:cubicBezTo>
                  <a:pt x="7519" y="12100"/>
                  <a:pt x="7688" y="12114"/>
                  <a:pt x="7863" y="12129"/>
                </a:cubicBezTo>
                <a:cubicBezTo>
                  <a:pt x="7940" y="12136"/>
                  <a:pt x="8068" y="12158"/>
                  <a:pt x="8136" y="12154"/>
                </a:cubicBezTo>
                <a:cubicBezTo>
                  <a:pt x="8203" y="12150"/>
                  <a:pt x="8305" y="12107"/>
                  <a:pt x="8334" y="12080"/>
                </a:cubicBezTo>
                <a:cubicBezTo>
                  <a:pt x="8342" y="12063"/>
                  <a:pt x="8351" y="12047"/>
                  <a:pt x="8359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30840" y="173196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13692" y="4862"/>
                </a:moveTo>
                <a:cubicBezTo>
                  <a:pt x="13725" y="4813"/>
                  <a:pt x="13653" y="4817"/>
                  <a:pt x="13593" y="4812"/>
                </a:cubicBezTo>
                <a:cubicBezTo>
                  <a:pt x="13523" y="4807"/>
                  <a:pt x="13467" y="4877"/>
                  <a:pt x="13444" y="4936"/>
                </a:cubicBezTo>
                <a:cubicBezTo>
                  <a:pt x="13444" y="4961"/>
                  <a:pt x="13444" y="4969"/>
                  <a:pt x="13444" y="4986"/>
                </a:cubicBezTo>
                <a:cubicBezTo>
                  <a:pt x="13501" y="4986"/>
                  <a:pt x="13522" y="4996"/>
                  <a:pt x="13568" y="5011"/>
                </a:cubicBezTo>
                <a:cubicBezTo>
                  <a:pt x="13615" y="5027"/>
                  <a:pt x="13714" y="4979"/>
                  <a:pt x="13742" y="5035"/>
                </a:cubicBezTo>
                <a:cubicBezTo>
                  <a:pt x="13755" y="5060"/>
                  <a:pt x="13817" y="5105"/>
                  <a:pt x="13791" y="5159"/>
                </a:cubicBezTo>
                <a:cubicBezTo>
                  <a:pt x="13789" y="5163"/>
                  <a:pt x="13758" y="5217"/>
                  <a:pt x="13742" y="5234"/>
                </a:cubicBezTo>
                <a:cubicBezTo>
                  <a:pt x="13693" y="5286"/>
                  <a:pt x="13673" y="5303"/>
                  <a:pt x="13618" y="5308"/>
                </a:cubicBezTo>
                <a:cubicBezTo>
                  <a:pt x="13561" y="5313"/>
                  <a:pt x="13501" y="5308"/>
                  <a:pt x="13444" y="5308"/>
                </a:cubicBezTo>
                <a:cubicBezTo>
                  <a:pt x="13444" y="5264"/>
                  <a:pt x="13429" y="5248"/>
                  <a:pt x="13419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5: Expressions, Equations and Integ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04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67200"/>
            <a:ext cx="4116240" cy="1044720"/>
          </a:xfrm>
          <a:custGeom>
            <a:avLst/>
            <a:gdLst/>
            <a:ahLst/>
            <a:rect l="l" t="t" r="r" b="b"/>
            <a:pathLst>
              <a:path w="11436" h="2903">
                <a:moveTo>
                  <a:pt x="14610" y="13519"/>
                </a:moveTo>
                <a:cubicBezTo>
                  <a:pt x="14610" y="13527"/>
                  <a:pt x="14610" y="13535"/>
                  <a:pt x="14610" y="13543"/>
                </a:cubicBezTo>
              </a:path>
              <a:path w="11436" h="2903">
                <a:moveTo>
                  <a:pt x="3175" y="15726"/>
                </a:moveTo>
                <a:cubicBezTo>
                  <a:pt x="3229" y="15708"/>
                  <a:pt x="3290" y="15610"/>
                  <a:pt x="3373" y="15577"/>
                </a:cubicBezTo>
                <a:cubicBezTo>
                  <a:pt x="3451" y="15558"/>
                  <a:pt x="3468" y="15534"/>
                  <a:pt x="3497" y="15577"/>
                </a:cubicBezTo>
                <a:cubicBezTo>
                  <a:pt x="3525" y="15761"/>
                  <a:pt x="3458" y="15824"/>
                  <a:pt x="3324" y="15949"/>
                </a:cubicBezTo>
                <a:cubicBezTo>
                  <a:pt x="3218" y="15915"/>
                  <a:pt x="3422" y="15850"/>
                  <a:pt x="3448" y="15850"/>
                </a:cubicBezTo>
                <a:cubicBezTo>
                  <a:pt x="3602" y="15850"/>
                  <a:pt x="3599" y="15940"/>
                  <a:pt x="3621" y="16049"/>
                </a:cubicBezTo>
                <a:cubicBezTo>
                  <a:pt x="3484" y="16149"/>
                  <a:pt x="3413" y="16152"/>
                  <a:pt x="3249" y="16123"/>
                </a:cubicBezTo>
                <a:cubicBezTo>
                  <a:pt x="3215" y="16123"/>
                  <a:pt x="3211" y="16114"/>
                  <a:pt x="3249" y="16073"/>
                </a:cubicBezTo>
              </a:path>
              <a:path w="11436" h="2903">
                <a:moveTo>
                  <a:pt x="4018" y="15255"/>
                </a:moveTo>
                <a:cubicBezTo>
                  <a:pt x="3889" y="15515"/>
                  <a:pt x="3799" y="15752"/>
                  <a:pt x="3795" y="16049"/>
                </a:cubicBezTo>
                <a:cubicBezTo>
                  <a:pt x="3794" y="16147"/>
                  <a:pt x="3833" y="16388"/>
                  <a:pt x="3944" y="16421"/>
                </a:cubicBezTo>
                <a:cubicBezTo>
                  <a:pt x="3969" y="16421"/>
                  <a:pt x="3977" y="16421"/>
                  <a:pt x="3969" y="16396"/>
                </a:cubicBezTo>
              </a:path>
              <a:path w="11436" h="2903">
                <a:moveTo>
                  <a:pt x="6449" y="15329"/>
                </a:moveTo>
                <a:cubicBezTo>
                  <a:pt x="6579" y="15329"/>
                  <a:pt x="6713" y="15499"/>
                  <a:pt x="6772" y="15602"/>
                </a:cubicBezTo>
                <a:cubicBezTo>
                  <a:pt x="6887" y="15805"/>
                  <a:pt x="6895" y="16141"/>
                  <a:pt x="6722" y="16321"/>
                </a:cubicBezTo>
                <a:cubicBezTo>
                  <a:pt x="6680" y="16364"/>
                  <a:pt x="6586" y="16396"/>
                  <a:pt x="6524" y="16396"/>
                </a:cubicBezTo>
              </a:path>
              <a:path w="11436" h="2903">
                <a:moveTo>
                  <a:pt x="3423" y="15329"/>
                </a:moveTo>
                <a:cubicBezTo>
                  <a:pt x="3506" y="15220"/>
                  <a:pt x="3566" y="15154"/>
                  <a:pt x="3696" y="15106"/>
                </a:cubicBezTo>
                <a:cubicBezTo>
                  <a:pt x="3762" y="15082"/>
                  <a:pt x="3850" y="15035"/>
                  <a:pt x="3919" y="15032"/>
                </a:cubicBezTo>
                <a:cubicBezTo>
                  <a:pt x="4001" y="15028"/>
                  <a:pt x="4045" y="15043"/>
                  <a:pt x="4118" y="15056"/>
                </a:cubicBezTo>
                <a:cubicBezTo>
                  <a:pt x="4176" y="15066"/>
                  <a:pt x="4221" y="15101"/>
                  <a:pt x="4266" y="15131"/>
                </a:cubicBezTo>
                <a:cubicBezTo>
                  <a:pt x="4308" y="15159"/>
                  <a:pt x="4353" y="15197"/>
                  <a:pt x="4390" y="15230"/>
                </a:cubicBezTo>
                <a:cubicBezTo>
                  <a:pt x="4407" y="15246"/>
                  <a:pt x="4457" y="15299"/>
                  <a:pt x="4465" y="15304"/>
                </a:cubicBezTo>
                <a:cubicBezTo>
                  <a:pt x="4494" y="15323"/>
                  <a:pt x="4502" y="15317"/>
                  <a:pt x="4514" y="15354"/>
                </a:cubicBezTo>
              </a:path>
              <a:path w="11436" h="2903">
                <a:moveTo>
                  <a:pt x="4539" y="15974"/>
                </a:moveTo>
                <a:cubicBezTo>
                  <a:pt x="4473" y="15931"/>
                  <a:pt x="4531" y="15809"/>
                  <a:pt x="4614" y="15776"/>
                </a:cubicBezTo>
                <a:cubicBezTo>
                  <a:pt x="4639" y="15776"/>
                  <a:pt x="4663" y="15776"/>
                  <a:pt x="4688" y="15776"/>
                </a:cubicBezTo>
                <a:cubicBezTo>
                  <a:pt x="4774" y="15989"/>
                  <a:pt x="4732" y="16127"/>
                  <a:pt x="4514" y="16247"/>
                </a:cubicBezTo>
                <a:cubicBezTo>
                  <a:pt x="4392" y="16288"/>
                  <a:pt x="4369" y="16305"/>
                  <a:pt x="4291" y="16297"/>
                </a:cubicBezTo>
                <a:cubicBezTo>
                  <a:pt x="4305" y="16111"/>
                  <a:pt x="4360" y="16041"/>
                  <a:pt x="4564" y="16049"/>
                </a:cubicBezTo>
                <a:cubicBezTo>
                  <a:pt x="4656" y="16053"/>
                  <a:pt x="4670" y="16196"/>
                  <a:pt x="4762" y="16197"/>
                </a:cubicBezTo>
                <a:cubicBezTo>
                  <a:pt x="4770" y="16189"/>
                  <a:pt x="4779" y="16181"/>
                  <a:pt x="4787" y="16173"/>
                </a:cubicBezTo>
              </a:path>
              <a:path w="11436" h="2903">
                <a:moveTo>
                  <a:pt x="5308" y="15825"/>
                </a:moveTo>
                <a:cubicBezTo>
                  <a:pt x="5313" y="15907"/>
                  <a:pt x="5297" y="16094"/>
                  <a:pt x="5358" y="16073"/>
                </a:cubicBezTo>
              </a:path>
              <a:path w="11436" h="2903">
                <a:moveTo>
                  <a:pt x="5159" y="15999"/>
                </a:moveTo>
                <a:cubicBezTo>
                  <a:pt x="5265" y="15978"/>
                  <a:pt x="5441" y="15935"/>
                  <a:pt x="5507" y="15949"/>
                </a:cubicBezTo>
                <a:cubicBezTo>
                  <a:pt x="5531" y="15949"/>
                  <a:pt x="5540" y="15949"/>
                  <a:pt x="5556" y="15949"/>
                </a:cubicBezTo>
              </a:path>
              <a:path w="11436" h="2903">
                <a:moveTo>
                  <a:pt x="6028" y="15677"/>
                </a:moveTo>
                <a:cubicBezTo>
                  <a:pt x="5919" y="15698"/>
                  <a:pt x="5859" y="15672"/>
                  <a:pt x="5829" y="15751"/>
                </a:cubicBezTo>
                <a:cubicBezTo>
                  <a:pt x="5798" y="15814"/>
                  <a:pt x="5789" y="15845"/>
                  <a:pt x="5804" y="15900"/>
                </a:cubicBezTo>
                <a:cubicBezTo>
                  <a:pt x="5880" y="15889"/>
                  <a:pt x="6083" y="15801"/>
                  <a:pt x="6152" y="15850"/>
                </a:cubicBezTo>
                <a:cubicBezTo>
                  <a:pt x="6307" y="15959"/>
                  <a:pt x="6173" y="16091"/>
                  <a:pt x="6052" y="16098"/>
                </a:cubicBezTo>
                <a:cubicBezTo>
                  <a:pt x="5956" y="16098"/>
                  <a:pt x="5926" y="16100"/>
                  <a:pt x="5879" y="16049"/>
                </a:cubicBezTo>
              </a:path>
              <a:path w="11436" h="2903">
                <a:moveTo>
                  <a:pt x="3398" y="15354"/>
                </a:moveTo>
                <a:cubicBezTo>
                  <a:pt x="3403" y="15301"/>
                  <a:pt x="3413" y="15254"/>
                  <a:pt x="3423" y="15230"/>
                </a:cubicBezTo>
                <a:cubicBezTo>
                  <a:pt x="3441" y="15188"/>
                  <a:pt x="3464" y="15146"/>
                  <a:pt x="3497" y="15106"/>
                </a:cubicBezTo>
                <a:cubicBezTo>
                  <a:pt x="3547" y="15044"/>
                  <a:pt x="3588" y="15028"/>
                  <a:pt x="3646" y="14982"/>
                </a:cubicBezTo>
                <a:cubicBezTo>
                  <a:pt x="3720" y="14923"/>
                  <a:pt x="3752" y="14890"/>
                  <a:pt x="3845" y="14858"/>
                </a:cubicBezTo>
                <a:cubicBezTo>
                  <a:pt x="3965" y="14816"/>
                  <a:pt x="4065" y="14766"/>
                  <a:pt x="4192" y="14734"/>
                </a:cubicBezTo>
                <a:cubicBezTo>
                  <a:pt x="4279" y="14712"/>
                  <a:pt x="4352" y="14687"/>
                  <a:pt x="4440" y="14684"/>
                </a:cubicBezTo>
                <a:cubicBezTo>
                  <a:pt x="4546" y="14680"/>
                  <a:pt x="4637" y="14698"/>
                  <a:pt x="4738" y="14709"/>
                </a:cubicBezTo>
                <a:cubicBezTo>
                  <a:pt x="4853" y="14721"/>
                  <a:pt x="4930" y="14760"/>
                  <a:pt x="5035" y="14808"/>
                </a:cubicBezTo>
                <a:cubicBezTo>
                  <a:pt x="5096" y="14836"/>
                  <a:pt x="5158" y="14865"/>
                  <a:pt x="5209" y="14908"/>
                </a:cubicBezTo>
                <a:cubicBezTo>
                  <a:pt x="5273" y="14963"/>
                  <a:pt x="5315" y="15038"/>
                  <a:pt x="5358" y="15106"/>
                </a:cubicBezTo>
                <a:cubicBezTo>
                  <a:pt x="5398" y="15169"/>
                  <a:pt x="5446" y="15268"/>
                  <a:pt x="5507" y="15304"/>
                </a:cubicBezTo>
                <a:cubicBezTo>
                  <a:pt x="5600" y="15360"/>
                  <a:pt x="5671" y="15423"/>
                  <a:pt x="5755" y="15503"/>
                </a:cubicBezTo>
                <a:cubicBezTo>
                  <a:pt x="5801" y="15547"/>
                  <a:pt x="5827" y="15581"/>
                  <a:pt x="5854" y="15627"/>
                </a:cubicBezTo>
                <a:cubicBezTo>
                  <a:pt x="5859" y="15636"/>
                  <a:pt x="5868" y="15654"/>
                  <a:pt x="5879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60840" y="5018040"/>
            <a:ext cx="1519200" cy="152280"/>
          </a:xfrm>
          <a:custGeom>
            <a:avLst/>
            <a:gdLst/>
            <a:ahLst/>
            <a:rect l="l" t="t" r="r" b="b"/>
            <a:pathLst>
              <a:path w="4218" h="423">
                <a:moveTo>
                  <a:pt x="10939" y="14362"/>
                </a:moveTo>
                <a:cubicBezTo>
                  <a:pt x="11043" y="14362"/>
                  <a:pt x="11137" y="14348"/>
                  <a:pt x="11237" y="14337"/>
                </a:cubicBezTo>
                <a:cubicBezTo>
                  <a:pt x="11296" y="14330"/>
                  <a:pt x="11290" y="14324"/>
                  <a:pt x="11336" y="14312"/>
                </a:cubicBezTo>
                <a:cubicBezTo>
                  <a:pt x="11203" y="14312"/>
                  <a:pt x="11170" y="14297"/>
                  <a:pt x="11038" y="14288"/>
                </a:cubicBezTo>
                <a:cubicBezTo>
                  <a:pt x="10853" y="14276"/>
                  <a:pt x="10587" y="14277"/>
                  <a:pt x="10443" y="14312"/>
                </a:cubicBezTo>
                <a:cubicBezTo>
                  <a:pt x="10633" y="14255"/>
                  <a:pt x="10821" y="14217"/>
                  <a:pt x="11013" y="14188"/>
                </a:cubicBezTo>
                <a:cubicBezTo>
                  <a:pt x="11194" y="14160"/>
                  <a:pt x="11372" y="14184"/>
                  <a:pt x="11559" y="14163"/>
                </a:cubicBezTo>
                <a:cubicBezTo>
                  <a:pt x="11839" y="14131"/>
                  <a:pt x="12121" y="14101"/>
                  <a:pt x="12402" y="14089"/>
                </a:cubicBezTo>
                <a:cubicBezTo>
                  <a:pt x="12643" y="14079"/>
                  <a:pt x="12880" y="14064"/>
                  <a:pt x="13122" y="14064"/>
                </a:cubicBezTo>
                <a:cubicBezTo>
                  <a:pt x="13318" y="14064"/>
                  <a:pt x="13523" y="14046"/>
                  <a:pt x="13717" y="14015"/>
                </a:cubicBezTo>
                <a:cubicBezTo>
                  <a:pt x="13888" y="13987"/>
                  <a:pt x="14066" y="13957"/>
                  <a:pt x="14238" y="13940"/>
                </a:cubicBezTo>
                <a:cubicBezTo>
                  <a:pt x="14287" y="13935"/>
                  <a:pt x="14337" y="13942"/>
                  <a:pt x="14387" y="13940"/>
                </a:cubicBezTo>
                <a:cubicBezTo>
                  <a:pt x="14218" y="13951"/>
                  <a:pt x="14060" y="13989"/>
                  <a:pt x="13891" y="14015"/>
                </a:cubicBezTo>
                <a:cubicBezTo>
                  <a:pt x="13428" y="14087"/>
                  <a:pt x="12945" y="14142"/>
                  <a:pt x="12477" y="14163"/>
                </a:cubicBezTo>
                <a:cubicBezTo>
                  <a:pt x="12171" y="14177"/>
                  <a:pt x="11866" y="14188"/>
                  <a:pt x="11559" y="14188"/>
                </a:cubicBezTo>
                <a:cubicBezTo>
                  <a:pt x="11325" y="14188"/>
                  <a:pt x="11096" y="14200"/>
                  <a:pt x="10864" y="14213"/>
                </a:cubicBezTo>
                <a:cubicBezTo>
                  <a:pt x="10653" y="14225"/>
                  <a:pt x="10454" y="14240"/>
                  <a:pt x="10244" y="14263"/>
                </a:cubicBezTo>
                <a:cubicBezTo>
                  <a:pt x="10191" y="14269"/>
                  <a:pt x="10185" y="14284"/>
                  <a:pt x="10170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7240" y="4660920"/>
            <a:ext cx="1946520" cy="36360"/>
          </a:xfrm>
          <a:custGeom>
            <a:avLst/>
            <a:gdLst/>
            <a:ahLst/>
            <a:rect l="l" t="t" r="r" b="b"/>
            <a:pathLst>
              <a:path w="5408" h="100">
                <a:moveTo>
                  <a:pt x="14908" y="12973"/>
                </a:moveTo>
                <a:cubicBezTo>
                  <a:pt x="14916" y="12974"/>
                  <a:pt x="14963" y="12997"/>
                  <a:pt x="15007" y="12998"/>
                </a:cubicBezTo>
                <a:cubicBezTo>
                  <a:pt x="15124" y="13002"/>
                  <a:pt x="15235" y="12975"/>
                  <a:pt x="15354" y="12973"/>
                </a:cubicBezTo>
                <a:cubicBezTo>
                  <a:pt x="15595" y="12969"/>
                  <a:pt x="15837" y="12964"/>
                  <a:pt x="16073" y="12948"/>
                </a:cubicBezTo>
                <a:cubicBezTo>
                  <a:pt x="16330" y="12931"/>
                  <a:pt x="16592" y="12955"/>
                  <a:pt x="16842" y="12973"/>
                </a:cubicBezTo>
                <a:cubicBezTo>
                  <a:pt x="16987" y="12984"/>
                  <a:pt x="17120" y="13008"/>
                  <a:pt x="17264" y="13022"/>
                </a:cubicBezTo>
                <a:cubicBezTo>
                  <a:pt x="17510" y="13047"/>
                  <a:pt x="17765" y="13013"/>
                  <a:pt x="18008" y="12998"/>
                </a:cubicBezTo>
                <a:cubicBezTo>
                  <a:pt x="18161" y="12988"/>
                  <a:pt x="18304" y="13019"/>
                  <a:pt x="18455" y="13022"/>
                </a:cubicBezTo>
                <a:cubicBezTo>
                  <a:pt x="18590" y="13025"/>
                  <a:pt x="18745" y="13062"/>
                  <a:pt x="18876" y="13047"/>
                </a:cubicBezTo>
                <a:cubicBezTo>
                  <a:pt x="19015" y="13031"/>
                  <a:pt x="19158" y="13037"/>
                  <a:pt x="19298" y="13022"/>
                </a:cubicBezTo>
                <a:cubicBezTo>
                  <a:pt x="19535" y="12996"/>
                  <a:pt x="19778" y="12977"/>
                  <a:pt x="20017" y="12973"/>
                </a:cubicBezTo>
                <a:cubicBezTo>
                  <a:pt x="20116" y="12971"/>
                  <a:pt x="20216" y="12973"/>
                  <a:pt x="2031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Distributive property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ou can multiply a number and a sum by multiplying the number by each part of the sum and then adding these products.</a:t>
            </a:r>
            <a:r>
              <a:rPr b="0" lang="en-US" sz="3200" spc="-1" strike="noStrike">
                <a:solidFill>
                  <a:srgbClr val="004c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80880"/>
            <a:ext cx="6400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10320" y="2652840"/>
            <a:ext cx="366840" cy="106200"/>
          </a:xfrm>
          <a:custGeom>
            <a:avLst/>
            <a:gdLst/>
            <a:ahLst/>
            <a:rect l="l" t="t" r="r" b="b"/>
            <a:pathLst>
              <a:path w="1018" h="299">
                <a:moveTo>
                  <a:pt x="20861" y="7541"/>
                </a:moveTo>
                <a:lnTo>
                  <a:pt x="20861" y="7541"/>
                </a:lnTo>
                <a:lnTo>
                  <a:pt x="20861" y="7541"/>
                </a:lnTo>
              </a:path>
              <a:path w="1018" h="299">
                <a:moveTo>
                  <a:pt x="20861" y="7541"/>
                </a:moveTo>
                <a:lnTo>
                  <a:pt x="20861" y="7541"/>
                </a:lnTo>
              </a:path>
              <a:path w="1018" h="299">
                <a:moveTo>
                  <a:pt x="21059" y="7665"/>
                </a:moveTo>
                <a:cubicBezTo>
                  <a:pt x="21182" y="7631"/>
                  <a:pt x="21304" y="7561"/>
                  <a:pt x="21431" y="7516"/>
                </a:cubicBezTo>
              </a:path>
              <a:path w="1018" h="299">
                <a:moveTo>
                  <a:pt x="21456" y="7516"/>
                </a:moveTo>
                <a:cubicBezTo>
                  <a:pt x="21598" y="7458"/>
                  <a:pt x="21731" y="7408"/>
                  <a:pt x="21878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955960"/>
            <a:ext cx="1620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9745" y="8458"/>
                </a:moveTo>
                <a:cubicBezTo>
                  <a:pt x="19719" y="8548"/>
                  <a:pt x="19655" y="8634"/>
                  <a:pt x="19720" y="8731"/>
                </a:cubicBezTo>
                <a:cubicBezTo>
                  <a:pt x="19802" y="8852"/>
                  <a:pt x="19930" y="8665"/>
                  <a:pt x="19918" y="8582"/>
                </a:cubicBezTo>
                <a:cubicBezTo>
                  <a:pt x="19910" y="8526"/>
                  <a:pt x="19837" y="8494"/>
                  <a:pt x="19794" y="8483"/>
                </a:cubicBezTo>
              </a:path>
              <a:path w="447" h="522">
                <a:moveTo>
                  <a:pt x="19918" y="8434"/>
                </a:moveTo>
                <a:cubicBezTo>
                  <a:pt x="19964" y="8480"/>
                  <a:pt x="19977" y="8494"/>
                  <a:pt x="20017" y="8508"/>
                </a:cubicBezTo>
                <a:cubicBezTo>
                  <a:pt x="19980" y="8396"/>
                  <a:pt x="19936" y="8372"/>
                  <a:pt x="20017" y="8260"/>
                </a:cubicBezTo>
                <a:cubicBezTo>
                  <a:pt x="20063" y="8197"/>
                  <a:pt x="20076" y="8210"/>
                  <a:pt x="20141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2960" y="2303640"/>
            <a:ext cx="1162080" cy="652320"/>
          </a:xfrm>
          <a:custGeom>
            <a:avLst/>
            <a:gdLst/>
            <a:ahLst/>
            <a:rect l="l" t="t" r="r" b="b"/>
            <a:pathLst>
              <a:path w="3226" h="1811">
                <a:moveTo>
                  <a:pt x="20762" y="7962"/>
                </a:moveTo>
                <a:cubicBezTo>
                  <a:pt x="20762" y="7922"/>
                  <a:pt x="20751" y="7903"/>
                  <a:pt x="20712" y="7888"/>
                </a:cubicBezTo>
                <a:cubicBezTo>
                  <a:pt x="20610" y="7909"/>
                  <a:pt x="20506" y="7998"/>
                  <a:pt x="20538" y="8136"/>
                </a:cubicBezTo>
                <a:cubicBezTo>
                  <a:pt x="20555" y="8161"/>
                  <a:pt x="20571" y="8185"/>
                  <a:pt x="20588" y="8210"/>
                </a:cubicBezTo>
                <a:cubicBezTo>
                  <a:pt x="20792" y="8190"/>
                  <a:pt x="20784" y="8151"/>
                  <a:pt x="20811" y="7962"/>
                </a:cubicBezTo>
              </a:path>
              <a:path w="3226" h="1811">
                <a:moveTo>
                  <a:pt x="20563" y="7615"/>
                </a:moveTo>
                <a:cubicBezTo>
                  <a:pt x="20665" y="7683"/>
                  <a:pt x="20759" y="7854"/>
                  <a:pt x="20836" y="7962"/>
                </a:cubicBezTo>
                <a:cubicBezTo>
                  <a:pt x="20890" y="8038"/>
                  <a:pt x="20866" y="8067"/>
                  <a:pt x="20910" y="8037"/>
                </a:cubicBezTo>
              </a:path>
              <a:path w="3226" h="1811">
                <a:moveTo>
                  <a:pt x="20886" y="7789"/>
                </a:moveTo>
                <a:cubicBezTo>
                  <a:pt x="20914" y="7845"/>
                  <a:pt x="20979" y="8001"/>
                  <a:pt x="20985" y="7938"/>
                </a:cubicBezTo>
                <a:cubicBezTo>
                  <a:pt x="20985" y="7913"/>
                  <a:pt x="20985" y="7888"/>
                  <a:pt x="20985" y="7863"/>
                </a:cubicBezTo>
              </a:path>
              <a:path w="3226" h="1811">
                <a:moveTo>
                  <a:pt x="21208" y="7342"/>
                </a:moveTo>
                <a:cubicBezTo>
                  <a:pt x="21187" y="7314"/>
                  <a:pt x="21149" y="7294"/>
                  <a:pt x="21109" y="7268"/>
                </a:cubicBezTo>
                <a:cubicBezTo>
                  <a:pt x="21054" y="7430"/>
                  <a:pt x="21144" y="7479"/>
                  <a:pt x="21233" y="7615"/>
                </a:cubicBezTo>
                <a:cubicBezTo>
                  <a:pt x="21290" y="7701"/>
                  <a:pt x="21280" y="7745"/>
                  <a:pt x="21357" y="7764"/>
                </a:cubicBezTo>
              </a:path>
              <a:path w="3226" h="1811">
                <a:moveTo>
                  <a:pt x="21704" y="7119"/>
                </a:moveTo>
                <a:cubicBezTo>
                  <a:pt x="21632" y="7119"/>
                  <a:pt x="21527" y="7097"/>
                  <a:pt x="21506" y="7193"/>
                </a:cubicBezTo>
                <a:cubicBezTo>
                  <a:pt x="21479" y="7313"/>
                  <a:pt x="21658" y="7458"/>
                  <a:pt x="21729" y="7541"/>
                </a:cubicBezTo>
                <a:cubicBezTo>
                  <a:pt x="21754" y="7565"/>
                  <a:pt x="21763" y="7573"/>
                  <a:pt x="21779" y="7590"/>
                </a:cubicBezTo>
              </a:path>
              <a:path w="3226" h="1811">
                <a:moveTo>
                  <a:pt x="21903" y="7367"/>
                </a:moveTo>
                <a:cubicBezTo>
                  <a:pt x="21959" y="7354"/>
                  <a:pt x="22068" y="7328"/>
                  <a:pt x="22101" y="7268"/>
                </a:cubicBezTo>
                <a:cubicBezTo>
                  <a:pt x="22101" y="7260"/>
                  <a:pt x="22101" y="7251"/>
                  <a:pt x="22101" y="7243"/>
                </a:cubicBezTo>
                <a:cubicBezTo>
                  <a:pt x="22032" y="7243"/>
                  <a:pt x="21897" y="7214"/>
                  <a:pt x="21927" y="7342"/>
                </a:cubicBezTo>
                <a:cubicBezTo>
                  <a:pt x="21971" y="7527"/>
                  <a:pt x="22099" y="7504"/>
                  <a:pt x="22200" y="7392"/>
                </a:cubicBezTo>
                <a:cubicBezTo>
                  <a:pt x="22252" y="7334"/>
                  <a:pt x="22368" y="7329"/>
                  <a:pt x="22299" y="7293"/>
                </a:cubicBezTo>
                <a:cubicBezTo>
                  <a:pt x="22291" y="7285"/>
                  <a:pt x="22283" y="7276"/>
                  <a:pt x="22275" y="7268"/>
                </a:cubicBezTo>
                <a:cubicBezTo>
                  <a:pt x="22256" y="7147"/>
                  <a:pt x="22246" y="7032"/>
                  <a:pt x="22399" y="6995"/>
                </a:cubicBezTo>
                <a:cubicBezTo>
                  <a:pt x="22432" y="6995"/>
                  <a:pt x="22465" y="6995"/>
                  <a:pt x="22498" y="6995"/>
                </a:cubicBezTo>
              </a:path>
              <a:path w="3226" h="1811">
                <a:moveTo>
                  <a:pt x="22622" y="7069"/>
                </a:moveTo>
                <a:cubicBezTo>
                  <a:pt x="22645" y="7023"/>
                  <a:pt x="22688" y="6970"/>
                  <a:pt x="22721" y="6921"/>
                </a:cubicBezTo>
                <a:cubicBezTo>
                  <a:pt x="22644" y="6905"/>
                  <a:pt x="22557" y="7017"/>
                  <a:pt x="22622" y="7119"/>
                </a:cubicBezTo>
                <a:cubicBezTo>
                  <a:pt x="22714" y="7264"/>
                  <a:pt x="22809" y="7126"/>
                  <a:pt x="22870" y="7069"/>
                </a:cubicBezTo>
              </a:path>
              <a:path w="3226" h="1811">
                <a:moveTo>
                  <a:pt x="22920" y="6921"/>
                </a:moveTo>
                <a:cubicBezTo>
                  <a:pt x="22920" y="6989"/>
                  <a:pt x="22917" y="7008"/>
                  <a:pt x="22944" y="7045"/>
                </a:cubicBezTo>
                <a:cubicBezTo>
                  <a:pt x="22928" y="6961"/>
                  <a:pt x="22902" y="6885"/>
                  <a:pt x="22895" y="6796"/>
                </a:cubicBezTo>
                <a:cubicBezTo>
                  <a:pt x="23003" y="6751"/>
                  <a:pt x="23097" y="6788"/>
                  <a:pt x="23168" y="6896"/>
                </a:cubicBezTo>
                <a:cubicBezTo>
                  <a:pt x="23177" y="6910"/>
                  <a:pt x="23253" y="7087"/>
                  <a:pt x="23168" y="6970"/>
                </a:cubicBezTo>
              </a:path>
              <a:path w="3226" h="1811">
                <a:moveTo>
                  <a:pt x="23316" y="6573"/>
                </a:moveTo>
                <a:cubicBezTo>
                  <a:pt x="23341" y="6573"/>
                  <a:pt x="23349" y="6573"/>
                  <a:pt x="23341" y="6548"/>
                </a:cubicBezTo>
                <a:cubicBezTo>
                  <a:pt x="23223" y="6565"/>
                  <a:pt x="23202" y="6680"/>
                  <a:pt x="23217" y="6796"/>
                </a:cubicBezTo>
                <a:cubicBezTo>
                  <a:pt x="23229" y="6888"/>
                  <a:pt x="23381" y="6787"/>
                  <a:pt x="23465" y="6747"/>
                </a:cubicBezTo>
              </a:path>
              <a:path w="3226" h="1811">
                <a:moveTo>
                  <a:pt x="23540" y="6524"/>
                </a:moveTo>
                <a:cubicBezTo>
                  <a:pt x="23551" y="6489"/>
                  <a:pt x="23583" y="6499"/>
                  <a:pt x="23589" y="6449"/>
                </a:cubicBezTo>
                <a:cubicBezTo>
                  <a:pt x="23589" y="6424"/>
                  <a:pt x="23589" y="6416"/>
                  <a:pt x="23589" y="6400"/>
                </a:cubicBezTo>
                <a:cubicBezTo>
                  <a:pt x="23485" y="6426"/>
                  <a:pt x="23435" y="6530"/>
                  <a:pt x="23440" y="6648"/>
                </a:cubicBezTo>
                <a:cubicBezTo>
                  <a:pt x="23446" y="6794"/>
                  <a:pt x="23688" y="6685"/>
                  <a:pt x="23738" y="6648"/>
                </a:cubicBezTo>
                <a:cubicBezTo>
                  <a:pt x="23738" y="6623"/>
                  <a:pt x="23738" y="6615"/>
                  <a:pt x="23763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24040" y="3911760"/>
            <a:ext cx="1062000" cy="268200"/>
          </a:xfrm>
          <a:custGeom>
            <a:avLst/>
            <a:gdLst/>
            <a:ahLst/>
            <a:rect l="l" t="t" r="r" b="b"/>
            <a:pathLst>
              <a:path w="2953" h="746">
                <a:moveTo>
                  <a:pt x="4936" y="11385"/>
                </a:moveTo>
                <a:cubicBezTo>
                  <a:pt x="4868" y="11385"/>
                  <a:pt x="4808" y="11405"/>
                  <a:pt x="4787" y="11485"/>
                </a:cubicBezTo>
                <a:cubicBezTo>
                  <a:pt x="4787" y="11563"/>
                  <a:pt x="4772" y="11581"/>
                  <a:pt x="4812" y="11609"/>
                </a:cubicBezTo>
                <a:cubicBezTo>
                  <a:pt x="4857" y="11571"/>
                  <a:pt x="5010" y="11481"/>
                  <a:pt x="4911" y="11410"/>
                </a:cubicBezTo>
                <a:cubicBezTo>
                  <a:pt x="4854" y="11391"/>
                  <a:pt x="4847" y="11382"/>
                  <a:pt x="4812" y="11385"/>
                </a:cubicBezTo>
              </a:path>
              <a:path w="2953" h="746">
                <a:moveTo>
                  <a:pt x="5060" y="11435"/>
                </a:moveTo>
                <a:cubicBezTo>
                  <a:pt x="5046" y="11392"/>
                  <a:pt x="5000" y="11254"/>
                  <a:pt x="5035" y="11212"/>
                </a:cubicBezTo>
                <a:cubicBezTo>
                  <a:pt x="5086" y="11212"/>
                  <a:pt x="5119" y="11206"/>
                  <a:pt x="5159" y="11187"/>
                </a:cubicBezTo>
              </a:path>
              <a:path w="2953" h="746">
                <a:moveTo>
                  <a:pt x="5531" y="11212"/>
                </a:moveTo>
                <a:cubicBezTo>
                  <a:pt x="5519" y="11161"/>
                  <a:pt x="5470" y="11121"/>
                  <a:pt x="5407" y="11137"/>
                </a:cubicBezTo>
                <a:cubicBezTo>
                  <a:pt x="5300" y="11164"/>
                  <a:pt x="5333" y="11328"/>
                  <a:pt x="5333" y="11410"/>
                </a:cubicBezTo>
                <a:cubicBezTo>
                  <a:pt x="5471" y="11364"/>
                  <a:pt x="5531" y="11353"/>
                  <a:pt x="5556" y="11212"/>
                </a:cubicBezTo>
              </a:path>
              <a:path w="2953" h="746">
                <a:moveTo>
                  <a:pt x="5482" y="11013"/>
                </a:moveTo>
                <a:cubicBezTo>
                  <a:pt x="5524" y="11111"/>
                  <a:pt x="5610" y="11208"/>
                  <a:pt x="5655" y="11311"/>
                </a:cubicBezTo>
                <a:cubicBezTo>
                  <a:pt x="5657" y="11316"/>
                  <a:pt x="5655" y="11405"/>
                  <a:pt x="5655" y="11336"/>
                </a:cubicBezTo>
              </a:path>
              <a:path w="2953" h="746">
                <a:moveTo>
                  <a:pt x="5705" y="11112"/>
                </a:moveTo>
                <a:cubicBezTo>
                  <a:pt x="5721" y="11138"/>
                  <a:pt x="5792" y="11270"/>
                  <a:pt x="5779" y="11212"/>
                </a:cubicBezTo>
                <a:cubicBezTo>
                  <a:pt x="5755" y="11104"/>
                  <a:pt x="5733" y="11056"/>
                  <a:pt x="5655" y="10988"/>
                </a:cubicBezTo>
              </a:path>
              <a:path w="2953" h="746">
                <a:moveTo>
                  <a:pt x="5978" y="10939"/>
                </a:moveTo>
                <a:cubicBezTo>
                  <a:pt x="5968" y="10909"/>
                  <a:pt x="5936" y="10897"/>
                  <a:pt x="5904" y="10864"/>
                </a:cubicBezTo>
                <a:cubicBezTo>
                  <a:pt x="5870" y="11013"/>
                  <a:pt x="5886" y="11084"/>
                  <a:pt x="5978" y="11212"/>
                </a:cubicBezTo>
                <a:cubicBezTo>
                  <a:pt x="6000" y="11234"/>
                  <a:pt x="6009" y="11239"/>
                  <a:pt x="6003" y="11261"/>
                </a:cubicBezTo>
              </a:path>
              <a:path w="2953" h="746">
                <a:moveTo>
                  <a:pt x="5804" y="11137"/>
                </a:moveTo>
                <a:cubicBezTo>
                  <a:pt x="5914" y="11124"/>
                  <a:pt x="5994" y="11097"/>
                  <a:pt x="6102" y="11063"/>
                </a:cubicBezTo>
              </a:path>
              <a:path w="2953" h="746">
                <a:moveTo>
                  <a:pt x="6375" y="10964"/>
                </a:moveTo>
                <a:cubicBezTo>
                  <a:pt x="6375" y="10863"/>
                  <a:pt x="6353" y="10870"/>
                  <a:pt x="6251" y="10864"/>
                </a:cubicBezTo>
                <a:cubicBezTo>
                  <a:pt x="6103" y="10855"/>
                  <a:pt x="6230" y="11044"/>
                  <a:pt x="6251" y="11088"/>
                </a:cubicBezTo>
                <a:cubicBezTo>
                  <a:pt x="6284" y="11156"/>
                  <a:pt x="6314" y="11199"/>
                  <a:pt x="6350" y="11261"/>
                </a:cubicBezTo>
              </a:path>
              <a:path w="2953" h="746">
                <a:moveTo>
                  <a:pt x="6176" y="11162"/>
                </a:moveTo>
                <a:cubicBezTo>
                  <a:pt x="6290" y="11135"/>
                  <a:pt x="6443" y="11130"/>
                  <a:pt x="6548" y="11088"/>
                </a:cubicBezTo>
                <a:cubicBezTo>
                  <a:pt x="6556" y="11080"/>
                  <a:pt x="6565" y="11071"/>
                  <a:pt x="6573" y="11063"/>
                </a:cubicBezTo>
                <a:cubicBezTo>
                  <a:pt x="6557" y="11047"/>
                  <a:pt x="6490" y="10966"/>
                  <a:pt x="6474" y="11038"/>
                </a:cubicBezTo>
                <a:cubicBezTo>
                  <a:pt x="6450" y="11147"/>
                  <a:pt x="6506" y="11176"/>
                  <a:pt x="6573" y="11237"/>
                </a:cubicBezTo>
                <a:cubicBezTo>
                  <a:pt x="6624" y="11176"/>
                  <a:pt x="6646" y="11128"/>
                  <a:pt x="6672" y="11137"/>
                </a:cubicBezTo>
                <a:cubicBezTo>
                  <a:pt x="6680" y="11137"/>
                  <a:pt x="6689" y="11137"/>
                  <a:pt x="6697" y="11137"/>
                </a:cubicBezTo>
                <a:cubicBezTo>
                  <a:pt x="6697" y="11076"/>
                  <a:pt x="6673" y="10983"/>
                  <a:pt x="6722" y="10964"/>
                </a:cubicBezTo>
                <a:cubicBezTo>
                  <a:pt x="6747" y="10956"/>
                  <a:pt x="6771" y="10947"/>
                  <a:pt x="6796" y="10939"/>
                </a:cubicBezTo>
              </a:path>
              <a:path w="2953" h="746">
                <a:moveTo>
                  <a:pt x="6871" y="11038"/>
                </a:moveTo>
                <a:cubicBezTo>
                  <a:pt x="6956" y="11017"/>
                  <a:pt x="6970" y="11006"/>
                  <a:pt x="6970" y="10914"/>
                </a:cubicBezTo>
                <a:cubicBezTo>
                  <a:pt x="6923" y="10955"/>
                  <a:pt x="6759" y="11164"/>
                  <a:pt x="6921" y="11187"/>
                </a:cubicBezTo>
                <a:cubicBezTo>
                  <a:pt x="7005" y="11159"/>
                  <a:pt x="7035" y="11140"/>
                  <a:pt x="7045" y="11063"/>
                </a:cubicBezTo>
                <a:cubicBezTo>
                  <a:pt x="7045" y="11017"/>
                  <a:pt x="7050" y="11086"/>
                  <a:pt x="7069" y="11112"/>
                </a:cubicBezTo>
                <a:cubicBezTo>
                  <a:pt x="7069" y="11177"/>
                  <a:pt x="7041" y="11006"/>
                  <a:pt x="7045" y="10988"/>
                </a:cubicBezTo>
                <a:cubicBezTo>
                  <a:pt x="7053" y="10980"/>
                  <a:pt x="7061" y="10972"/>
                  <a:pt x="7069" y="10964"/>
                </a:cubicBezTo>
                <a:cubicBezTo>
                  <a:pt x="7238" y="11006"/>
                  <a:pt x="7173" y="11069"/>
                  <a:pt x="7268" y="11187"/>
                </a:cubicBezTo>
                <a:cubicBezTo>
                  <a:pt x="7268" y="11179"/>
                  <a:pt x="7268" y="11170"/>
                  <a:pt x="7268" y="11162"/>
                </a:cubicBezTo>
              </a:path>
              <a:path w="2953" h="746">
                <a:moveTo>
                  <a:pt x="7417" y="10988"/>
                </a:moveTo>
                <a:cubicBezTo>
                  <a:pt x="7457" y="11008"/>
                  <a:pt x="7473" y="11027"/>
                  <a:pt x="7466" y="10988"/>
                </a:cubicBezTo>
                <a:cubicBezTo>
                  <a:pt x="7371" y="10914"/>
                  <a:pt x="7331" y="10991"/>
                  <a:pt x="7392" y="11088"/>
                </a:cubicBezTo>
                <a:cubicBezTo>
                  <a:pt x="7467" y="11207"/>
                  <a:pt x="7499" y="11162"/>
                  <a:pt x="7590" y="11112"/>
                </a:cubicBezTo>
              </a:path>
              <a:path w="2953" h="746">
                <a:moveTo>
                  <a:pt x="7640" y="11013"/>
                </a:moveTo>
                <a:cubicBezTo>
                  <a:pt x="7684" y="10998"/>
                  <a:pt x="7667" y="10975"/>
                  <a:pt x="7640" y="10939"/>
                </a:cubicBezTo>
                <a:cubicBezTo>
                  <a:pt x="7579" y="10969"/>
                  <a:pt x="7539" y="11065"/>
                  <a:pt x="7590" y="11137"/>
                </a:cubicBezTo>
                <a:cubicBezTo>
                  <a:pt x="7621" y="11180"/>
                  <a:pt x="7696" y="11162"/>
                  <a:pt x="7739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0000" y="3919680"/>
            <a:ext cx="776160" cy="72720"/>
          </a:xfrm>
          <a:custGeom>
            <a:avLst/>
            <a:gdLst/>
            <a:ahLst/>
            <a:rect l="l" t="t" r="r" b="b"/>
            <a:pathLst>
              <a:path w="2159" h="200">
                <a:moveTo>
                  <a:pt x="12998" y="11088"/>
                </a:moveTo>
                <a:lnTo>
                  <a:pt x="12998" y="11088"/>
                </a:lnTo>
              </a:path>
              <a:path w="2159" h="200">
                <a:moveTo>
                  <a:pt x="12998" y="11063"/>
                </a:moveTo>
                <a:lnTo>
                  <a:pt x="12998" y="11063"/>
                </a:lnTo>
              </a:path>
              <a:path w="2159" h="200">
                <a:moveTo>
                  <a:pt x="12998" y="11063"/>
                </a:moveTo>
                <a:lnTo>
                  <a:pt x="12998" y="11063"/>
                </a:lnTo>
              </a:path>
              <a:path w="2159" h="200">
                <a:moveTo>
                  <a:pt x="15156" y="10889"/>
                </a:moveTo>
                <a:lnTo>
                  <a:pt x="15156" y="1088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29080" y="3894120"/>
            <a:ext cx="1322280" cy="266760"/>
          </a:xfrm>
          <a:custGeom>
            <a:avLst/>
            <a:gdLst/>
            <a:ahLst/>
            <a:rect l="l" t="t" r="r" b="b"/>
            <a:pathLst>
              <a:path w="3672" h="745">
                <a:moveTo>
                  <a:pt x="12378" y="11212"/>
                </a:moveTo>
                <a:cubicBezTo>
                  <a:pt x="12306" y="11265"/>
                  <a:pt x="12310" y="11387"/>
                  <a:pt x="12303" y="11485"/>
                </a:cubicBezTo>
                <a:cubicBezTo>
                  <a:pt x="12438" y="11470"/>
                  <a:pt x="12496" y="11433"/>
                  <a:pt x="12452" y="11286"/>
                </a:cubicBezTo>
                <a:cubicBezTo>
                  <a:pt x="12424" y="11258"/>
                  <a:pt x="12411" y="11249"/>
                  <a:pt x="12378" y="11261"/>
                </a:cubicBezTo>
              </a:path>
              <a:path w="3672" h="745">
                <a:moveTo>
                  <a:pt x="12551" y="11361"/>
                </a:moveTo>
                <a:cubicBezTo>
                  <a:pt x="12559" y="11377"/>
                  <a:pt x="12568" y="11394"/>
                  <a:pt x="12576" y="11410"/>
                </a:cubicBezTo>
                <a:cubicBezTo>
                  <a:pt x="12564" y="11339"/>
                  <a:pt x="12511" y="11246"/>
                  <a:pt x="12576" y="11187"/>
                </a:cubicBezTo>
                <a:cubicBezTo>
                  <a:pt x="12633" y="11159"/>
                  <a:pt x="12656" y="11148"/>
                  <a:pt x="12700" y="11137"/>
                </a:cubicBezTo>
              </a:path>
              <a:path w="3672" h="745">
                <a:moveTo>
                  <a:pt x="13097" y="11162"/>
                </a:moveTo>
                <a:cubicBezTo>
                  <a:pt x="13053" y="11151"/>
                  <a:pt x="13032" y="11122"/>
                  <a:pt x="12998" y="11088"/>
                </a:cubicBezTo>
              </a:path>
              <a:path w="3672" h="745">
                <a:moveTo>
                  <a:pt x="12998" y="11063"/>
                </a:moveTo>
                <a:cubicBezTo>
                  <a:pt x="12973" y="11088"/>
                  <a:pt x="12965" y="11096"/>
                  <a:pt x="12948" y="11112"/>
                </a:cubicBezTo>
                <a:cubicBezTo>
                  <a:pt x="12957" y="11139"/>
                  <a:pt x="12966" y="11158"/>
                  <a:pt x="12998" y="11162"/>
                </a:cubicBezTo>
                <a:cubicBezTo>
                  <a:pt x="13058" y="11170"/>
                  <a:pt x="13040" y="11191"/>
                  <a:pt x="13072" y="11212"/>
                </a:cubicBezTo>
                <a:cubicBezTo>
                  <a:pt x="13106" y="11235"/>
                  <a:pt x="13155" y="11296"/>
                  <a:pt x="13097" y="11336"/>
                </a:cubicBezTo>
                <a:cubicBezTo>
                  <a:pt x="13061" y="11361"/>
                  <a:pt x="12988" y="11421"/>
                  <a:pt x="12973" y="11361"/>
                </a:cubicBezTo>
                <a:cubicBezTo>
                  <a:pt x="12973" y="11353"/>
                  <a:pt x="12973" y="11344"/>
                  <a:pt x="12973" y="11336"/>
                </a:cubicBezTo>
              </a:path>
              <a:path w="3672" h="745">
                <a:moveTo>
                  <a:pt x="13246" y="11063"/>
                </a:moveTo>
                <a:cubicBezTo>
                  <a:pt x="13246" y="11002"/>
                  <a:pt x="13266" y="11200"/>
                  <a:pt x="13271" y="11212"/>
                </a:cubicBezTo>
                <a:cubicBezTo>
                  <a:pt x="13345" y="11378"/>
                  <a:pt x="13409" y="11173"/>
                  <a:pt x="13395" y="11088"/>
                </a:cubicBezTo>
                <a:cubicBezTo>
                  <a:pt x="13388" y="11047"/>
                  <a:pt x="13396" y="11192"/>
                  <a:pt x="13444" y="11261"/>
                </a:cubicBezTo>
              </a:path>
              <a:path w="3672" h="745">
                <a:moveTo>
                  <a:pt x="13494" y="10840"/>
                </a:moveTo>
                <a:cubicBezTo>
                  <a:pt x="13508" y="10960"/>
                  <a:pt x="13545" y="11100"/>
                  <a:pt x="13593" y="11212"/>
                </a:cubicBezTo>
                <a:cubicBezTo>
                  <a:pt x="13601" y="11220"/>
                  <a:pt x="13610" y="11229"/>
                  <a:pt x="13618" y="11237"/>
                </a:cubicBezTo>
                <a:cubicBezTo>
                  <a:pt x="13593" y="11178"/>
                  <a:pt x="13551" y="10971"/>
                  <a:pt x="13692" y="10988"/>
                </a:cubicBezTo>
                <a:cubicBezTo>
                  <a:pt x="13904" y="11014"/>
                  <a:pt x="13733" y="11201"/>
                  <a:pt x="13667" y="11237"/>
                </a:cubicBezTo>
                <a:cubicBezTo>
                  <a:pt x="13583" y="11237"/>
                  <a:pt x="13561" y="11228"/>
                  <a:pt x="13618" y="11137"/>
                </a:cubicBezTo>
              </a:path>
              <a:path w="3672" h="745">
                <a:moveTo>
                  <a:pt x="13841" y="10840"/>
                </a:moveTo>
                <a:cubicBezTo>
                  <a:pt x="13898" y="10947"/>
                  <a:pt x="14015" y="11139"/>
                  <a:pt x="14015" y="11261"/>
                </a:cubicBezTo>
                <a:cubicBezTo>
                  <a:pt x="14007" y="11245"/>
                  <a:pt x="13998" y="11228"/>
                  <a:pt x="13990" y="11212"/>
                </a:cubicBezTo>
              </a:path>
              <a:path w="3672" h="745">
                <a:moveTo>
                  <a:pt x="13767" y="11038"/>
                </a:moveTo>
                <a:cubicBezTo>
                  <a:pt x="13885" y="11010"/>
                  <a:pt x="14052" y="10947"/>
                  <a:pt x="14163" y="11038"/>
                </a:cubicBezTo>
                <a:cubicBezTo>
                  <a:pt x="14196" y="11065"/>
                  <a:pt x="14248" y="11150"/>
                  <a:pt x="14263" y="11187"/>
                </a:cubicBezTo>
                <a:cubicBezTo>
                  <a:pt x="14237" y="11143"/>
                  <a:pt x="14207" y="11039"/>
                  <a:pt x="14238" y="10988"/>
                </a:cubicBezTo>
                <a:cubicBezTo>
                  <a:pt x="14277" y="10950"/>
                  <a:pt x="14278" y="10933"/>
                  <a:pt x="14312" y="10939"/>
                </a:cubicBezTo>
              </a:path>
              <a:path w="3672" h="745">
                <a:moveTo>
                  <a:pt x="14585" y="11013"/>
                </a:moveTo>
                <a:cubicBezTo>
                  <a:pt x="14560" y="11087"/>
                  <a:pt x="14576" y="10960"/>
                  <a:pt x="14486" y="11013"/>
                </a:cubicBezTo>
                <a:cubicBezTo>
                  <a:pt x="14350" y="11093"/>
                  <a:pt x="14402" y="11176"/>
                  <a:pt x="14436" y="11286"/>
                </a:cubicBezTo>
                <a:cubicBezTo>
                  <a:pt x="14523" y="11200"/>
                  <a:pt x="14526" y="11190"/>
                  <a:pt x="14536" y="11063"/>
                </a:cubicBezTo>
                <a:cubicBezTo>
                  <a:pt x="14549" y="11131"/>
                  <a:pt x="14573" y="11162"/>
                  <a:pt x="14635" y="11187"/>
                </a:cubicBezTo>
              </a:path>
              <a:path w="3672" h="745">
                <a:moveTo>
                  <a:pt x="14734" y="11013"/>
                </a:moveTo>
                <a:cubicBezTo>
                  <a:pt x="14775" y="10993"/>
                  <a:pt x="14703" y="11038"/>
                  <a:pt x="14709" y="11162"/>
                </a:cubicBezTo>
                <a:cubicBezTo>
                  <a:pt x="14721" y="11422"/>
                  <a:pt x="14981" y="11282"/>
                  <a:pt x="15007" y="11112"/>
                </a:cubicBezTo>
                <a:cubicBezTo>
                  <a:pt x="14999" y="11054"/>
                  <a:pt x="14990" y="10997"/>
                  <a:pt x="14982" y="10939"/>
                </a:cubicBezTo>
              </a:path>
              <a:path w="3672" h="745">
                <a:moveTo>
                  <a:pt x="14932" y="10815"/>
                </a:moveTo>
                <a:cubicBezTo>
                  <a:pt x="14949" y="10953"/>
                  <a:pt x="14979" y="11108"/>
                  <a:pt x="15032" y="11237"/>
                </a:cubicBezTo>
                <a:cubicBezTo>
                  <a:pt x="15054" y="11259"/>
                  <a:pt x="15062" y="11270"/>
                  <a:pt x="15056" y="11237"/>
                </a:cubicBezTo>
              </a:path>
              <a:path w="3672" h="745">
                <a:moveTo>
                  <a:pt x="14833" y="11013"/>
                </a:moveTo>
                <a:cubicBezTo>
                  <a:pt x="14918" y="11026"/>
                  <a:pt x="15125" y="11006"/>
                  <a:pt x="15180" y="11088"/>
                </a:cubicBezTo>
                <a:cubicBezTo>
                  <a:pt x="15221" y="11169"/>
                  <a:pt x="15238" y="11182"/>
                  <a:pt x="15230" y="11237"/>
                </a:cubicBezTo>
              </a:path>
              <a:path w="3672" h="745">
                <a:moveTo>
                  <a:pt x="15379" y="11187"/>
                </a:moveTo>
                <a:cubicBezTo>
                  <a:pt x="15379" y="11195"/>
                  <a:pt x="15379" y="11279"/>
                  <a:pt x="15379" y="11212"/>
                </a:cubicBezTo>
                <a:cubicBezTo>
                  <a:pt x="15379" y="11131"/>
                  <a:pt x="15371" y="11078"/>
                  <a:pt x="15404" y="11013"/>
                </a:cubicBezTo>
                <a:cubicBezTo>
                  <a:pt x="15561" y="11031"/>
                  <a:pt x="15563" y="11089"/>
                  <a:pt x="15577" y="11237"/>
                </a:cubicBezTo>
                <a:cubicBezTo>
                  <a:pt x="15577" y="11245"/>
                  <a:pt x="15577" y="11253"/>
                  <a:pt x="15577" y="11261"/>
                </a:cubicBezTo>
              </a:path>
              <a:path w="3672" h="745">
                <a:moveTo>
                  <a:pt x="15776" y="10964"/>
                </a:moveTo>
                <a:cubicBezTo>
                  <a:pt x="15742" y="11032"/>
                  <a:pt x="15715" y="11090"/>
                  <a:pt x="15701" y="11162"/>
                </a:cubicBezTo>
                <a:cubicBezTo>
                  <a:pt x="15765" y="11178"/>
                  <a:pt x="15766" y="11082"/>
                  <a:pt x="15825" y="11038"/>
                </a:cubicBezTo>
                <a:cubicBezTo>
                  <a:pt x="15833" y="11038"/>
                  <a:pt x="15842" y="11038"/>
                  <a:pt x="15850" y="11038"/>
                </a:cubicBezTo>
                <a:cubicBezTo>
                  <a:pt x="15931" y="11181"/>
                  <a:pt x="16079" y="11429"/>
                  <a:pt x="15875" y="11559"/>
                </a:cubicBezTo>
                <a:cubicBezTo>
                  <a:pt x="15842" y="11559"/>
                  <a:pt x="15809" y="11559"/>
                  <a:pt x="15776" y="115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94120" y="4402080"/>
            <a:ext cx="3643200" cy="1090800"/>
          </a:xfrm>
          <a:custGeom>
            <a:avLst/>
            <a:gdLst/>
            <a:ahLst/>
            <a:rect l="l" t="t" r="r" b="b"/>
            <a:pathLst>
              <a:path w="10121" h="3027">
                <a:moveTo>
                  <a:pt x="10815" y="13841"/>
                </a:moveTo>
                <a:lnTo>
                  <a:pt x="10815" y="13841"/>
                </a:lnTo>
              </a:path>
              <a:path w="10121" h="3027">
                <a:moveTo>
                  <a:pt x="10889" y="13444"/>
                </a:moveTo>
                <a:lnTo>
                  <a:pt x="10889" y="13444"/>
                </a:lnTo>
                <a:lnTo>
                  <a:pt x="10889" y="13444"/>
                </a:lnTo>
              </a:path>
              <a:path w="10121" h="3027">
                <a:moveTo>
                  <a:pt x="10889" y="13444"/>
                </a:moveTo>
                <a:lnTo>
                  <a:pt x="10889" y="13444"/>
                </a:lnTo>
              </a:path>
              <a:path w="10121" h="3027">
                <a:moveTo>
                  <a:pt x="13643" y="13171"/>
                </a:moveTo>
                <a:lnTo>
                  <a:pt x="13643" y="13171"/>
                </a:lnTo>
              </a:path>
              <a:path w="10121" h="3027">
                <a:moveTo>
                  <a:pt x="13643" y="13171"/>
                </a:moveTo>
                <a:lnTo>
                  <a:pt x="13643" y="13171"/>
                </a:lnTo>
              </a:path>
              <a:path w="10121" h="3027">
                <a:moveTo>
                  <a:pt x="18107" y="12278"/>
                </a:moveTo>
                <a:cubicBezTo>
                  <a:pt x="18156" y="12442"/>
                  <a:pt x="18221" y="12611"/>
                  <a:pt x="18281" y="12774"/>
                </a:cubicBezTo>
              </a:path>
              <a:path w="10121" h="3027">
                <a:moveTo>
                  <a:pt x="19745" y="12378"/>
                </a:moveTo>
                <a:cubicBezTo>
                  <a:pt x="19918" y="12328"/>
                  <a:pt x="19976" y="12311"/>
                  <a:pt x="20092" y="12278"/>
                </a:cubicBezTo>
              </a:path>
              <a:path w="10121" h="3027">
                <a:moveTo>
                  <a:pt x="20737" y="12254"/>
                </a:moveTo>
                <a:cubicBezTo>
                  <a:pt x="20701" y="12315"/>
                  <a:pt x="20570" y="12628"/>
                  <a:pt x="20786" y="12576"/>
                </a:cubicBezTo>
                <a:cubicBezTo>
                  <a:pt x="20972" y="12532"/>
                  <a:pt x="20939" y="12338"/>
                  <a:pt x="20861" y="12229"/>
                </a:cubicBezTo>
              </a:path>
              <a:path w="10121" h="3027">
                <a:moveTo>
                  <a:pt x="18876" y="14362"/>
                </a:moveTo>
                <a:cubicBezTo>
                  <a:pt x="18789" y="14606"/>
                  <a:pt x="18642" y="14914"/>
                  <a:pt x="18827" y="15156"/>
                </a:cubicBezTo>
                <a:cubicBezTo>
                  <a:pt x="18974" y="15254"/>
                  <a:pt x="19022" y="15287"/>
                  <a:pt x="19149" y="15255"/>
                </a:cubicBezTo>
              </a:path>
              <a:path w="10121" h="3027">
                <a:moveTo>
                  <a:pt x="19546" y="14362"/>
                </a:moveTo>
                <a:cubicBezTo>
                  <a:pt x="19676" y="14492"/>
                  <a:pt x="19846" y="14724"/>
                  <a:pt x="19819" y="14932"/>
                </a:cubicBezTo>
                <a:cubicBezTo>
                  <a:pt x="19797" y="15099"/>
                  <a:pt x="19671" y="15145"/>
                  <a:pt x="19546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13120" y="4554360"/>
            <a:ext cx="1428840" cy="1062360"/>
          </a:xfrm>
          <a:custGeom>
            <a:avLst/>
            <a:gdLst/>
            <a:ahLst/>
            <a:rect l="l" t="t" r="r" b="b"/>
            <a:pathLst>
              <a:path w="3969" h="2953">
                <a:moveTo>
                  <a:pt x="10988" y="13643"/>
                </a:moveTo>
                <a:cubicBezTo>
                  <a:pt x="10970" y="13661"/>
                  <a:pt x="10767" y="13667"/>
                  <a:pt x="10666" y="13667"/>
                </a:cubicBezTo>
                <a:cubicBezTo>
                  <a:pt x="10658" y="13667"/>
                  <a:pt x="10649" y="13667"/>
                  <a:pt x="10641" y="13667"/>
                </a:cubicBezTo>
                <a:cubicBezTo>
                  <a:pt x="10641" y="13750"/>
                  <a:pt x="10645" y="13863"/>
                  <a:pt x="10666" y="13940"/>
                </a:cubicBezTo>
                <a:cubicBezTo>
                  <a:pt x="10689" y="13963"/>
                  <a:pt x="10697" y="13967"/>
                  <a:pt x="10691" y="13990"/>
                </a:cubicBezTo>
                <a:cubicBezTo>
                  <a:pt x="10790" y="13926"/>
                  <a:pt x="10939" y="13867"/>
                  <a:pt x="11063" y="13940"/>
                </a:cubicBezTo>
                <a:cubicBezTo>
                  <a:pt x="11170" y="14003"/>
                  <a:pt x="11215" y="14194"/>
                  <a:pt x="11063" y="14238"/>
                </a:cubicBezTo>
                <a:cubicBezTo>
                  <a:pt x="10983" y="14261"/>
                  <a:pt x="10740" y="14262"/>
                  <a:pt x="10666" y="14213"/>
                </a:cubicBezTo>
                <a:cubicBezTo>
                  <a:pt x="10666" y="14205"/>
                  <a:pt x="10666" y="14196"/>
                  <a:pt x="10666" y="14188"/>
                </a:cubicBezTo>
              </a:path>
              <a:path w="3969" h="2953">
                <a:moveTo>
                  <a:pt x="11584" y="13271"/>
                </a:moveTo>
                <a:cubicBezTo>
                  <a:pt x="11554" y="13357"/>
                  <a:pt x="11490" y="13528"/>
                  <a:pt x="11460" y="13643"/>
                </a:cubicBezTo>
                <a:cubicBezTo>
                  <a:pt x="11402" y="13869"/>
                  <a:pt x="11324" y="14145"/>
                  <a:pt x="11460" y="14362"/>
                </a:cubicBezTo>
                <a:cubicBezTo>
                  <a:pt x="11485" y="14401"/>
                  <a:pt x="11538" y="14477"/>
                  <a:pt x="11559" y="14436"/>
                </a:cubicBezTo>
                <a:cubicBezTo>
                  <a:pt x="11559" y="14428"/>
                  <a:pt x="11559" y="14420"/>
                  <a:pt x="11559" y="14412"/>
                </a:cubicBezTo>
              </a:path>
              <a:path w="3969" h="2953">
                <a:moveTo>
                  <a:pt x="12254" y="13717"/>
                </a:moveTo>
                <a:cubicBezTo>
                  <a:pt x="12328" y="13698"/>
                  <a:pt x="12310" y="13632"/>
                  <a:pt x="12278" y="13568"/>
                </a:cubicBezTo>
                <a:cubicBezTo>
                  <a:pt x="12213" y="13437"/>
                  <a:pt x="12104" y="13420"/>
                  <a:pt x="12005" y="13519"/>
                </a:cubicBezTo>
                <a:cubicBezTo>
                  <a:pt x="11916" y="13608"/>
                  <a:pt x="11869" y="13852"/>
                  <a:pt x="12055" y="13866"/>
                </a:cubicBezTo>
                <a:cubicBezTo>
                  <a:pt x="12154" y="13874"/>
                  <a:pt x="12263" y="13752"/>
                  <a:pt x="12278" y="13667"/>
                </a:cubicBezTo>
                <a:cubicBezTo>
                  <a:pt x="12278" y="13659"/>
                  <a:pt x="12278" y="13651"/>
                  <a:pt x="12278" y="13643"/>
                </a:cubicBezTo>
                <a:cubicBezTo>
                  <a:pt x="12259" y="13781"/>
                  <a:pt x="12238" y="13924"/>
                  <a:pt x="12229" y="14064"/>
                </a:cubicBezTo>
                <a:cubicBezTo>
                  <a:pt x="12229" y="14155"/>
                  <a:pt x="12229" y="14163"/>
                  <a:pt x="12229" y="14213"/>
                </a:cubicBezTo>
              </a:path>
              <a:path w="3969" h="2953">
                <a:moveTo>
                  <a:pt x="12799" y="13866"/>
                </a:moveTo>
                <a:cubicBezTo>
                  <a:pt x="12886" y="13866"/>
                  <a:pt x="12966" y="13876"/>
                  <a:pt x="13047" y="13891"/>
                </a:cubicBezTo>
                <a:cubicBezTo>
                  <a:pt x="13072" y="13891"/>
                  <a:pt x="13080" y="13891"/>
                  <a:pt x="13097" y="13891"/>
                </a:cubicBezTo>
              </a:path>
              <a:path w="3969" h="2953">
                <a:moveTo>
                  <a:pt x="13494" y="13568"/>
                </a:moveTo>
                <a:cubicBezTo>
                  <a:pt x="13510" y="13660"/>
                  <a:pt x="13553" y="13762"/>
                  <a:pt x="13494" y="13841"/>
                </a:cubicBezTo>
                <a:cubicBezTo>
                  <a:pt x="13610" y="13841"/>
                  <a:pt x="13725" y="13841"/>
                  <a:pt x="13841" y="13841"/>
                </a:cubicBezTo>
              </a:path>
              <a:path w="3969" h="2953">
                <a:moveTo>
                  <a:pt x="13816" y="13444"/>
                </a:moveTo>
                <a:cubicBezTo>
                  <a:pt x="13816" y="13547"/>
                  <a:pt x="13829" y="13665"/>
                  <a:pt x="13841" y="13767"/>
                </a:cubicBezTo>
                <a:cubicBezTo>
                  <a:pt x="13854" y="13885"/>
                  <a:pt x="13891" y="13995"/>
                  <a:pt x="13891" y="14114"/>
                </a:cubicBezTo>
              </a:path>
              <a:path w="3969" h="2953">
                <a:moveTo>
                  <a:pt x="14039" y="13122"/>
                </a:moveTo>
                <a:cubicBezTo>
                  <a:pt x="14142" y="13238"/>
                  <a:pt x="14290" y="13357"/>
                  <a:pt x="14387" y="13494"/>
                </a:cubicBezTo>
                <a:cubicBezTo>
                  <a:pt x="14533" y="13700"/>
                  <a:pt x="14628" y="13948"/>
                  <a:pt x="14511" y="14188"/>
                </a:cubicBezTo>
                <a:cubicBezTo>
                  <a:pt x="14486" y="14238"/>
                  <a:pt x="14416" y="14304"/>
                  <a:pt x="14387" y="14337"/>
                </a:cubicBezTo>
              </a:path>
              <a:path w="3969" h="2953">
                <a:moveTo>
                  <a:pt x="10790" y="13816"/>
                </a:moveTo>
                <a:cubicBezTo>
                  <a:pt x="10738" y="13829"/>
                  <a:pt x="10740" y="13855"/>
                  <a:pt x="10740" y="13791"/>
                </a:cubicBezTo>
              </a:path>
              <a:path w="3969" h="2953">
                <a:moveTo>
                  <a:pt x="10889" y="13444"/>
                </a:moveTo>
                <a:cubicBezTo>
                  <a:pt x="10908" y="13413"/>
                  <a:pt x="10930" y="13405"/>
                  <a:pt x="10939" y="13370"/>
                </a:cubicBezTo>
                <a:cubicBezTo>
                  <a:pt x="10952" y="13321"/>
                  <a:pt x="10930" y="13314"/>
                  <a:pt x="10964" y="13271"/>
                </a:cubicBezTo>
                <a:cubicBezTo>
                  <a:pt x="10985" y="13244"/>
                  <a:pt x="10970" y="13232"/>
                  <a:pt x="10988" y="13196"/>
                </a:cubicBezTo>
                <a:cubicBezTo>
                  <a:pt x="11011" y="13149"/>
                  <a:pt x="11029" y="13142"/>
                  <a:pt x="11063" y="13097"/>
                </a:cubicBezTo>
                <a:cubicBezTo>
                  <a:pt x="11075" y="13081"/>
                  <a:pt x="11120" y="13034"/>
                  <a:pt x="11137" y="13022"/>
                </a:cubicBezTo>
                <a:cubicBezTo>
                  <a:pt x="11173" y="12997"/>
                  <a:pt x="11246" y="12956"/>
                  <a:pt x="11261" y="12948"/>
                </a:cubicBezTo>
                <a:cubicBezTo>
                  <a:pt x="11305" y="12925"/>
                  <a:pt x="11346" y="12916"/>
                  <a:pt x="11385" y="12898"/>
                </a:cubicBezTo>
                <a:cubicBezTo>
                  <a:pt x="11427" y="12878"/>
                  <a:pt x="11469" y="12857"/>
                  <a:pt x="11509" y="12849"/>
                </a:cubicBezTo>
                <a:cubicBezTo>
                  <a:pt x="11569" y="12836"/>
                  <a:pt x="11663" y="12839"/>
                  <a:pt x="11708" y="12874"/>
                </a:cubicBezTo>
                <a:cubicBezTo>
                  <a:pt x="11756" y="12911"/>
                  <a:pt x="11783" y="12937"/>
                  <a:pt x="11832" y="12973"/>
                </a:cubicBezTo>
                <a:cubicBezTo>
                  <a:pt x="11923" y="13040"/>
                  <a:pt x="11881" y="13033"/>
                  <a:pt x="11931" y="13097"/>
                </a:cubicBezTo>
                <a:cubicBezTo>
                  <a:pt x="11941" y="13110"/>
                  <a:pt x="11979" y="13145"/>
                  <a:pt x="12005" y="13171"/>
                </a:cubicBezTo>
                <a:cubicBezTo>
                  <a:pt x="12013" y="13179"/>
                  <a:pt x="12048" y="13223"/>
                  <a:pt x="12055" y="13246"/>
                </a:cubicBezTo>
                <a:cubicBezTo>
                  <a:pt x="12063" y="13274"/>
                  <a:pt x="12075" y="13321"/>
                  <a:pt x="12055" y="13295"/>
                </a:cubicBezTo>
                <a:cubicBezTo>
                  <a:pt x="12030" y="13263"/>
                  <a:pt x="12004" y="13211"/>
                  <a:pt x="11956" y="13196"/>
                </a:cubicBezTo>
                <a:cubicBezTo>
                  <a:pt x="11893" y="13176"/>
                  <a:pt x="11912" y="13219"/>
                  <a:pt x="11956" y="13246"/>
                </a:cubicBezTo>
                <a:cubicBezTo>
                  <a:pt x="11964" y="13251"/>
                  <a:pt x="12067" y="13290"/>
                  <a:pt x="12080" y="13271"/>
                </a:cubicBezTo>
                <a:cubicBezTo>
                  <a:pt x="12109" y="13229"/>
                  <a:pt x="12116" y="13123"/>
                  <a:pt x="12129" y="13072"/>
                </a:cubicBezTo>
              </a:path>
              <a:path w="3969" h="2953">
                <a:moveTo>
                  <a:pt x="10740" y="14808"/>
                </a:moveTo>
                <a:cubicBezTo>
                  <a:pt x="10629" y="14977"/>
                  <a:pt x="10565" y="15171"/>
                  <a:pt x="10592" y="15379"/>
                </a:cubicBezTo>
                <a:cubicBezTo>
                  <a:pt x="10612" y="15530"/>
                  <a:pt x="10689" y="15522"/>
                  <a:pt x="10716" y="15602"/>
                </a:cubicBezTo>
              </a:path>
              <a:path w="3969" h="2953">
                <a:moveTo>
                  <a:pt x="11088" y="15032"/>
                </a:moveTo>
                <a:cubicBezTo>
                  <a:pt x="11036" y="15042"/>
                  <a:pt x="10876" y="15069"/>
                  <a:pt x="10840" y="15106"/>
                </a:cubicBezTo>
                <a:cubicBezTo>
                  <a:pt x="10807" y="15140"/>
                  <a:pt x="10815" y="15235"/>
                  <a:pt x="10815" y="15280"/>
                </a:cubicBezTo>
                <a:cubicBezTo>
                  <a:pt x="10874" y="15270"/>
                  <a:pt x="10989" y="15196"/>
                  <a:pt x="11038" y="15255"/>
                </a:cubicBezTo>
                <a:cubicBezTo>
                  <a:pt x="11149" y="15389"/>
                  <a:pt x="10928" y="15421"/>
                  <a:pt x="10864" y="15453"/>
                </a:cubicBezTo>
                <a:cubicBezTo>
                  <a:pt x="10842" y="15476"/>
                  <a:pt x="10837" y="15484"/>
                  <a:pt x="10815" y="15478"/>
                </a:cubicBezTo>
              </a:path>
              <a:path w="3969" h="2953">
                <a:moveTo>
                  <a:pt x="11286" y="15032"/>
                </a:moveTo>
                <a:cubicBezTo>
                  <a:pt x="11310" y="15078"/>
                  <a:pt x="11393" y="15153"/>
                  <a:pt x="11435" y="15205"/>
                </a:cubicBezTo>
                <a:cubicBezTo>
                  <a:pt x="11458" y="15228"/>
                  <a:pt x="11466" y="15232"/>
                  <a:pt x="11460" y="15255"/>
                </a:cubicBezTo>
              </a:path>
              <a:path w="3969" h="2953">
                <a:moveTo>
                  <a:pt x="11509" y="14932"/>
                </a:moveTo>
                <a:cubicBezTo>
                  <a:pt x="11470" y="15012"/>
                  <a:pt x="11414" y="15101"/>
                  <a:pt x="11385" y="15180"/>
                </a:cubicBezTo>
                <a:cubicBezTo>
                  <a:pt x="11382" y="15189"/>
                  <a:pt x="11385" y="15299"/>
                  <a:pt x="11385" y="15230"/>
                </a:cubicBezTo>
              </a:path>
              <a:path w="3969" h="2953">
                <a:moveTo>
                  <a:pt x="11857" y="14883"/>
                </a:moveTo>
                <a:cubicBezTo>
                  <a:pt x="11800" y="14851"/>
                  <a:pt x="11794" y="14842"/>
                  <a:pt x="11733" y="14833"/>
                </a:cubicBezTo>
                <a:cubicBezTo>
                  <a:pt x="11720" y="14871"/>
                  <a:pt x="11638" y="14983"/>
                  <a:pt x="11683" y="15032"/>
                </a:cubicBezTo>
                <a:cubicBezTo>
                  <a:pt x="11759" y="15114"/>
                  <a:pt x="11819" y="14999"/>
                  <a:pt x="11857" y="14957"/>
                </a:cubicBezTo>
                <a:cubicBezTo>
                  <a:pt x="11865" y="14941"/>
                  <a:pt x="11873" y="14924"/>
                  <a:pt x="11881" y="14908"/>
                </a:cubicBezTo>
                <a:cubicBezTo>
                  <a:pt x="11881" y="15024"/>
                  <a:pt x="11881" y="15139"/>
                  <a:pt x="11881" y="15255"/>
                </a:cubicBezTo>
              </a:path>
              <a:path w="3969" h="2953">
                <a:moveTo>
                  <a:pt x="12030" y="14511"/>
                </a:moveTo>
                <a:cubicBezTo>
                  <a:pt x="12119" y="14644"/>
                  <a:pt x="12209" y="14718"/>
                  <a:pt x="12229" y="14908"/>
                </a:cubicBezTo>
                <a:cubicBezTo>
                  <a:pt x="12247" y="15083"/>
                  <a:pt x="12186" y="15141"/>
                  <a:pt x="12129" y="15280"/>
                </a:cubicBezTo>
                <a:cubicBezTo>
                  <a:pt x="12129" y="15288"/>
                  <a:pt x="12129" y="15296"/>
                  <a:pt x="12129" y="15304"/>
                </a:cubicBezTo>
              </a:path>
              <a:path w="3969" h="2953">
                <a:moveTo>
                  <a:pt x="10914" y="13419"/>
                </a:moveTo>
                <a:cubicBezTo>
                  <a:pt x="10914" y="13444"/>
                  <a:pt x="10914" y="13452"/>
                  <a:pt x="10914" y="13469"/>
                </a:cubicBezTo>
                <a:cubicBezTo>
                  <a:pt x="10918" y="13420"/>
                  <a:pt x="10925" y="13411"/>
                  <a:pt x="10939" y="13370"/>
                </a:cubicBezTo>
                <a:cubicBezTo>
                  <a:pt x="10950" y="13337"/>
                  <a:pt x="10943" y="13299"/>
                  <a:pt x="10964" y="13271"/>
                </a:cubicBezTo>
                <a:cubicBezTo>
                  <a:pt x="10997" y="13226"/>
                  <a:pt x="11033" y="13209"/>
                  <a:pt x="11063" y="13171"/>
                </a:cubicBezTo>
                <a:cubicBezTo>
                  <a:pt x="11084" y="13145"/>
                  <a:pt x="11107" y="13135"/>
                  <a:pt x="11137" y="13097"/>
                </a:cubicBezTo>
                <a:cubicBezTo>
                  <a:pt x="11165" y="13062"/>
                  <a:pt x="11152" y="13057"/>
                  <a:pt x="11212" y="13022"/>
                </a:cubicBezTo>
                <a:cubicBezTo>
                  <a:pt x="11268" y="12989"/>
                  <a:pt x="11256" y="12972"/>
                  <a:pt x="11286" y="12948"/>
                </a:cubicBezTo>
                <a:cubicBezTo>
                  <a:pt x="11311" y="12928"/>
                  <a:pt x="11373" y="12882"/>
                  <a:pt x="11385" y="12874"/>
                </a:cubicBezTo>
                <a:cubicBezTo>
                  <a:pt x="11410" y="12857"/>
                  <a:pt x="11454" y="12815"/>
                  <a:pt x="11485" y="12799"/>
                </a:cubicBezTo>
                <a:cubicBezTo>
                  <a:pt x="11522" y="12779"/>
                  <a:pt x="11590" y="12767"/>
                  <a:pt x="11633" y="12750"/>
                </a:cubicBezTo>
                <a:cubicBezTo>
                  <a:pt x="11667" y="12736"/>
                  <a:pt x="11717" y="12707"/>
                  <a:pt x="11757" y="12700"/>
                </a:cubicBezTo>
                <a:cubicBezTo>
                  <a:pt x="11813" y="12690"/>
                  <a:pt x="11875" y="12681"/>
                  <a:pt x="11931" y="12675"/>
                </a:cubicBezTo>
                <a:cubicBezTo>
                  <a:pt x="12040" y="12664"/>
                  <a:pt x="12143" y="12650"/>
                  <a:pt x="12254" y="12650"/>
                </a:cubicBezTo>
                <a:cubicBezTo>
                  <a:pt x="12337" y="12650"/>
                  <a:pt x="12332" y="12654"/>
                  <a:pt x="12402" y="12650"/>
                </a:cubicBezTo>
                <a:cubicBezTo>
                  <a:pt x="12562" y="12640"/>
                  <a:pt x="12722" y="12657"/>
                  <a:pt x="12874" y="12675"/>
                </a:cubicBezTo>
                <a:cubicBezTo>
                  <a:pt x="12929" y="12682"/>
                  <a:pt x="12973" y="12682"/>
                  <a:pt x="13022" y="12700"/>
                </a:cubicBezTo>
                <a:cubicBezTo>
                  <a:pt x="13070" y="12717"/>
                  <a:pt x="13100" y="12751"/>
                  <a:pt x="13146" y="12774"/>
                </a:cubicBezTo>
                <a:cubicBezTo>
                  <a:pt x="13201" y="12802"/>
                  <a:pt x="13274" y="12836"/>
                  <a:pt x="13320" y="12874"/>
                </a:cubicBezTo>
                <a:cubicBezTo>
                  <a:pt x="13356" y="12904"/>
                  <a:pt x="13375" y="12936"/>
                  <a:pt x="13395" y="12973"/>
                </a:cubicBezTo>
                <a:cubicBezTo>
                  <a:pt x="13414" y="13008"/>
                  <a:pt x="13426" y="13049"/>
                  <a:pt x="13444" y="13072"/>
                </a:cubicBezTo>
                <a:cubicBezTo>
                  <a:pt x="13473" y="13109"/>
                  <a:pt x="13498" y="13132"/>
                  <a:pt x="13519" y="13171"/>
                </a:cubicBezTo>
                <a:cubicBezTo>
                  <a:pt x="13546" y="13220"/>
                  <a:pt x="13571" y="13276"/>
                  <a:pt x="13593" y="13320"/>
                </a:cubicBezTo>
                <a:cubicBezTo>
                  <a:pt x="13609" y="13351"/>
                  <a:pt x="13622" y="13353"/>
                  <a:pt x="13643" y="13395"/>
                </a:cubicBezTo>
                <a:cubicBezTo>
                  <a:pt x="13594" y="13373"/>
                  <a:pt x="13556" y="13362"/>
                  <a:pt x="13519" y="13320"/>
                </a:cubicBezTo>
                <a:cubicBezTo>
                  <a:pt x="13515" y="13316"/>
                  <a:pt x="13468" y="13269"/>
                  <a:pt x="13469" y="13271"/>
                </a:cubicBezTo>
                <a:cubicBezTo>
                  <a:pt x="13478" y="13292"/>
                  <a:pt x="13562" y="13345"/>
                  <a:pt x="13593" y="13370"/>
                </a:cubicBezTo>
                <a:cubicBezTo>
                  <a:pt x="13625" y="13321"/>
                  <a:pt x="13639" y="13307"/>
                  <a:pt x="13643" y="13221"/>
                </a:cubicBezTo>
                <a:cubicBezTo>
                  <a:pt x="13643" y="13196"/>
                  <a:pt x="13643" y="13188"/>
                  <a:pt x="13643" y="131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59680" y="4375080"/>
            <a:ext cx="1117440" cy="716040"/>
          </a:xfrm>
          <a:custGeom>
            <a:avLst/>
            <a:gdLst/>
            <a:ahLst/>
            <a:rect l="l" t="t" r="r" b="b"/>
            <a:pathLst>
              <a:path w="3102" h="1986">
                <a:moveTo>
                  <a:pt x="18083" y="13419"/>
                </a:moveTo>
                <a:cubicBezTo>
                  <a:pt x="17959" y="13437"/>
                  <a:pt x="17860" y="13497"/>
                  <a:pt x="17735" y="13519"/>
                </a:cubicBezTo>
                <a:cubicBezTo>
                  <a:pt x="17719" y="13519"/>
                  <a:pt x="17702" y="13519"/>
                  <a:pt x="17686" y="13519"/>
                </a:cubicBezTo>
                <a:cubicBezTo>
                  <a:pt x="17686" y="13579"/>
                  <a:pt x="17706" y="13633"/>
                  <a:pt x="17711" y="13692"/>
                </a:cubicBezTo>
                <a:cubicBezTo>
                  <a:pt x="17715" y="13743"/>
                  <a:pt x="17880" y="13723"/>
                  <a:pt x="17934" y="13742"/>
                </a:cubicBezTo>
                <a:cubicBezTo>
                  <a:pt x="18129" y="13812"/>
                  <a:pt x="18104" y="13975"/>
                  <a:pt x="17934" y="14064"/>
                </a:cubicBezTo>
                <a:cubicBezTo>
                  <a:pt x="17893" y="14085"/>
                  <a:pt x="17710" y="14162"/>
                  <a:pt x="17686" y="14089"/>
                </a:cubicBezTo>
              </a:path>
              <a:path w="3102" h="1986">
                <a:moveTo>
                  <a:pt x="18479" y="13246"/>
                </a:moveTo>
                <a:cubicBezTo>
                  <a:pt x="18376" y="13520"/>
                  <a:pt x="18240" y="13789"/>
                  <a:pt x="18430" y="14064"/>
                </a:cubicBezTo>
                <a:cubicBezTo>
                  <a:pt x="18489" y="14104"/>
                  <a:pt x="18501" y="14108"/>
                  <a:pt x="18529" y="14139"/>
                </a:cubicBezTo>
              </a:path>
              <a:path w="3102" h="1986">
                <a:moveTo>
                  <a:pt x="19075" y="13469"/>
                </a:moveTo>
                <a:cubicBezTo>
                  <a:pt x="19041" y="13417"/>
                  <a:pt x="18888" y="13271"/>
                  <a:pt x="18802" y="13370"/>
                </a:cubicBezTo>
                <a:cubicBezTo>
                  <a:pt x="18704" y="13482"/>
                  <a:pt x="18691" y="13591"/>
                  <a:pt x="18728" y="13692"/>
                </a:cubicBezTo>
                <a:cubicBezTo>
                  <a:pt x="18859" y="13615"/>
                  <a:pt x="18957" y="13573"/>
                  <a:pt x="19000" y="13419"/>
                </a:cubicBezTo>
                <a:cubicBezTo>
                  <a:pt x="19000" y="13610"/>
                  <a:pt x="19035" y="13832"/>
                  <a:pt x="18976" y="14015"/>
                </a:cubicBezTo>
                <a:cubicBezTo>
                  <a:pt x="18976" y="14007"/>
                  <a:pt x="18976" y="13998"/>
                  <a:pt x="18976" y="13990"/>
                </a:cubicBezTo>
              </a:path>
              <a:path w="3102" h="1986">
                <a:moveTo>
                  <a:pt x="19348" y="13667"/>
                </a:moveTo>
                <a:cubicBezTo>
                  <a:pt x="19414" y="13667"/>
                  <a:pt x="19493" y="13614"/>
                  <a:pt x="19546" y="13618"/>
                </a:cubicBezTo>
                <a:cubicBezTo>
                  <a:pt x="19581" y="13653"/>
                  <a:pt x="19603" y="13657"/>
                  <a:pt x="19645" y="13618"/>
                </a:cubicBezTo>
              </a:path>
              <a:path w="3102" h="1986">
                <a:moveTo>
                  <a:pt x="19869" y="13370"/>
                </a:moveTo>
                <a:cubicBezTo>
                  <a:pt x="19859" y="13436"/>
                  <a:pt x="19790" y="13579"/>
                  <a:pt x="19819" y="13643"/>
                </a:cubicBezTo>
                <a:cubicBezTo>
                  <a:pt x="19864" y="13741"/>
                  <a:pt x="20008" y="13687"/>
                  <a:pt x="20067" y="13643"/>
                </a:cubicBezTo>
                <a:cubicBezTo>
                  <a:pt x="20108" y="13602"/>
                  <a:pt x="20122" y="13572"/>
                  <a:pt x="20117" y="13519"/>
                </a:cubicBezTo>
              </a:path>
              <a:path w="3102" h="1986">
                <a:moveTo>
                  <a:pt x="20117" y="13246"/>
                </a:moveTo>
                <a:cubicBezTo>
                  <a:pt x="20042" y="13396"/>
                  <a:pt x="20067" y="13573"/>
                  <a:pt x="20067" y="13742"/>
                </a:cubicBezTo>
                <a:cubicBezTo>
                  <a:pt x="20067" y="13792"/>
                  <a:pt x="20067" y="13841"/>
                  <a:pt x="20067" y="13891"/>
                </a:cubicBezTo>
              </a:path>
              <a:path w="3102" h="1986">
                <a:moveTo>
                  <a:pt x="20141" y="12874"/>
                </a:moveTo>
                <a:cubicBezTo>
                  <a:pt x="20373" y="12979"/>
                  <a:pt x="20471" y="13236"/>
                  <a:pt x="20489" y="13494"/>
                </a:cubicBezTo>
                <a:cubicBezTo>
                  <a:pt x="20500" y="13652"/>
                  <a:pt x="20440" y="13903"/>
                  <a:pt x="20265" y="13965"/>
                </a:cubicBezTo>
                <a:cubicBezTo>
                  <a:pt x="20249" y="13965"/>
                  <a:pt x="20232" y="13965"/>
                  <a:pt x="20216" y="13965"/>
                </a:cubicBezTo>
              </a:path>
              <a:path w="3102" h="1986">
                <a:moveTo>
                  <a:pt x="17413" y="12551"/>
                </a:moveTo>
                <a:cubicBezTo>
                  <a:pt x="17398" y="12628"/>
                  <a:pt x="17388" y="12674"/>
                  <a:pt x="17388" y="12750"/>
                </a:cubicBezTo>
                <a:cubicBezTo>
                  <a:pt x="17473" y="12768"/>
                  <a:pt x="17587" y="12753"/>
                  <a:pt x="17587" y="12626"/>
                </a:cubicBezTo>
                <a:cubicBezTo>
                  <a:pt x="17587" y="12535"/>
                  <a:pt x="17468" y="12576"/>
                  <a:pt x="17413" y="12576"/>
                </a:cubicBezTo>
              </a:path>
              <a:path w="3102" h="1986">
                <a:moveTo>
                  <a:pt x="17760" y="12700"/>
                </a:moveTo>
                <a:cubicBezTo>
                  <a:pt x="17760" y="12725"/>
                  <a:pt x="17760" y="12733"/>
                  <a:pt x="17760" y="12750"/>
                </a:cubicBezTo>
                <a:cubicBezTo>
                  <a:pt x="17760" y="12611"/>
                  <a:pt x="17759" y="12565"/>
                  <a:pt x="17859" y="12477"/>
                </a:cubicBezTo>
              </a:path>
              <a:path w="3102" h="1986">
                <a:moveTo>
                  <a:pt x="18207" y="12601"/>
                </a:moveTo>
                <a:cubicBezTo>
                  <a:pt x="18207" y="12556"/>
                  <a:pt x="18210" y="12543"/>
                  <a:pt x="18182" y="12526"/>
                </a:cubicBezTo>
                <a:cubicBezTo>
                  <a:pt x="18093" y="12556"/>
                  <a:pt x="17918" y="12742"/>
                  <a:pt x="18083" y="12824"/>
                </a:cubicBezTo>
                <a:cubicBezTo>
                  <a:pt x="18177" y="12792"/>
                  <a:pt x="18216" y="12769"/>
                  <a:pt x="18256" y="12700"/>
                </a:cubicBezTo>
              </a:path>
              <a:path w="3102" h="1986">
                <a:moveTo>
                  <a:pt x="18355" y="12601"/>
                </a:moveTo>
                <a:cubicBezTo>
                  <a:pt x="18485" y="12588"/>
                  <a:pt x="18525" y="12581"/>
                  <a:pt x="18554" y="12452"/>
                </a:cubicBezTo>
                <a:cubicBezTo>
                  <a:pt x="18436" y="12491"/>
                  <a:pt x="18336" y="12636"/>
                  <a:pt x="18430" y="12774"/>
                </a:cubicBezTo>
                <a:cubicBezTo>
                  <a:pt x="18524" y="12806"/>
                  <a:pt x="18563" y="12799"/>
                  <a:pt x="18604" y="12700"/>
                </a:cubicBezTo>
              </a:path>
              <a:path w="3102" h="1986">
                <a:moveTo>
                  <a:pt x="18728" y="12675"/>
                </a:moveTo>
                <a:cubicBezTo>
                  <a:pt x="18728" y="12725"/>
                  <a:pt x="18766" y="12454"/>
                  <a:pt x="18777" y="12427"/>
                </a:cubicBezTo>
                <a:cubicBezTo>
                  <a:pt x="18807" y="12397"/>
                  <a:pt x="18821" y="12392"/>
                  <a:pt x="18852" y="12427"/>
                </a:cubicBezTo>
              </a:path>
              <a:path w="3102" h="1986">
                <a:moveTo>
                  <a:pt x="19621" y="12378"/>
                </a:moveTo>
                <a:cubicBezTo>
                  <a:pt x="19517" y="12471"/>
                  <a:pt x="19513" y="12487"/>
                  <a:pt x="19496" y="12626"/>
                </a:cubicBezTo>
                <a:cubicBezTo>
                  <a:pt x="19596" y="12635"/>
                  <a:pt x="19790" y="12561"/>
                  <a:pt x="19720" y="12402"/>
                </a:cubicBezTo>
                <a:cubicBezTo>
                  <a:pt x="19703" y="12364"/>
                  <a:pt x="19588" y="12440"/>
                  <a:pt x="19571" y="12452"/>
                </a:cubicBezTo>
              </a:path>
              <a:path w="3102" h="1986">
                <a:moveTo>
                  <a:pt x="19968" y="12154"/>
                </a:moveTo>
                <a:cubicBezTo>
                  <a:pt x="19866" y="12371"/>
                  <a:pt x="19977" y="12382"/>
                  <a:pt x="20017" y="12601"/>
                </a:cubicBezTo>
                <a:cubicBezTo>
                  <a:pt x="20009" y="12601"/>
                  <a:pt x="20001" y="12601"/>
                  <a:pt x="19993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5240" y="4295880"/>
            <a:ext cx="928800" cy="285480"/>
          </a:xfrm>
          <a:custGeom>
            <a:avLst/>
            <a:gdLst/>
            <a:ahLst/>
            <a:rect l="l" t="t" r="r" b="b"/>
            <a:pathLst>
              <a:path w="2581" h="795">
                <a:moveTo>
                  <a:pt x="21109" y="12477"/>
                </a:moveTo>
                <a:cubicBezTo>
                  <a:pt x="21173" y="12607"/>
                  <a:pt x="21193" y="12636"/>
                  <a:pt x="21208" y="12725"/>
                </a:cubicBezTo>
                <a:cubicBezTo>
                  <a:pt x="21109" y="12494"/>
                  <a:pt x="21039" y="12367"/>
                  <a:pt x="21158" y="12154"/>
                </a:cubicBezTo>
                <a:cubicBezTo>
                  <a:pt x="21271" y="12250"/>
                  <a:pt x="21318" y="12538"/>
                  <a:pt x="21059" y="12452"/>
                </a:cubicBezTo>
                <a:cubicBezTo>
                  <a:pt x="21026" y="12419"/>
                  <a:pt x="20993" y="12386"/>
                  <a:pt x="20960" y="12353"/>
                </a:cubicBezTo>
              </a:path>
              <a:path w="2581" h="795">
                <a:moveTo>
                  <a:pt x="21208" y="12254"/>
                </a:moveTo>
                <a:cubicBezTo>
                  <a:pt x="21304" y="12241"/>
                  <a:pt x="21428" y="12234"/>
                  <a:pt x="21406" y="12129"/>
                </a:cubicBezTo>
                <a:cubicBezTo>
                  <a:pt x="21257" y="12229"/>
                  <a:pt x="21261" y="12227"/>
                  <a:pt x="21233" y="12402"/>
                </a:cubicBezTo>
                <a:cubicBezTo>
                  <a:pt x="21439" y="12485"/>
                  <a:pt x="21410" y="12423"/>
                  <a:pt x="21555" y="12229"/>
                </a:cubicBezTo>
              </a:path>
              <a:path w="2581" h="795">
                <a:moveTo>
                  <a:pt x="21580" y="12303"/>
                </a:moveTo>
                <a:cubicBezTo>
                  <a:pt x="21572" y="12320"/>
                  <a:pt x="21563" y="12336"/>
                  <a:pt x="21555" y="12353"/>
                </a:cubicBezTo>
                <a:cubicBezTo>
                  <a:pt x="21555" y="12288"/>
                  <a:pt x="21521" y="12090"/>
                  <a:pt x="21630" y="12080"/>
                </a:cubicBezTo>
                <a:cubicBezTo>
                  <a:pt x="21655" y="12088"/>
                  <a:pt x="21679" y="12097"/>
                  <a:pt x="21704" y="12105"/>
                </a:cubicBezTo>
              </a:path>
              <a:path w="2581" h="795">
                <a:moveTo>
                  <a:pt x="22002" y="12179"/>
                </a:moveTo>
                <a:cubicBezTo>
                  <a:pt x="21908" y="12108"/>
                  <a:pt x="21838" y="12305"/>
                  <a:pt x="21828" y="12378"/>
                </a:cubicBezTo>
                <a:cubicBezTo>
                  <a:pt x="21816" y="12466"/>
                  <a:pt x="21933" y="12355"/>
                  <a:pt x="21977" y="12278"/>
                </a:cubicBezTo>
                <a:cubicBezTo>
                  <a:pt x="21977" y="12245"/>
                  <a:pt x="21977" y="12212"/>
                  <a:pt x="21977" y="12179"/>
                </a:cubicBezTo>
                <a:cubicBezTo>
                  <a:pt x="22032" y="12427"/>
                  <a:pt x="22107" y="12427"/>
                  <a:pt x="22250" y="12229"/>
                </a:cubicBezTo>
              </a:path>
              <a:path w="2581" h="795">
                <a:moveTo>
                  <a:pt x="22200" y="11931"/>
                </a:moveTo>
                <a:cubicBezTo>
                  <a:pt x="22229" y="12044"/>
                  <a:pt x="22308" y="12370"/>
                  <a:pt x="22324" y="12402"/>
                </a:cubicBezTo>
              </a:path>
              <a:path w="2581" h="795">
                <a:moveTo>
                  <a:pt x="22027" y="12129"/>
                </a:moveTo>
                <a:cubicBezTo>
                  <a:pt x="22176" y="12121"/>
                  <a:pt x="22388" y="12039"/>
                  <a:pt x="22498" y="12179"/>
                </a:cubicBezTo>
                <a:cubicBezTo>
                  <a:pt x="22537" y="12277"/>
                  <a:pt x="22553" y="12291"/>
                  <a:pt x="22547" y="12353"/>
                </a:cubicBezTo>
              </a:path>
              <a:path w="2581" h="795">
                <a:moveTo>
                  <a:pt x="22473" y="11956"/>
                </a:moveTo>
                <a:cubicBezTo>
                  <a:pt x="22448" y="11931"/>
                  <a:pt x="22440" y="11923"/>
                  <a:pt x="22473" y="11956"/>
                </a:cubicBezTo>
              </a:path>
              <a:path w="2581" h="795">
                <a:moveTo>
                  <a:pt x="22746" y="12105"/>
                </a:moveTo>
                <a:cubicBezTo>
                  <a:pt x="22674" y="12256"/>
                  <a:pt x="22641" y="12246"/>
                  <a:pt x="22721" y="12378"/>
                </a:cubicBezTo>
                <a:cubicBezTo>
                  <a:pt x="22847" y="12298"/>
                  <a:pt x="22891" y="12218"/>
                  <a:pt x="22796" y="12080"/>
                </a:cubicBezTo>
                <a:cubicBezTo>
                  <a:pt x="22773" y="12057"/>
                  <a:pt x="22762" y="12049"/>
                  <a:pt x="22796" y="12055"/>
                </a:cubicBezTo>
                <a:cubicBezTo>
                  <a:pt x="22844" y="12084"/>
                  <a:pt x="23060" y="12303"/>
                  <a:pt x="23068" y="12303"/>
                </a:cubicBezTo>
                <a:cubicBezTo>
                  <a:pt x="23144" y="12304"/>
                  <a:pt x="23073" y="12154"/>
                  <a:pt x="23093" y="12080"/>
                </a:cubicBezTo>
                <a:cubicBezTo>
                  <a:pt x="23143" y="12160"/>
                  <a:pt x="23165" y="12257"/>
                  <a:pt x="23242" y="12303"/>
                </a:cubicBezTo>
              </a:path>
              <a:path w="2581" h="795">
                <a:moveTo>
                  <a:pt x="23490" y="11956"/>
                </a:moveTo>
                <a:cubicBezTo>
                  <a:pt x="23420" y="11987"/>
                  <a:pt x="23375" y="12009"/>
                  <a:pt x="23316" y="12055"/>
                </a:cubicBezTo>
                <a:cubicBezTo>
                  <a:pt x="23338" y="12082"/>
                  <a:pt x="23536" y="12163"/>
                  <a:pt x="23540" y="12204"/>
                </a:cubicBezTo>
                <a:cubicBezTo>
                  <a:pt x="23557" y="12380"/>
                  <a:pt x="23328" y="12269"/>
                  <a:pt x="2326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1000" y="4857840"/>
            <a:ext cx="312840" cy="527040"/>
          </a:xfrm>
          <a:custGeom>
            <a:avLst/>
            <a:gdLst/>
            <a:ahLst/>
            <a:rect l="l" t="t" r="r" b="b"/>
            <a:pathLst>
              <a:path w="869" h="1464">
                <a:moveTo>
                  <a:pt x="13072" y="13568"/>
                </a:moveTo>
                <a:cubicBezTo>
                  <a:pt x="13059" y="13557"/>
                  <a:pt x="13026" y="13527"/>
                  <a:pt x="12998" y="13519"/>
                </a:cubicBezTo>
                <a:cubicBezTo>
                  <a:pt x="12928" y="13500"/>
                  <a:pt x="12909" y="13510"/>
                  <a:pt x="12849" y="13519"/>
                </a:cubicBezTo>
                <a:cubicBezTo>
                  <a:pt x="12780" y="13529"/>
                  <a:pt x="12702" y="13534"/>
                  <a:pt x="12650" y="13593"/>
                </a:cubicBezTo>
                <a:cubicBezTo>
                  <a:pt x="12631" y="13614"/>
                  <a:pt x="12537" y="13709"/>
                  <a:pt x="12526" y="13742"/>
                </a:cubicBezTo>
                <a:cubicBezTo>
                  <a:pt x="12504" y="13807"/>
                  <a:pt x="12497" y="13893"/>
                  <a:pt x="12502" y="13940"/>
                </a:cubicBezTo>
                <a:cubicBezTo>
                  <a:pt x="12511" y="14029"/>
                  <a:pt x="12496" y="14084"/>
                  <a:pt x="12551" y="14163"/>
                </a:cubicBezTo>
                <a:cubicBezTo>
                  <a:pt x="12591" y="14220"/>
                  <a:pt x="12647" y="14249"/>
                  <a:pt x="12700" y="14288"/>
                </a:cubicBezTo>
                <a:cubicBezTo>
                  <a:pt x="12742" y="14319"/>
                  <a:pt x="12818" y="14324"/>
                  <a:pt x="12874" y="14312"/>
                </a:cubicBezTo>
                <a:cubicBezTo>
                  <a:pt x="12926" y="14301"/>
                  <a:pt x="12973" y="14286"/>
                  <a:pt x="13022" y="14263"/>
                </a:cubicBezTo>
                <a:cubicBezTo>
                  <a:pt x="13068" y="14241"/>
                  <a:pt x="13106" y="14255"/>
                  <a:pt x="13146" y="14238"/>
                </a:cubicBezTo>
                <a:cubicBezTo>
                  <a:pt x="13172" y="14227"/>
                  <a:pt x="13225" y="14202"/>
                  <a:pt x="13246" y="14188"/>
                </a:cubicBezTo>
                <a:cubicBezTo>
                  <a:pt x="13268" y="14173"/>
                  <a:pt x="13304" y="14114"/>
                  <a:pt x="13320" y="14089"/>
                </a:cubicBezTo>
                <a:cubicBezTo>
                  <a:pt x="13350" y="14042"/>
                  <a:pt x="13360" y="13946"/>
                  <a:pt x="13345" y="13891"/>
                </a:cubicBezTo>
                <a:cubicBezTo>
                  <a:pt x="13335" y="13857"/>
                  <a:pt x="13313" y="13797"/>
                  <a:pt x="13295" y="13767"/>
                </a:cubicBezTo>
                <a:cubicBezTo>
                  <a:pt x="13269" y="13722"/>
                  <a:pt x="13214" y="13690"/>
                  <a:pt x="13171" y="13667"/>
                </a:cubicBezTo>
                <a:cubicBezTo>
                  <a:pt x="13135" y="13648"/>
                  <a:pt x="13056" y="13602"/>
                  <a:pt x="13022" y="13593"/>
                </a:cubicBezTo>
                <a:cubicBezTo>
                  <a:pt x="12966" y="13578"/>
                  <a:pt x="12930" y="13587"/>
                  <a:pt x="12898" y="13568"/>
                </a:cubicBezTo>
              </a:path>
              <a:path w="869" h="1464">
                <a:moveTo>
                  <a:pt x="12626" y="14932"/>
                </a:moveTo>
                <a:cubicBezTo>
                  <a:pt x="12572" y="14932"/>
                  <a:pt x="12547" y="14945"/>
                  <a:pt x="12502" y="14957"/>
                </a:cubicBezTo>
                <a:cubicBezTo>
                  <a:pt x="12596" y="14957"/>
                  <a:pt x="12681" y="14937"/>
                  <a:pt x="12774" y="14932"/>
                </a:cubicBezTo>
                <a:cubicBezTo>
                  <a:pt x="12858" y="14927"/>
                  <a:pt x="12790" y="14916"/>
                  <a:pt x="12725" y="14908"/>
                </a:cubicBezTo>
                <a:cubicBezTo>
                  <a:pt x="12679" y="14903"/>
                  <a:pt x="12580" y="14908"/>
                  <a:pt x="1267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05160" y="5724360"/>
            <a:ext cx="706680" cy="598680"/>
          </a:xfrm>
          <a:custGeom>
            <a:avLst/>
            <a:gdLst/>
            <a:ahLst/>
            <a:rect l="l" t="t" r="r" b="b"/>
            <a:pathLst>
              <a:path w="1961" h="1663">
                <a:moveTo>
                  <a:pt x="12626" y="15925"/>
                </a:moveTo>
                <a:cubicBezTo>
                  <a:pt x="12645" y="15865"/>
                  <a:pt x="12700" y="15917"/>
                  <a:pt x="12750" y="15925"/>
                </a:cubicBezTo>
                <a:cubicBezTo>
                  <a:pt x="12791" y="15925"/>
                  <a:pt x="12799" y="15925"/>
                  <a:pt x="12824" y="15925"/>
                </a:cubicBezTo>
                <a:cubicBezTo>
                  <a:pt x="12788" y="15920"/>
                  <a:pt x="12597" y="15922"/>
                  <a:pt x="12650" y="15925"/>
                </a:cubicBezTo>
                <a:cubicBezTo>
                  <a:pt x="12660" y="15925"/>
                  <a:pt x="12889" y="15943"/>
                  <a:pt x="12750" y="15949"/>
                </a:cubicBezTo>
                <a:cubicBezTo>
                  <a:pt x="12717" y="15949"/>
                  <a:pt x="12683" y="15949"/>
                  <a:pt x="12650" y="15949"/>
                </a:cubicBezTo>
                <a:cubicBezTo>
                  <a:pt x="12716" y="15949"/>
                  <a:pt x="12783" y="15949"/>
                  <a:pt x="12849" y="15949"/>
                </a:cubicBezTo>
                <a:cubicBezTo>
                  <a:pt x="12800" y="15949"/>
                  <a:pt x="12741" y="15949"/>
                  <a:pt x="12824" y="15949"/>
                </a:cubicBezTo>
                <a:cubicBezTo>
                  <a:pt x="12955" y="15949"/>
                  <a:pt x="12857" y="15946"/>
                  <a:pt x="12923" y="15925"/>
                </a:cubicBezTo>
              </a:path>
              <a:path w="1961" h="1663">
                <a:moveTo>
                  <a:pt x="12477" y="16694"/>
                </a:moveTo>
                <a:cubicBezTo>
                  <a:pt x="12452" y="16694"/>
                  <a:pt x="12444" y="16694"/>
                  <a:pt x="12427" y="16694"/>
                </a:cubicBezTo>
                <a:cubicBezTo>
                  <a:pt x="12466" y="16655"/>
                  <a:pt x="12511" y="16573"/>
                  <a:pt x="12576" y="16644"/>
                </a:cubicBezTo>
                <a:cubicBezTo>
                  <a:pt x="12713" y="16795"/>
                  <a:pt x="12551" y="17041"/>
                  <a:pt x="12427" y="17140"/>
                </a:cubicBezTo>
                <a:cubicBezTo>
                  <a:pt x="12359" y="17194"/>
                  <a:pt x="12293" y="17211"/>
                  <a:pt x="12229" y="17190"/>
                </a:cubicBezTo>
                <a:cubicBezTo>
                  <a:pt x="12229" y="17096"/>
                  <a:pt x="12319" y="17080"/>
                  <a:pt x="12402" y="17066"/>
                </a:cubicBezTo>
                <a:cubicBezTo>
                  <a:pt x="12525" y="17046"/>
                  <a:pt x="12521" y="17111"/>
                  <a:pt x="12576" y="17190"/>
                </a:cubicBezTo>
                <a:cubicBezTo>
                  <a:pt x="12599" y="17212"/>
                  <a:pt x="12607" y="17217"/>
                  <a:pt x="12601" y="17239"/>
                </a:cubicBezTo>
              </a:path>
              <a:path w="1961" h="1663">
                <a:moveTo>
                  <a:pt x="13047" y="16644"/>
                </a:moveTo>
                <a:cubicBezTo>
                  <a:pt x="12978" y="16690"/>
                  <a:pt x="12888" y="16643"/>
                  <a:pt x="12849" y="16669"/>
                </a:cubicBezTo>
                <a:cubicBezTo>
                  <a:pt x="12830" y="16682"/>
                  <a:pt x="12849" y="16828"/>
                  <a:pt x="12849" y="16867"/>
                </a:cubicBezTo>
                <a:cubicBezTo>
                  <a:pt x="12912" y="16854"/>
                  <a:pt x="12966" y="16800"/>
                  <a:pt x="13022" y="16842"/>
                </a:cubicBezTo>
                <a:cubicBezTo>
                  <a:pt x="13115" y="16912"/>
                  <a:pt x="13115" y="16990"/>
                  <a:pt x="13047" y="17066"/>
                </a:cubicBezTo>
                <a:cubicBezTo>
                  <a:pt x="12985" y="17136"/>
                  <a:pt x="12867" y="17171"/>
                  <a:pt x="12774" y="17140"/>
                </a:cubicBezTo>
                <a:cubicBezTo>
                  <a:pt x="12752" y="17117"/>
                  <a:pt x="12744" y="17106"/>
                  <a:pt x="12750" y="17140"/>
                </a:cubicBezTo>
              </a:path>
              <a:path w="1961" h="1663">
                <a:moveTo>
                  <a:pt x="12278" y="17512"/>
                </a:moveTo>
                <a:cubicBezTo>
                  <a:pt x="12336" y="17524"/>
                  <a:pt x="12393" y="17525"/>
                  <a:pt x="12452" y="17537"/>
                </a:cubicBezTo>
                <a:cubicBezTo>
                  <a:pt x="12586" y="17563"/>
                  <a:pt x="12671" y="17549"/>
                  <a:pt x="12799" y="17537"/>
                </a:cubicBezTo>
                <a:cubicBezTo>
                  <a:pt x="12915" y="17526"/>
                  <a:pt x="13010" y="17504"/>
                  <a:pt x="13122" y="17487"/>
                </a:cubicBezTo>
                <a:cubicBezTo>
                  <a:pt x="13253" y="17467"/>
                  <a:pt x="13353" y="17421"/>
                  <a:pt x="13469" y="17363"/>
                </a:cubicBezTo>
                <a:cubicBezTo>
                  <a:pt x="13533" y="17331"/>
                  <a:pt x="13605" y="17241"/>
                  <a:pt x="13618" y="17165"/>
                </a:cubicBezTo>
                <a:cubicBezTo>
                  <a:pt x="13633" y="17080"/>
                  <a:pt x="13657" y="16982"/>
                  <a:pt x="13643" y="16892"/>
                </a:cubicBezTo>
                <a:cubicBezTo>
                  <a:pt x="13634" y="16835"/>
                  <a:pt x="13599" y="16762"/>
                  <a:pt x="13593" y="16694"/>
                </a:cubicBezTo>
                <a:cubicBezTo>
                  <a:pt x="13588" y="16633"/>
                  <a:pt x="13592" y="16573"/>
                  <a:pt x="13568" y="16520"/>
                </a:cubicBezTo>
                <a:cubicBezTo>
                  <a:pt x="13552" y="16485"/>
                  <a:pt x="13483" y="16384"/>
                  <a:pt x="13469" y="16371"/>
                </a:cubicBezTo>
                <a:cubicBezTo>
                  <a:pt x="13421" y="16326"/>
                  <a:pt x="13305" y="16253"/>
                  <a:pt x="13246" y="16222"/>
                </a:cubicBezTo>
                <a:cubicBezTo>
                  <a:pt x="13185" y="16190"/>
                  <a:pt x="13066" y="16135"/>
                  <a:pt x="12998" y="16123"/>
                </a:cubicBezTo>
                <a:cubicBezTo>
                  <a:pt x="12911" y="16107"/>
                  <a:pt x="12813" y="16083"/>
                  <a:pt x="12725" y="16073"/>
                </a:cubicBezTo>
                <a:cubicBezTo>
                  <a:pt x="12634" y="16062"/>
                  <a:pt x="12560" y="16093"/>
                  <a:pt x="12477" y="16123"/>
                </a:cubicBezTo>
                <a:cubicBezTo>
                  <a:pt x="12352" y="16168"/>
                  <a:pt x="12241" y="16215"/>
                  <a:pt x="12129" y="16272"/>
                </a:cubicBezTo>
                <a:cubicBezTo>
                  <a:pt x="12029" y="16323"/>
                  <a:pt x="11944" y="16372"/>
                  <a:pt x="11857" y="16446"/>
                </a:cubicBezTo>
                <a:cubicBezTo>
                  <a:pt x="11793" y="16500"/>
                  <a:pt x="11699" y="16552"/>
                  <a:pt x="11683" y="16644"/>
                </a:cubicBezTo>
                <a:cubicBezTo>
                  <a:pt x="11664" y="16753"/>
                  <a:pt x="11697" y="16860"/>
                  <a:pt x="11708" y="16966"/>
                </a:cubicBezTo>
                <a:cubicBezTo>
                  <a:pt x="11718" y="17066"/>
                  <a:pt x="11738" y="17146"/>
                  <a:pt x="11782" y="17239"/>
                </a:cubicBezTo>
                <a:cubicBezTo>
                  <a:pt x="11813" y="17305"/>
                  <a:pt x="11811" y="17333"/>
                  <a:pt x="11857" y="17388"/>
                </a:cubicBezTo>
                <a:cubicBezTo>
                  <a:pt x="11889" y="17427"/>
                  <a:pt x="11977" y="17501"/>
                  <a:pt x="12030" y="17512"/>
                </a:cubicBezTo>
                <a:cubicBezTo>
                  <a:pt x="12077" y="17522"/>
                  <a:pt x="12132" y="17533"/>
                  <a:pt x="12179" y="17537"/>
                </a:cubicBezTo>
                <a:cubicBezTo>
                  <a:pt x="12253" y="17544"/>
                  <a:pt x="12278" y="17537"/>
                  <a:pt x="1235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27320" y="5643720"/>
            <a:ext cx="250920" cy="160200"/>
          </a:xfrm>
          <a:custGeom>
            <a:avLst/>
            <a:gdLst/>
            <a:ahLst/>
            <a:rect l="l" t="t" r="r" b="b"/>
            <a:pathLst>
              <a:path w="695" h="447">
                <a:moveTo>
                  <a:pt x="11286" y="15751"/>
                </a:moveTo>
                <a:cubicBezTo>
                  <a:pt x="11286" y="15830"/>
                  <a:pt x="11277" y="15895"/>
                  <a:pt x="11212" y="15949"/>
                </a:cubicBezTo>
                <a:cubicBezTo>
                  <a:pt x="11177" y="15978"/>
                  <a:pt x="11275" y="15929"/>
                  <a:pt x="11311" y="15925"/>
                </a:cubicBezTo>
                <a:cubicBezTo>
                  <a:pt x="11375" y="15918"/>
                  <a:pt x="11396" y="15910"/>
                  <a:pt x="11410" y="15949"/>
                </a:cubicBezTo>
              </a:path>
              <a:path w="695" h="447">
                <a:moveTo>
                  <a:pt x="11509" y="15677"/>
                </a:moveTo>
                <a:cubicBezTo>
                  <a:pt x="11452" y="15793"/>
                  <a:pt x="11451" y="15941"/>
                  <a:pt x="11435" y="16073"/>
                </a:cubicBezTo>
                <a:cubicBezTo>
                  <a:pt x="11435" y="16098"/>
                  <a:pt x="11435" y="16106"/>
                  <a:pt x="11435" y="16073"/>
                </a:cubicBezTo>
              </a:path>
              <a:path w="695" h="447">
                <a:moveTo>
                  <a:pt x="11881" y="15677"/>
                </a:moveTo>
                <a:cubicBezTo>
                  <a:pt x="11832" y="15705"/>
                  <a:pt x="11790" y="15745"/>
                  <a:pt x="11733" y="15751"/>
                </a:cubicBezTo>
                <a:cubicBezTo>
                  <a:pt x="11697" y="15755"/>
                  <a:pt x="11687" y="15808"/>
                  <a:pt x="11683" y="15850"/>
                </a:cubicBezTo>
                <a:cubicBezTo>
                  <a:pt x="11683" y="15875"/>
                  <a:pt x="11683" y="15883"/>
                  <a:pt x="11683" y="15900"/>
                </a:cubicBezTo>
                <a:cubicBezTo>
                  <a:pt x="11750" y="15900"/>
                  <a:pt x="11817" y="15911"/>
                  <a:pt x="11857" y="15974"/>
                </a:cubicBezTo>
                <a:cubicBezTo>
                  <a:pt x="11912" y="16062"/>
                  <a:pt x="11825" y="16141"/>
                  <a:pt x="11733" y="16123"/>
                </a:cubicBezTo>
                <a:cubicBezTo>
                  <a:pt x="11671" y="16111"/>
                  <a:pt x="11645" y="16110"/>
                  <a:pt x="11633" y="160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6200" y="5160960"/>
            <a:ext cx="679680" cy="366840"/>
          </a:xfrm>
          <a:custGeom>
            <a:avLst/>
            <a:gdLst/>
            <a:ahLst/>
            <a:rect l="l" t="t" r="r" b="b"/>
            <a:pathLst>
              <a:path w="1886" h="1018">
                <a:moveTo>
                  <a:pt x="13419" y="14511"/>
                </a:moveTo>
                <a:cubicBezTo>
                  <a:pt x="13392" y="14652"/>
                  <a:pt x="13341" y="14783"/>
                  <a:pt x="13320" y="14932"/>
                </a:cubicBezTo>
                <a:cubicBezTo>
                  <a:pt x="13302" y="15056"/>
                  <a:pt x="13276" y="15215"/>
                  <a:pt x="13345" y="15329"/>
                </a:cubicBezTo>
                <a:cubicBezTo>
                  <a:pt x="13373" y="15357"/>
                  <a:pt x="13382" y="15361"/>
                  <a:pt x="13370" y="15304"/>
                </a:cubicBezTo>
              </a:path>
              <a:path w="1886" h="1018">
                <a:moveTo>
                  <a:pt x="13891" y="14585"/>
                </a:moveTo>
                <a:cubicBezTo>
                  <a:pt x="13844" y="14593"/>
                  <a:pt x="13697" y="14610"/>
                  <a:pt x="13667" y="14635"/>
                </a:cubicBezTo>
                <a:cubicBezTo>
                  <a:pt x="13630" y="14667"/>
                  <a:pt x="13615" y="14780"/>
                  <a:pt x="13593" y="14833"/>
                </a:cubicBezTo>
                <a:cubicBezTo>
                  <a:pt x="13661" y="14822"/>
                  <a:pt x="13753" y="14773"/>
                  <a:pt x="13816" y="14833"/>
                </a:cubicBezTo>
                <a:cubicBezTo>
                  <a:pt x="13948" y="14958"/>
                  <a:pt x="13791" y="15102"/>
                  <a:pt x="13667" y="15131"/>
                </a:cubicBezTo>
                <a:cubicBezTo>
                  <a:pt x="13609" y="15131"/>
                  <a:pt x="13585" y="15147"/>
                  <a:pt x="13593" y="15106"/>
                </a:cubicBezTo>
              </a:path>
              <a:path w="1886" h="1018">
                <a:moveTo>
                  <a:pt x="14163" y="14833"/>
                </a:moveTo>
                <a:cubicBezTo>
                  <a:pt x="14246" y="14883"/>
                  <a:pt x="14287" y="14980"/>
                  <a:pt x="14312" y="15081"/>
                </a:cubicBezTo>
                <a:cubicBezTo>
                  <a:pt x="14312" y="15106"/>
                  <a:pt x="14312" y="15114"/>
                  <a:pt x="14312" y="15131"/>
                </a:cubicBezTo>
              </a:path>
              <a:path w="1886" h="1018">
                <a:moveTo>
                  <a:pt x="14387" y="14808"/>
                </a:moveTo>
                <a:cubicBezTo>
                  <a:pt x="14342" y="14841"/>
                  <a:pt x="14253" y="14966"/>
                  <a:pt x="14213" y="15032"/>
                </a:cubicBezTo>
                <a:cubicBezTo>
                  <a:pt x="14213" y="15056"/>
                  <a:pt x="14213" y="15065"/>
                  <a:pt x="14213" y="15081"/>
                </a:cubicBezTo>
              </a:path>
              <a:path w="1886" h="1018">
                <a:moveTo>
                  <a:pt x="14635" y="14734"/>
                </a:moveTo>
                <a:cubicBezTo>
                  <a:pt x="14625" y="14786"/>
                  <a:pt x="14595" y="14831"/>
                  <a:pt x="14585" y="14883"/>
                </a:cubicBezTo>
                <a:cubicBezTo>
                  <a:pt x="14641" y="14883"/>
                  <a:pt x="14768" y="14907"/>
                  <a:pt x="14784" y="14858"/>
                </a:cubicBezTo>
                <a:cubicBezTo>
                  <a:pt x="14792" y="14833"/>
                  <a:pt x="14800" y="14809"/>
                  <a:pt x="14808" y="14784"/>
                </a:cubicBezTo>
              </a:path>
              <a:path w="1886" h="1018">
                <a:moveTo>
                  <a:pt x="14784" y="14684"/>
                </a:moveTo>
                <a:cubicBezTo>
                  <a:pt x="14764" y="14823"/>
                  <a:pt x="14745" y="14965"/>
                  <a:pt x="14734" y="15106"/>
                </a:cubicBezTo>
                <a:cubicBezTo>
                  <a:pt x="14734" y="15167"/>
                  <a:pt x="14725" y="15201"/>
                  <a:pt x="14759" y="15156"/>
                </a:cubicBezTo>
              </a:path>
              <a:path w="1886" h="1018">
                <a:moveTo>
                  <a:pt x="14908" y="14337"/>
                </a:moveTo>
                <a:cubicBezTo>
                  <a:pt x="14991" y="14444"/>
                  <a:pt x="15080" y="14555"/>
                  <a:pt x="15131" y="14684"/>
                </a:cubicBezTo>
                <a:cubicBezTo>
                  <a:pt x="15208" y="14878"/>
                  <a:pt x="15183" y="15048"/>
                  <a:pt x="15056" y="15205"/>
                </a:cubicBezTo>
                <a:cubicBezTo>
                  <a:pt x="15048" y="15213"/>
                  <a:pt x="15040" y="15222"/>
                  <a:pt x="15032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0240" y="5249880"/>
            <a:ext cx="125640" cy="19836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8380" y="14585"/>
                </a:moveTo>
                <a:cubicBezTo>
                  <a:pt x="18317" y="14605"/>
                  <a:pt x="18176" y="14623"/>
                  <a:pt x="18132" y="14660"/>
                </a:cubicBezTo>
                <a:cubicBezTo>
                  <a:pt x="18091" y="14694"/>
                  <a:pt x="18086" y="14831"/>
                  <a:pt x="18083" y="14883"/>
                </a:cubicBezTo>
                <a:cubicBezTo>
                  <a:pt x="18083" y="14891"/>
                  <a:pt x="18083" y="14900"/>
                  <a:pt x="18083" y="14908"/>
                </a:cubicBezTo>
                <a:cubicBezTo>
                  <a:pt x="18164" y="14891"/>
                  <a:pt x="18240" y="14830"/>
                  <a:pt x="18331" y="14858"/>
                </a:cubicBezTo>
                <a:cubicBezTo>
                  <a:pt x="18527" y="14917"/>
                  <a:pt x="18377" y="15096"/>
                  <a:pt x="18256" y="15131"/>
                </a:cubicBezTo>
                <a:cubicBezTo>
                  <a:pt x="18200" y="15147"/>
                  <a:pt x="18074" y="15131"/>
                  <a:pt x="18132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16800" y="5742000"/>
            <a:ext cx="322200" cy="16992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8529" y="15999"/>
                </a:moveTo>
                <a:cubicBezTo>
                  <a:pt x="18603" y="15999"/>
                  <a:pt x="18715" y="16024"/>
                  <a:pt x="18752" y="16098"/>
                </a:cubicBezTo>
                <a:cubicBezTo>
                  <a:pt x="18831" y="16256"/>
                  <a:pt x="18572" y="16453"/>
                  <a:pt x="18430" y="16396"/>
                </a:cubicBezTo>
                <a:cubicBezTo>
                  <a:pt x="18413" y="16371"/>
                  <a:pt x="18397" y="16346"/>
                  <a:pt x="18380" y="16321"/>
                </a:cubicBezTo>
                <a:cubicBezTo>
                  <a:pt x="18470" y="16222"/>
                  <a:pt x="18571" y="16185"/>
                  <a:pt x="18678" y="16321"/>
                </a:cubicBezTo>
                <a:cubicBezTo>
                  <a:pt x="18702" y="16352"/>
                  <a:pt x="18703" y="16485"/>
                  <a:pt x="18703" y="16371"/>
                </a:cubicBezTo>
              </a:path>
              <a:path w="894" h="473">
                <a:moveTo>
                  <a:pt x="19100" y="15949"/>
                </a:moveTo>
                <a:cubicBezTo>
                  <a:pt x="19043" y="15977"/>
                  <a:pt x="18949" y="16001"/>
                  <a:pt x="18926" y="16024"/>
                </a:cubicBezTo>
                <a:cubicBezTo>
                  <a:pt x="18893" y="16057"/>
                  <a:pt x="18901" y="16078"/>
                  <a:pt x="18901" y="16123"/>
                </a:cubicBezTo>
                <a:cubicBezTo>
                  <a:pt x="18986" y="16080"/>
                  <a:pt x="19100" y="16015"/>
                  <a:pt x="19199" y="16049"/>
                </a:cubicBezTo>
                <a:cubicBezTo>
                  <a:pt x="19404" y="16120"/>
                  <a:pt x="19171" y="16360"/>
                  <a:pt x="19075" y="16396"/>
                </a:cubicBezTo>
                <a:cubicBezTo>
                  <a:pt x="18997" y="16396"/>
                  <a:pt x="18979" y="16411"/>
                  <a:pt x="18951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8640" y="5224320"/>
            <a:ext cx="161640" cy="177840"/>
          </a:xfrm>
          <a:custGeom>
            <a:avLst/>
            <a:gdLst/>
            <a:ahLst/>
            <a:rect l="l" t="t" r="r" b="b"/>
            <a:pathLst>
              <a:path w="448" h="497">
                <a:moveTo>
                  <a:pt x="19372" y="14511"/>
                </a:moveTo>
                <a:cubicBezTo>
                  <a:pt x="19331" y="14514"/>
                  <a:pt x="19135" y="14509"/>
                  <a:pt x="19124" y="14560"/>
                </a:cubicBezTo>
                <a:cubicBezTo>
                  <a:pt x="19124" y="14651"/>
                  <a:pt x="19124" y="14676"/>
                  <a:pt x="19124" y="14734"/>
                </a:cubicBezTo>
                <a:cubicBezTo>
                  <a:pt x="19210" y="14734"/>
                  <a:pt x="19347" y="14708"/>
                  <a:pt x="19422" y="14759"/>
                </a:cubicBezTo>
                <a:cubicBezTo>
                  <a:pt x="19439" y="14784"/>
                  <a:pt x="19455" y="14808"/>
                  <a:pt x="19472" y="14833"/>
                </a:cubicBezTo>
                <a:cubicBezTo>
                  <a:pt x="19341" y="15016"/>
                  <a:pt x="19249" y="15001"/>
                  <a:pt x="19025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46760" y="5643720"/>
            <a:ext cx="304560" cy="142560"/>
          </a:xfrm>
          <a:custGeom>
            <a:avLst/>
            <a:gdLst/>
            <a:ahLst/>
            <a:rect l="l" t="t" r="r" b="b"/>
            <a:pathLst>
              <a:path w="844" h="397">
                <a:moveTo>
                  <a:pt x="13965" y="15701"/>
                </a:moveTo>
                <a:cubicBezTo>
                  <a:pt x="13965" y="15729"/>
                  <a:pt x="13963" y="15735"/>
                  <a:pt x="13940" y="15701"/>
                </a:cubicBezTo>
                <a:cubicBezTo>
                  <a:pt x="14006" y="15663"/>
                  <a:pt x="14105" y="15642"/>
                  <a:pt x="14089" y="15776"/>
                </a:cubicBezTo>
                <a:cubicBezTo>
                  <a:pt x="14064" y="15979"/>
                  <a:pt x="13950" y="16063"/>
                  <a:pt x="13767" y="16073"/>
                </a:cubicBezTo>
                <a:cubicBezTo>
                  <a:pt x="13742" y="16073"/>
                  <a:pt x="13734" y="16073"/>
                  <a:pt x="13742" y="16049"/>
                </a:cubicBezTo>
                <a:cubicBezTo>
                  <a:pt x="13886" y="15956"/>
                  <a:pt x="13906" y="15982"/>
                  <a:pt x="14039" y="16049"/>
                </a:cubicBezTo>
                <a:cubicBezTo>
                  <a:pt x="14064" y="16049"/>
                  <a:pt x="14072" y="16049"/>
                  <a:pt x="14089" y="16049"/>
                </a:cubicBezTo>
              </a:path>
              <a:path w="844" h="397">
                <a:moveTo>
                  <a:pt x="14387" y="15776"/>
                </a:moveTo>
                <a:cubicBezTo>
                  <a:pt x="14306" y="15872"/>
                  <a:pt x="14312" y="15927"/>
                  <a:pt x="14312" y="16049"/>
                </a:cubicBezTo>
                <a:cubicBezTo>
                  <a:pt x="14388" y="16062"/>
                  <a:pt x="14604" y="16075"/>
                  <a:pt x="14585" y="15925"/>
                </a:cubicBezTo>
                <a:cubicBezTo>
                  <a:pt x="14568" y="15785"/>
                  <a:pt x="14403" y="15777"/>
                  <a:pt x="14337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29200" y="4633920"/>
            <a:ext cx="135000" cy="1805040"/>
          </a:xfrm>
          <a:custGeom>
            <a:avLst/>
            <a:gdLst/>
            <a:ahLst/>
            <a:rect l="l" t="t" r="r" b="b"/>
            <a:pathLst>
              <a:path w="373" h="5011">
                <a:moveTo>
                  <a:pt x="16793" y="12874"/>
                </a:moveTo>
                <a:cubicBezTo>
                  <a:pt x="16738" y="12973"/>
                  <a:pt x="16670" y="13089"/>
                  <a:pt x="16619" y="13196"/>
                </a:cubicBezTo>
                <a:cubicBezTo>
                  <a:pt x="16550" y="13342"/>
                  <a:pt x="16460" y="13574"/>
                  <a:pt x="16495" y="13742"/>
                </a:cubicBezTo>
                <a:cubicBezTo>
                  <a:pt x="16517" y="13846"/>
                  <a:pt x="16555" y="13877"/>
                  <a:pt x="16619" y="13965"/>
                </a:cubicBezTo>
                <a:cubicBezTo>
                  <a:pt x="16757" y="14153"/>
                  <a:pt x="16753" y="14253"/>
                  <a:pt x="16669" y="14486"/>
                </a:cubicBezTo>
                <a:cubicBezTo>
                  <a:pt x="16586" y="14715"/>
                  <a:pt x="16480" y="14885"/>
                  <a:pt x="16470" y="15131"/>
                </a:cubicBezTo>
                <a:cubicBezTo>
                  <a:pt x="16464" y="15287"/>
                  <a:pt x="16478" y="15472"/>
                  <a:pt x="16495" y="15627"/>
                </a:cubicBezTo>
                <a:cubicBezTo>
                  <a:pt x="16508" y="15741"/>
                  <a:pt x="16536" y="15938"/>
                  <a:pt x="16619" y="16024"/>
                </a:cubicBezTo>
                <a:cubicBezTo>
                  <a:pt x="16847" y="16261"/>
                  <a:pt x="16884" y="16379"/>
                  <a:pt x="16743" y="16694"/>
                </a:cubicBezTo>
                <a:cubicBezTo>
                  <a:pt x="16685" y="16823"/>
                  <a:pt x="16631" y="16954"/>
                  <a:pt x="16594" y="17090"/>
                </a:cubicBezTo>
                <a:cubicBezTo>
                  <a:pt x="16551" y="17246"/>
                  <a:pt x="16607" y="17404"/>
                  <a:pt x="16619" y="17562"/>
                </a:cubicBezTo>
                <a:cubicBezTo>
                  <a:pt x="16626" y="17654"/>
                  <a:pt x="16647" y="17708"/>
                  <a:pt x="16669" y="17785"/>
                </a:cubicBezTo>
                <a:cubicBezTo>
                  <a:pt x="16681" y="17827"/>
                  <a:pt x="16679" y="17818"/>
                  <a:pt x="16694" y="178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41960" y="5884920"/>
            <a:ext cx="1295280" cy="339840"/>
          </a:xfrm>
          <a:custGeom>
            <a:avLst/>
            <a:gdLst/>
            <a:ahLst/>
            <a:rect l="l" t="t" r="r" b="b"/>
            <a:pathLst>
              <a:path w="3598" h="944">
                <a:moveTo>
                  <a:pt x="18083" y="16570"/>
                </a:moveTo>
                <a:cubicBezTo>
                  <a:pt x="18043" y="16631"/>
                  <a:pt x="18041" y="16674"/>
                  <a:pt x="17959" y="16718"/>
                </a:cubicBezTo>
                <a:cubicBezTo>
                  <a:pt x="17791" y="16808"/>
                  <a:pt x="17595" y="16887"/>
                  <a:pt x="17413" y="16942"/>
                </a:cubicBezTo>
                <a:cubicBezTo>
                  <a:pt x="17162" y="17017"/>
                  <a:pt x="16880" y="17095"/>
                  <a:pt x="16619" y="17115"/>
                </a:cubicBezTo>
                <a:cubicBezTo>
                  <a:pt x="16399" y="17132"/>
                  <a:pt x="16170" y="17136"/>
                  <a:pt x="15949" y="17140"/>
                </a:cubicBezTo>
                <a:cubicBezTo>
                  <a:pt x="15719" y="17144"/>
                  <a:pt x="15485" y="17188"/>
                  <a:pt x="15255" y="17165"/>
                </a:cubicBezTo>
                <a:cubicBezTo>
                  <a:pt x="15106" y="17150"/>
                  <a:pt x="14956" y="17129"/>
                  <a:pt x="14808" y="17115"/>
                </a:cubicBezTo>
                <a:cubicBezTo>
                  <a:pt x="14740" y="17108"/>
                  <a:pt x="14640" y="17029"/>
                  <a:pt x="14610" y="17090"/>
                </a:cubicBezTo>
                <a:cubicBezTo>
                  <a:pt x="14581" y="17149"/>
                  <a:pt x="14643" y="17186"/>
                  <a:pt x="14684" y="17264"/>
                </a:cubicBezTo>
                <a:cubicBezTo>
                  <a:pt x="14684" y="17272"/>
                  <a:pt x="14684" y="17281"/>
                  <a:pt x="14684" y="17289"/>
                </a:cubicBezTo>
                <a:cubicBezTo>
                  <a:pt x="14643" y="17217"/>
                  <a:pt x="14597" y="17118"/>
                  <a:pt x="14560" y="17041"/>
                </a:cubicBezTo>
                <a:cubicBezTo>
                  <a:pt x="14706" y="17009"/>
                  <a:pt x="14822" y="16947"/>
                  <a:pt x="14932" y="16892"/>
                </a:cubicBezTo>
                <a:cubicBezTo>
                  <a:pt x="14940" y="16892"/>
                  <a:pt x="14949" y="16892"/>
                  <a:pt x="14957" y="16892"/>
                </a:cubicBezTo>
              </a:path>
              <a:path w="3598" h="944">
                <a:moveTo>
                  <a:pt x="17959" y="16619"/>
                </a:moveTo>
                <a:cubicBezTo>
                  <a:pt x="17942" y="16619"/>
                  <a:pt x="17850" y="16633"/>
                  <a:pt x="17909" y="16619"/>
                </a:cubicBezTo>
                <a:cubicBezTo>
                  <a:pt x="17961" y="16607"/>
                  <a:pt x="18115" y="16527"/>
                  <a:pt x="18157" y="16594"/>
                </a:cubicBezTo>
                <a:cubicBezTo>
                  <a:pt x="18196" y="16656"/>
                  <a:pt x="18140" y="16827"/>
                  <a:pt x="18132" y="16892"/>
                </a:cubicBezTo>
              </a:path>
              <a:path w="3598" h="944">
                <a:moveTo>
                  <a:pt x="16197" y="16694"/>
                </a:moveTo>
                <a:cubicBezTo>
                  <a:pt x="16256" y="16729"/>
                  <a:pt x="16296" y="16807"/>
                  <a:pt x="16346" y="16867"/>
                </a:cubicBezTo>
                <a:cubicBezTo>
                  <a:pt x="16370" y="16725"/>
                  <a:pt x="16415" y="16568"/>
                  <a:pt x="16495" y="16446"/>
                </a:cubicBezTo>
                <a:cubicBezTo>
                  <a:pt x="16551" y="16390"/>
                  <a:pt x="16576" y="16392"/>
                  <a:pt x="16570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1.) 4(8 + 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2.) 6(12 + 1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3.) 3(17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1422360" y="0"/>
            <a:ext cx="62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38320" y="1697040"/>
            <a:ext cx="2428920" cy="795240"/>
          </a:xfrm>
          <a:custGeom>
            <a:avLst/>
            <a:gdLst/>
            <a:ahLst/>
            <a:rect l="l" t="t" r="r" b="b"/>
            <a:pathLst>
              <a:path w="6748" h="2209">
                <a:moveTo>
                  <a:pt x="8161" y="4812"/>
                </a:moveTo>
                <a:cubicBezTo>
                  <a:pt x="8316" y="4812"/>
                  <a:pt x="8493" y="4829"/>
                  <a:pt x="8632" y="4837"/>
                </a:cubicBezTo>
                <a:cubicBezTo>
                  <a:pt x="8832" y="4848"/>
                  <a:pt x="9031" y="4822"/>
                  <a:pt x="9227" y="4812"/>
                </a:cubicBezTo>
                <a:cubicBezTo>
                  <a:pt x="9368" y="4805"/>
                  <a:pt x="9511" y="4794"/>
                  <a:pt x="9649" y="4787"/>
                </a:cubicBezTo>
                <a:cubicBezTo>
                  <a:pt x="9938" y="4773"/>
                  <a:pt x="10231" y="4776"/>
                  <a:pt x="10517" y="4762"/>
                </a:cubicBezTo>
                <a:cubicBezTo>
                  <a:pt x="10635" y="4756"/>
                  <a:pt x="10748" y="4754"/>
                  <a:pt x="10864" y="4738"/>
                </a:cubicBezTo>
                <a:cubicBezTo>
                  <a:pt x="10967" y="4724"/>
                  <a:pt x="11056" y="4715"/>
                  <a:pt x="11162" y="4713"/>
                </a:cubicBezTo>
                <a:cubicBezTo>
                  <a:pt x="11469" y="4707"/>
                  <a:pt x="11777" y="4727"/>
                  <a:pt x="12080" y="4738"/>
                </a:cubicBezTo>
                <a:cubicBezTo>
                  <a:pt x="12468" y="4753"/>
                  <a:pt x="12863" y="4741"/>
                  <a:pt x="13246" y="4713"/>
                </a:cubicBezTo>
                <a:cubicBezTo>
                  <a:pt x="13711" y="4680"/>
                  <a:pt x="14199" y="4710"/>
                  <a:pt x="14660" y="4738"/>
                </a:cubicBezTo>
                <a:cubicBezTo>
                  <a:pt x="14743" y="4743"/>
                  <a:pt x="14807" y="4718"/>
                  <a:pt x="14883" y="4713"/>
                </a:cubicBezTo>
                <a:cubicBezTo>
                  <a:pt x="14891" y="4713"/>
                  <a:pt x="14900" y="4713"/>
                  <a:pt x="14908" y="4713"/>
                </a:cubicBezTo>
              </a:path>
              <a:path w="6748" h="2209">
                <a:moveTo>
                  <a:pt x="11881" y="6796"/>
                </a:moveTo>
                <a:cubicBezTo>
                  <a:pt x="11890" y="6839"/>
                  <a:pt x="11903" y="6861"/>
                  <a:pt x="11931" y="6896"/>
                </a:cubicBezTo>
                <a:cubicBezTo>
                  <a:pt x="12050" y="6822"/>
                  <a:pt x="12182" y="6532"/>
                  <a:pt x="12303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27160" y="2340000"/>
            <a:ext cx="4081680" cy="2911320"/>
          </a:xfrm>
          <a:custGeom>
            <a:avLst/>
            <a:gdLst/>
            <a:ahLst/>
            <a:rect l="l" t="t" r="r" b="b"/>
            <a:pathLst>
              <a:path w="11336" h="8087">
                <a:moveTo>
                  <a:pt x="6251" y="6623"/>
                </a:moveTo>
                <a:cubicBezTo>
                  <a:pt x="6156" y="6741"/>
                  <a:pt x="6156" y="6951"/>
                  <a:pt x="6176" y="7094"/>
                </a:cubicBezTo>
                <a:cubicBezTo>
                  <a:pt x="6190" y="7195"/>
                  <a:pt x="6248" y="7317"/>
                  <a:pt x="6350" y="7342"/>
                </a:cubicBezTo>
              </a:path>
              <a:path w="11336" h="8087">
                <a:moveTo>
                  <a:pt x="6424" y="6796"/>
                </a:moveTo>
                <a:lnTo>
                  <a:pt x="6424" y="6796"/>
                </a:lnTo>
              </a:path>
              <a:path w="11336" h="8087">
                <a:moveTo>
                  <a:pt x="6400" y="6796"/>
                </a:moveTo>
                <a:lnTo>
                  <a:pt x="6400" y="6796"/>
                </a:lnTo>
              </a:path>
              <a:path w="11336" h="8087">
                <a:moveTo>
                  <a:pt x="6400" y="6796"/>
                </a:moveTo>
                <a:lnTo>
                  <a:pt x="6400" y="6796"/>
                </a:lnTo>
              </a:path>
              <a:path w="11336" h="8087">
                <a:moveTo>
                  <a:pt x="6424" y="6796"/>
                </a:moveTo>
                <a:lnTo>
                  <a:pt x="6424" y="6796"/>
                </a:lnTo>
              </a:path>
              <a:path w="11336" h="8087">
                <a:moveTo>
                  <a:pt x="6424" y="6821"/>
                </a:moveTo>
                <a:lnTo>
                  <a:pt x="6424" y="6821"/>
                </a:lnTo>
              </a:path>
              <a:path w="11336" h="8087">
                <a:moveTo>
                  <a:pt x="7069" y="6648"/>
                </a:moveTo>
                <a:cubicBezTo>
                  <a:pt x="7041" y="6760"/>
                  <a:pt x="7004" y="6853"/>
                  <a:pt x="6995" y="6970"/>
                </a:cubicBezTo>
              </a:path>
              <a:path w="11336" h="8087">
                <a:moveTo>
                  <a:pt x="7665" y="6598"/>
                </a:moveTo>
                <a:cubicBezTo>
                  <a:pt x="7822" y="6671"/>
                  <a:pt x="7933" y="6739"/>
                  <a:pt x="7962" y="6921"/>
                </a:cubicBezTo>
                <a:cubicBezTo>
                  <a:pt x="7980" y="7032"/>
                  <a:pt x="7923" y="7163"/>
                  <a:pt x="7813" y="7119"/>
                </a:cubicBezTo>
              </a:path>
              <a:path w="11336" h="8087">
                <a:moveTo>
                  <a:pt x="5631" y="7565"/>
                </a:moveTo>
                <a:cubicBezTo>
                  <a:pt x="5690" y="7555"/>
                  <a:pt x="5746" y="7535"/>
                  <a:pt x="5804" y="7516"/>
                </a:cubicBezTo>
              </a:path>
              <a:path w="11336" h="8087">
                <a:moveTo>
                  <a:pt x="13965" y="7565"/>
                </a:moveTo>
                <a:cubicBezTo>
                  <a:pt x="14389" y="7605"/>
                  <a:pt x="14788" y="7589"/>
                  <a:pt x="15106" y="7243"/>
                </a:cubicBezTo>
                <a:cubicBezTo>
                  <a:pt x="15472" y="6845"/>
                  <a:pt x="14970" y="6350"/>
                  <a:pt x="14511" y="6499"/>
                </a:cubicBezTo>
                <a:cubicBezTo>
                  <a:pt x="13723" y="6755"/>
                  <a:pt x="13578" y="7242"/>
                  <a:pt x="14163" y="7615"/>
                </a:cubicBezTo>
              </a:path>
              <a:path w="11336" h="8087">
                <a:moveTo>
                  <a:pt x="16644" y="12973"/>
                </a:moveTo>
                <a:cubicBezTo>
                  <a:pt x="16741" y="12917"/>
                  <a:pt x="16854" y="12919"/>
                  <a:pt x="16966" y="12898"/>
                </a:cubicBezTo>
              </a:path>
              <a:path w="11336" h="8087">
                <a:moveTo>
                  <a:pt x="16718" y="13767"/>
                </a:moveTo>
                <a:cubicBezTo>
                  <a:pt x="16838" y="13853"/>
                  <a:pt x="17049" y="14028"/>
                  <a:pt x="16966" y="14213"/>
                </a:cubicBezTo>
                <a:cubicBezTo>
                  <a:pt x="16848" y="14331"/>
                  <a:pt x="16815" y="14371"/>
                  <a:pt x="16694" y="14362"/>
                </a:cubicBezTo>
              </a:path>
              <a:path w="11336" h="8087">
                <a:moveTo>
                  <a:pt x="16049" y="13692"/>
                </a:moveTo>
                <a:cubicBezTo>
                  <a:pt x="15895" y="13769"/>
                  <a:pt x="15805" y="14021"/>
                  <a:pt x="15776" y="14188"/>
                </a:cubicBezTo>
                <a:cubicBezTo>
                  <a:pt x="15734" y="14429"/>
                  <a:pt x="15834" y="14464"/>
                  <a:pt x="15999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200" y="1608120"/>
            <a:ext cx="2536920" cy="1143000"/>
          </a:xfrm>
          <a:custGeom>
            <a:avLst/>
            <a:gdLst/>
            <a:ahLst/>
            <a:rect l="l" t="t" r="r" b="b"/>
            <a:pathLst>
              <a:path w="7046" h="3176">
                <a:moveTo>
                  <a:pt x="4217" y="5159"/>
                </a:moveTo>
                <a:cubicBezTo>
                  <a:pt x="4217" y="5167"/>
                  <a:pt x="4217" y="5176"/>
                  <a:pt x="4217" y="5184"/>
                </a:cubicBezTo>
                <a:cubicBezTo>
                  <a:pt x="4217" y="5225"/>
                  <a:pt x="4246" y="5099"/>
                  <a:pt x="4266" y="5060"/>
                </a:cubicBezTo>
                <a:cubicBezTo>
                  <a:pt x="4308" y="4980"/>
                  <a:pt x="4383" y="4926"/>
                  <a:pt x="4465" y="4887"/>
                </a:cubicBezTo>
                <a:cubicBezTo>
                  <a:pt x="4542" y="4850"/>
                  <a:pt x="4678" y="4846"/>
                  <a:pt x="4762" y="4862"/>
                </a:cubicBezTo>
                <a:cubicBezTo>
                  <a:pt x="4864" y="4881"/>
                  <a:pt x="4916" y="4941"/>
                  <a:pt x="4986" y="5011"/>
                </a:cubicBezTo>
                <a:cubicBezTo>
                  <a:pt x="5029" y="5054"/>
                  <a:pt x="5071" y="5104"/>
                  <a:pt x="5085" y="5159"/>
                </a:cubicBezTo>
                <a:cubicBezTo>
                  <a:pt x="5125" y="5108"/>
                  <a:pt x="5088" y="5063"/>
                  <a:pt x="5085" y="4986"/>
                </a:cubicBezTo>
                <a:cubicBezTo>
                  <a:pt x="5083" y="4945"/>
                  <a:pt x="5085" y="4903"/>
                  <a:pt x="5085" y="4862"/>
                </a:cubicBezTo>
                <a:cubicBezTo>
                  <a:pt x="5113" y="4925"/>
                  <a:pt x="5129" y="4989"/>
                  <a:pt x="5135" y="5060"/>
                </a:cubicBezTo>
                <a:cubicBezTo>
                  <a:pt x="5135" y="5068"/>
                  <a:pt x="5135" y="5077"/>
                  <a:pt x="5135" y="5085"/>
                </a:cubicBezTo>
                <a:cubicBezTo>
                  <a:pt x="5072" y="5132"/>
                  <a:pt x="4991" y="5090"/>
                  <a:pt x="4911" y="5085"/>
                </a:cubicBezTo>
                <a:cubicBezTo>
                  <a:pt x="4903" y="5085"/>
                  <a:pt x="4895" y="5085"/>
                  <a:pt x="4887" y="5085"/>
                </a:cubicBezTo>
              </a:path>
              <a:path w="7046" h="3176">
                <a:moveTo>
                  <a:pt x="4018" y="6573"/>
                </a:moveTo>
                <a:cubicBezTo>
                  <a:pt x="4001" y="6537"/>
                  <a:pt x="3881" y="6768"/>
                  <a:pt x="3870" y="6796"/>
                </a:cubicBezTo>
                <a:cubicBezTo>
                  <a:pt x="3793" y="6983"/>
                  <a:pt x="3813" y="7040"/>
                  <a:pt x="3894" y="7169"/>
                </a:cubicBezTo>
                <a:cubicBezTo>
                  <a:pt x="3915" y="7202"/>
                  <a:pt x="3900" y="7201"/>
                  <a:pt x="3944" y="7169"/>
                </a:cubicBezTo>
              </a:path>
              <a:path w="7046" h="3176">
                <a:moveTo>
                  <a:pt x="4192" y="6697"/>
                </a:moveTo>
                <a:cubicBezTo>
                  <a:pt x="4183" y="6733"/>
                  <a:pt x="4100" y="6823"/>
                  <a:pt x="4167" y="6846"/>
                </a:cubicBezTo>
                <a:cubicBezTo>
                  <a:pt x="4211" y="6861"/>
                  <a:pt x="4291" y="6846"/>
                  <a:pt x="4341" y="6846"/>
                </a:cubicBezTo>
              </a:path>
              <a:path w="7046" h="3176">
                <a:moveTo>
                  <a:pt x="4366" y="6648"/>
                </a:moveTo>
                <a:cubicBezTo>
                  <a:pt x="4366" y="6770"/>
                  <a:pt x="4321" y="6877"/>
                  <a:pt x="4291" y="6995"/>
                </a:cubicBezTo>
                <a:cubicBezTo>
                  <a:pt x="4281" y="7033"/>
                  <a:pt x="4200" y="7190"/>
                  <a:pt x="4266" y="7144"/>
                </a:cubicBezTo>
              </a:path>
              <a:path w="7046" h="3176">
                <a:moveTo>
                  <a:pt x="4614" y="6747"/>
                </a:moveTo>
                <a:cubicBezTo>
                  <a:pt x="4636" y="6823"/>
                  <a:pt x="4699" y="6895"/>
                  <a:pt x="4713" y="6970"/>
                </a:cubicBezTo>
                <a:cubicBezTo>
                  <a:pt x="4713" y="6978"/>
                  <a:pt x="4713" y="6987"/>
                  <a:pt x="4713" y="6995"/>
                </a:cubicBezTo>
              </a:path>
              <a:path w="7046" h="3176">
                <a:moveTo>
                  <a:pt x="4787" y="6722"/>
                </a:moveTo>
                <a:cubicBezTo>
                  <a:pt x="4726" y="6817"/>
                  <a:pt x="4648" y="6916"/>
                  <a:pt x="4614" y="7020"/>
                </a:cubicBezTo>
              </a:path>
              <a:path w="7046" h="3176">
                <a:moveTo>
                  <a:pt x="5209" y="6648"/>
                </a:moveTo>
                <a:cubicBezTo>
                  <a:pt x="5082" y="6689"/>
                  <a:pt x="5062" y="6685"/>
                  <a:pt x="4986" y="6796"/>
                </a:cubicBezTo>
                <a:cubicBezTo>
                  <a:pt x="4978" y="6804"/>
                  <a:pt x="4969" y="6813"/>
                  <a:pt x="4961" y="6821"/>
                </a:cubicBezTo>
                <a:cubicBezTo>
                  <a:pt x="5021" y="6862"/>
                  <a:pt x="5191" y="6931"/>
                  <a:pt x="5085" y="7020"/>
                </a:cubicBezTo>
                <a:cubicBezTo>
                  <a:pt x="5068" y="7028"/>
                  <a:pt x="5052" y="7037"/>
                  <a:pt x="5035" y="7045"/>
                </a:cubicBezTo>
                <a:cubicBezTo>
                  <a:pt x="5014" y="6911"/>
                  <a:pt x="5052" y="6915"/>
                  <a:pt x="5110" y="6796"/>
                </a:cubicBezTo>
                <a:cubicBezTo>
                  <a:pt x="5160" y="6693"/>
                  <a:pt x="5151" y="6748"/>
                  <a:pt x="5135" y="6697"/>
                </a:cubicBezTo>
              </a:path>
              <a:path w="7046" h="3176">
                <a:moveTo>
                  <a:pt x="5234" y="6524"/>
                </a:moveTo>
                <a:cubicBezTo>
                  <a:pt x="5345" y="6724"/>
                  <a:pt x="5463" y="6858"/>
                  <a:pt x="5358" y="7094"/>
                </a:cubicBezTo>
                <a:cubicBezTo>
                  <a:pt x="5294" y="7179"/>
                  <a:pt x="5282" y="7199"/>
                  <a:pt x="5234" y="7243"/>
                </a:cubicBezTo>
              </a:path>
              <a:path w="7046" h="3176">
                <a:moveTo>
                  <a:pt x="5655" y="6722"/>
                </a:moveTo>
                <a:cubicBezTo>
                  <a:pt x="5673" y="6811"/>
                  <a:pt x="5711" y="6903"/>
                  <a:pt x="5730" y="6995"/>
                </a:cubicBezTo>
                <a:cubicBezTo>
                  <a:pt x="5730" y="7020"/>
                  <a:pt x="5730" y="7028"/>
                  <a:pt x="5730" y="7045"/>
                </a:cubicBezTo>
              </a:path>
              <a:path w="7046" h="3176">
                <a:moveTo>
                  <a:pt x="5606" y="6945"/>
                </a:moveTo>
                <a:cubicBezTo>
                  <a:pt x="5541" y="6945"/>
                  <a:pt x="5735" y="6924"/>
                  <a:pt x="5755" y="6921"/>
                </a:cubicBezTo>
                <a:cubicBezTo>
                  <a:pt x="5778" y="6917"/>
                  <a:pt x="5806" y="6921"/>
                  <a:pt x="5829" y="6921"/>
                </a:cubicBezTo>
              </a:path>
              <a:path w="7046" h="3176">
                <a:moveTo>
                  <a:pt x="5928" y="6300"/>
                </a:moveTo>
                <a:cubicBezTo>
                  <a:pt x="6013" y="6292"/>
                  <a:pt x="6092" y="6264"/>
                  <a:pt x="6176" y="6251"/>
                </a:cubicBezTo>
                <a:cubicBezTo>
                  <a:pt x="6314" y="6230"/>
                  <a:pt x="6186" y="6243"/>
                  <a:pt x="6127" y="6251"/>
                </a:cubicBezTo>
                <a:cubicBezTo>
                  <a:pt x="6086" y="6259"/>
                  <a:pt x="6044" y="6268"/>
                  <a:pt x="6003" y="6276"/>
                </a:cubicBezTo>
                <a:cubicBezTo>
                  <a:pt x="5917" y="6359"/>
                  <a:pt x="6157" y="6294"/>
                  <a:pt x="6226" y="6276"/>
                </a:cubicBezTo>
                <a:cubicBezTo>
                  <a:pt x="6302" y="6256"/>
                  <a:pt x="6130" y="6313"/>
                  <a:pt x="6052" y="6325"/>
                </a:cubicBezTo>
                <a:cubicBezTo>
                  <a:pt x="5915" y="6346"/>
                  <a:pt x="6170" y="6325"/>
                  <a:pt x="6176" y="6325"/>
                </a:cubicBezTo>
                <a:cubicBezTo>
                  <a:pt x="6321" y="6313"/>
                  <a:pt x="6010" y="6344"/>
                  <a:pt x="5978" y="6350"/>
                </a:cubicBezTo>
                <a:cubicBezTo>
                  <a:pt x="5950" y="6378"/>
                  <a:pt x="5946" y="6387"/>
                  <a:pt x="6003" y="6375"/>
                </a:cubicBezTo>
                <a:cubicBezTo>
                  <a:pt x="6036" y="6375"/>
                  <a:pt x="6324" y="6337"/>
                  <a:pt x="6226" y="6325"/>
                </a:cubicBezTo>
                <a:cubicBezTo>
                  <a:pt x="6151" y="6316"/>
                  <a:pt x="5817" y="6383"/>
                  <a:pt x="6077" y="6375"/>
                </a:cubicBezTo>
                <a:cubicBezTo>
                  <a:pt x="6239" y="6370"/>
                  <a:pt x="6370" y="6275"/>
                  <a:pt x="6424" y="6127"/>
                </a:cubicBezTo>
                <a:cubicBezTo>
                  <a:pt x="6476" y="5985"/>
                  <a:pt x="6418" y="5808"/>
                  <a:pt x="6350" y="5680"/>
                </a:cubicBezTo>
                <a:cubicBezTo>
                  <a:pt x="6282" y="5553"/>
                  <a:pt x="6118" y="5452"/>
                  <a:pt x="5978" y="5432"/>
                </a:cubicBezTo>
                <a:cubicBezTo>
                  <a:pt x="5765" y="5401"/>
                  <a:pt x="5657" y="5517"/>
                  <a:pt x="5581" y="5705"/>
                </a:cubicBezTo>
                <a:cubicBezTo>
                  <a:pt x="5491" y="5928"/>
                  <a:pt x="5565" y="6200"/>
                  <a:pt x="5779" y="6325"/>
                </a:cubicBezTo>
                <a:cubicBezTo>
                  <a:pt x="5958" y="6430"/>
                  <a:pt x="6217" y="6345"/>
                  <a:pt x="6350" y="6201"/>
                </a:cubicBezTo>
                <a:cubicBezTo>
                  <a:pt x="6475" y="6065"/>
                  <a:pt x="6482" y="5893"/>
                  <a:pt x="6375" y="5755"/>
                </a:cubicBezTo>
                <a:cubicBezTo>
                  <a:pt x="6238" y="5579"/>
                  <a:pt x="6085" y="5549"/>
                  <a:pt x="5879" y="5581"/>
                </a:cubicBezTo>
                <a:cubicBezTo>
                  <a:pt x="5623" y="5620"/>
                  <a:pt x="5593" y="5905"/>
                  <a:pt x="5655" y="6127"/>
                </a:cubicBezTo>
                <a:cubicBezTo>
                  <a:pt x="5757" y="6490"/>
                  <a:pt x="5976" y="6483"/>
                  <a:pt x="6251" y="6375"/>
                </a:cubicBezTo>
              </a:path>
              <a:path w="7046" h="3176">
                <a:moveTo>
                  <a:pt x="6424" y="6821"/>
                </a:moveTo>
                <a:cubicBezTo>
                  <a:pt x="6424" y="6796"/>
                  <a:pt x="6424" y="6788"/>
                  <a:pt x="6424" y="6772"/>
                </a:cubicBezTo>
              </a:path>
              <a:path w="7046" h="3176">
                <a:moveTo>
                  <a:pt x="6424" y="6871"/>
                </a:moveTo>
                <a:cubicBezTo>
                  <a:pt x="6424" y="6896"/>
                  <a:pt x="6424" y="6920"/>
                  <a:pt x="6424" y="6945"/>
                </a:cubicBezTo>
                <a:cubicBezTo>
                  <a:pt x="6490" y="6945"/>
                  <a:pt x="6538" y="6927"/>
                  <a:pt x="6598" y="6921"/>
                </a:cubicBezTo>
                <a:cubicBezTo>
                  <a:pt x="6606" y="6921"/>
                  <a:pt x="6615" y="6921"/>
                  <a:pt x="6623" y="6921"/>
                </a:cubicBezTo>
              </a:path>
              <a:path w="7046" h="3176">
                <a:moveTo>
                  <a:pt x="6623" y="6697"/>
                </a:moveTo>
                <a:cubicBezTo>
                  <a:pt x="6635" y="6831"/>
                  <a:pt x="6648" y="6958"/>
                  <a:pt x="6648" y="7094"/>
                </a:cubicBezTo>
                <a:cubicBezTo>
                  <a:pt x="6648" y="7119"/>
                  <a:pt x="6648" y="7127"/>
                  <a:pt x="6648" y="7144"/>
                </a:cubicBezTo>
              </a:path>
              <a:path w="7046" h="3176">
                <a:moveTo>
                  <a:pt x="6945" y="6672"/>
                </a:moveTo>
                <a:cubicBezTo>
                  <a:pt x="6988" y="6750"/>
                  <a:pt x="7027" y="6850"/>
                  <a:pt x="7069" y="6921"/>
                </a:cubicBezTo>
                <a:cubicBezTo>
                  <a:pt x="7077" y="6929"/>
                  <a:pt x="7086" y="6937"/>
                  <a:pt x="7094" y="6945"/>
                </a:cubicBezTo>
              </a:path>
              <a:path w="7046" h="3176">
                <a:moveTo>
                  <a:pt x="7541" y="6697"/>
                </a:moveTo>
                <a:cubicBezTo>
                  <a:pt x="7518" y="6658"/>
                  <a:pt x="7518" y="6641"/>
                  <a:pt x="7491" y="6623"/>
                </a:cubicBezTo>
                <a:cubicBezTo>
                  <a:pt x="7370" y="6653"/>
                  <a:pt x="7361" y="6727"/>
                  <a:pt x="7342" y="6846"/>
                </a:cubicBezTo>
                <a:cubicBezTo>
                  <a:pt x="7446" y="6876"/>
                  <a:pt x="7500" y="6835"/>
                  <a:pt x="7565" y="6747"/>
                </a:cubicBezTo>
                <a:cubicBezTo>
                  <a:pt x="7607" y="6862"/>
                  <a:pt x="7613" y="6976"/>
                  <a:pt x="7640" y="7094"/>
                </a:cubicBezTo>
              </a:path>
              <a:path w="7046" h="3176">
                <a:moveTo>
                  <a:pt x="4266" y="5308"/>
                </a:moveTo>
                <a:cubicBezTo>
                  <a:pt x="4253" y="5243"/>
                  <a:pt x="4239" y="5239"/>
                  <a:pt x="4266" y="5159"/>
                </a:cubicBezTo>
                <a:cubicBezTo>
                  <a:pt x="4285" y="5100"/>
                  <a:pt x="4312" y="5044"/>
                  <a:pt x="4341" y="4986"/>
                </a:cubicBezTo>
                <a:cubicBezTo>
                  <a:pt x="4383" y="4903"/>
                  <a:pt x="4436" y="4839"/>
                  <a:pt x="4514" y="4787"/>
                </a:cubicBezTo>
                <a:cubicBezTo>
                  <a:pt x="4584" y="4740"/>
                  <a:pt x="4645" y="4688"/>
                  <a:pt x="4713" y="4638"/>
                </a:cubicBezTo>
                <a:cubicBezTo>
                  <a:pt x="4793" y="4579"/>
                  <a:pt x="4958" y="4500"/>
                  <a:pt x="5060" y="4490"/>
                </a:cubicBezTo>
                <a:cubicBezTo>
                  <a:pt x="5149" y="4481"/>
                  <a:pt x="5271" y="4452"/>
                  <a:pt x="5358" y="4465"/>
                </a:cubicBezTo>
                <a:cubicBezTo>
                  <a:pt x="5450" y="4479"/>
                  <a:pt x="5538" y="4506"/>
                  <a:pt x="5631" y="4514"/>
                </a:cubicBezTo>
                <a:cubicBezTo>
                  <a:pt x="5737" y="4523"/>
                  <a:pt x="5826" y="4555"/>
                  <a:pt x="5928" y="4589"/>
                </a:cubicBezTo>
                <a:cubicBezTo>
                  <a:pt x="6020" y="4620"/>
                  <a:pt x="6113" y="4646"/>
                  <a:pt x="6201" y="4688"/>
                </a:cubicBezTo>
                <a:cubicBezTo>
                  <a:pt x="6309" y="4739"/>
                  <a:pt x="6421" y="4802"/>
                  <a:pt x="6524" y="4862"/>
                </a:cubicBezTo>
                <a:cubicBezTo>
                  <a:pt x="6585" y="4898"/>
                  <a:pt x="6630" y="4931"/>
                  <a:pt x="6697" y="4961"/>
                </a:cubicBezTo>
                <a:cubicBezTo>
                  <a:pt x="6768" y="4993"/>
                  <a:pt x="6816" y="5078"/>
                  <a:pt x="6871" y="5135"/>
                </a:cubicBezTo>
                <a:cubicBezTo>
                  <a:pt x="6897" y="5163"/>
                  <a:pt x="6905" y="5183"/>
                  <a:pt x="6921" y="5209"/>
                </a:cubicBezTo>
                <a:cubicBezTo>
                  <a:pt x="6891" y="5137"/>
                  <a:pt x="6853" y="5062"/>
                  <a:pt x="6821" y="4986"/>
                </a:cubicBezTo>
                <a:cubicBezTo>
                  <a:pt x="6821" y="5044"/>
                  <a:pt x="6811" y="5053"/>
                  <a:pt x="6821" y="5110"/>
                </a:cubicBezTo>
                <a:cubicBezTo>
                  <a:pt x="6838" y="5202"/>
                  <a:pt x="6862" y="5267"/>
                  <a:pt x="6747" y="5259"/>
                </a:cubicBezTo>
                <a:cubicBezTo>
                  <a:pt x="6670" y="5239"/>
                  <a:pt x="6652" y="5247"/>
                  <a:pt x="6623" y="5209"/>
                </a:cubicBezTo>
              </a:path>
              <a:path w="7046" h="3176">
                <a:moveTo>
                  <a:pt x="6772" y="5259"/>
                </a:moveTo>
                <a:cubicBezTo>
                  <a:pt x="6772" y="5267"/>
                  <a:pt x="6772" y="5275"/>
                  <a:pt x="6772" y="5283"/>
                </a:cubicBezTo>
                <a:cubicBezTo>
                  <a:pt x="6856" y="5262"/>
                  <a:pt x="6857" y="5176"/>
                  <a:pt x="6896" y="5110"/>
                </a:cubicBezTo>
                <a:cubicBezTo>
                  <a:pt x="6919" y="5087"/>
                  <a:pt x="6927" y="5083"/>
                  <a:pt x="6921" y="5060"/>
                </a:cubicBezTo>
              </a:path>
              <a:path w="7046" h="3176">
                <a:moveTo>
                  <a:pt x="6747" y="7441"/>
                </a:moveTo>
                <a:cubicBezTo>
                  <a:pt x="6747" y="7342"/>
                  <a:pt x="6855" y="7299"/>
                  <a:pt x="6945" y="7293"/>
                </a:cubicBezTo>
                <a:cubicBezTo>
                  <a:pt x="6991" y="7290"/>
                  <a:pt x="6862" y="7454"/>
                  <a:pt x="6846" y="7466"/>
                </a:cubicBezTo>
                <a:cubicBezTo>
                  <a:pt x="6887" y="7466"/>
                  <a:pt x="6912" y="7466"/>
                  <a:pt x="6945" y="7466"/>
                </a:cubicBezTo>
                <a:cubicBezTo>
                  <a:pt x="6952" y="7550"/>
                  <a:pt x="6887" y="7738"/>
                  <a:pt x="6747" y="7640"/>
                </a:cubicBezTo>
                <a:cubicBezTo>
                  <a:pt x="6747" y="7623"/>
                  <a:pt x="6747" y="7607"/>
                  <a:pt x="6747" y="7590"/>
                </a:cubicBezTo>
              </a:path>
              <a:path w="7046" h="3176">
                <a:moveTo>
                  <a:pt x="7119" y="7293"/>
                </a:moveTo>
                <a:cubicBezTo>
                  <a:pt x="7119" y="7384"/>
                  <a:pt x="7119" y="7474"/>
                  <a:pt x="7119" y="7565"/>
                </a:cubicBezTo>
                <a:cubicBezTo>
                  <a:pt x="7234" y="7556"/>
                  <a:pt x="7339" y="7563"/>
                  <a:pt x="7367" y="7441"/>
                </a:cubicBezTo>
                <a:cubicBezTo>
                  <a:pt x="7367" y="7433"/>
                  <a:pt x="7367" y="7425"/>
                  <a:pt x="7367" y="7417"/>
                </a:cubicBezTo>
                <a:cubicBezTo>
                  <a:pt x="7257" y="7430"/>
                  <a:pt x="7256" y="7462"/>
                  <a:pt x="7218" y="7565"/>
                </a:cubicBezTo>
              </a:path>
              <a:path w="7046" h="3176">
                <a:moveTo>
                  <a:pt x="5680" y="7417"/>
                </a:moveTo>
                <a:cubicBezTo>
                  <a:pt x="5700" y="7475"/>
                  <a:pt x="5720" y="7531"/>
                  <a:pt x="5730" y="7590"/>
                </a:cubicBezTo>
              </a:path>
              <a:path w="7046" h="3176">
                <a:moveTo>
                  <a:pt x="595" y="4812"/>
                </a:moveTo>
                <a:cubicBezTo>
                  <a:pt x="641" y="4797"/>
                  <a:pt x="690" y="4770"/>
                  <a:pt x="744" y="4762"/>
                </a:cubicBezTo>
                <a:cubicBezTo>
                  <a:pt x="765" y="4759"/>
                  <a:pt x="847" y="4764"/>
                  <a:pt x="893" y="4762"/>
                </a:cubicBezTo>
                <a:cubicBezTo>
                  <a:pt x="971" y="4759"/>
                  <a:pt x="1023" y="4781"/>
                  <a:pt x="1091" y="4787"/>
                </a:cubicBezTo>
                <a:cubicBezTo>
                  <a:pt x="1191" y="4796"/>
                  <a:pt x="1294" y="4802"/>
                  <a:pt x="1389" y="4812"/>
                </a:cubicBezTo>
                <a:cubicBezTo>
                  <a:pt x="1577" y="4832"/>
                  <a:pt x="1781" y="4774"/>
                  <a:pt x="1960" y="4787"/>
                </a:cubicBezTo>
                <a:cubicBezTo>
                  <a:pt x="2074" y="4796"/>
                  <a:pt x="2188" y="4812"/>
                  <a:pt x="2307" y="4812"/>
                </a:cubicBezTo>
                <a:cubicBezTo>
                  <a:pt x="2397" y="4812"/>
                  <a:pt x="2473" y="4796"/>
                  <a:pt x="2555" y="4787"/>
                </a:cubicBezTo>
                <a:cubicBezTo>
                  <a:pt x="2636" y="4779"/>
                  <a:pt x="2707" y="4807"/>
                  <a:pt x="2778" y="4812"/>
                </a:cubicBezTo>
                <a:cubicBezTo>
                  <a:pt x="2861" y="4818"/>
                  <a:pt x="2947" y="4814"/>
                  <a:pt x="3026" y="4837"/>
                </a:cubicBezTo>
                <a:cubicBezTo>
                  <a:pt x="3102" y="4859"/>
                  <a:pt x="3220" y="4892"/>
                  <a:pt x="3299" y="4887"/>
                </a:cubicBezTo>
                <a:cubicBezTo>
                  <a:pt x="3462" y="4878"/>
                  <a:pt x="3631" y="4848"/>
                  <a:pt x="3795" y="4837"/>
                </a:cubicBezTo>
                <a:cubicBezTo>
                  <a:pt x="3931" y="4828"/>
                  <a:pt x="4061" y="4820"/>
                  <a:pt x="4192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87840" y="3152880"/>
            <a:ext cx="357120" cy="347400"/>
          </a:xfrm>
          <a:custGeom>
            <a:avLst/>
            <a:gdLst/>
            <a:ahLst/>
            <a:rect l="l" t="t" r="r" b="b"/>
            <a:pathLst>
              <a:path w="994" h="968">
                <a:moveTo>
                  <a:pt x="10443" y="8880"/>
                </a:moveTo>
                <a:cubicBezTo>
                  <a:pt x="10534" y="8865"/>
                  <a:pt x="10626" y="8833"/>
                  <a:pt x="10716" y="8806"/>
                </a:cubicBezTo>
                <a:cubicBezTo>
                  <a:pt x="10736" y="8963"/>
                  <a:pt x="10697" y="9115"/>
                  <a:pt x="10691" y="9277"/>
                </a:cubicBezTo>
                <a:cubicBezTo>
                  <a:pt x="10690" y="9310"/>
                  <a:pt x="10691" y="9360"/>
                  <a:pt x="10691" y="9327"/>
                </a:cubicBezTo>
              </a:path>
              <a:path w="994" h="968">
                <a:moveTo>
                  <a:pt x="10964" y="8855"/>
                </a:moveTo>
                <a:cubicBezTo>
                  <a:pt x="10947" y="8807"/>
                  <a:pt x="10989" y="8767"/>
                  <a:pt x="11063" y="8756"/>
                </a:cubicBezTo>
                <a:cubicBezTo>
                  <a:pt x="11106" y="8912"/>
                  <a:pt x="11053" y="9039"/>
                  <a:pt x="10964" y="9178"/>
                </a:cubicBezTo>
                <a:cubicBezTo>
                  <a:pt x="10925" y="9216"/>
                  <a:pt x="10893" y="9233"/>
                  <a:pt x="10939" y="9227"/>
                </a:cubicBezTo>
                <a:cubicBezTo>
                  <a:pt x="11070" y="9151"/>
                  <a:pt x="11101" y="9117"/>
                  <a:pt x="11237" y="9128"/>
                </a:cubicBezTo>
              </a:path>
              <a:path w="994" h="968">
                <a:moveTo>
                  <a:pt x="10244" y="9376"/>
                </a:moveTo>
                <a:cubicBezTo>
                  <a:pt x="10261" y="9479"/>
                  <a:pt x="10305" y="9621"/>
                  <a:pt x="10294" y="9723"/>
                </a:cubicBezTo>
                <a:cubicBezTo>
                  <a:pt x="10286" y="9723"/>
                  <a:pt x="10277" y="9723"/>
                  <a:pt x="10269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86240" y="4491000"/>
            <a:ext cx="973440" cy="723960"/>
          </a:xfrm>
          <a:custGeom>
            <a:avLst/>
            <a:gdLst/>
            <a:ahLst/>
            <a:rect l="l" t="t" r="r" b="b"/>
            <a:pathLst>
              <a:path w="2705" h="2010">
                <a:moveTo>
                  <a:pt x="14684" y="12700"/>
                </a:moveTo>
                <a:cubicBezTo>
                  <a:pt x="14720" y="12627"/>
                  <a:pt x="14893" y="12581"/>
                  <a:pt x="14957" y="12675"/>
                </a:cubicBezTo>
                <a:cubicBezTo>
                  <a:pt x="15018" y="12764"/>
                  <a:pt x="14906" y="12919"/>
                  <a:pt x="14833" y="12948"/>
                </a:cubicBezTo>
                <a:cubicBezTo>
                  <a:pt x="14929" y="12934"/>
                  <a:pt x="15086" y="12912"/>
                  <a:pt x="15007" y="13097"/>
                </a:cubicBezTo>
                <a:cubicBezTo>
                  <a:pt x="14930" y="13276"/>
                  <a:pt x="14772" y="13318"/>
                  <a:pt x="14684" y="13171"/>
                </a:cubicBezTo>
              </a:path>
              <a:path w="2705" h="2010">
                <a:moveTo>
                  <a:pt x="15453" y="12477"/>
                </a:moveTo>
                <a:cubicBezTo>
                  <a:pt x="15294" y="12650"/>
                  <a:pt x="15284" y="12857"/>
                  <a:pt x="15329" y="13097"/>
                </a:cubicBezTo>
                <a:cubicBezTo>
                  <a:pt x="15350" y="13209"/>
                  <a:pt x="15467" y="13453"/>
                  <a:pt x="15503" y="13345"/>
                </a:cubicBezTo>
                <a:cubicBezTo>
                  <a:pt x="15511" y="13295"/>
                  <a:pt x="15520" y="13246"/>
                  <a:pt x="15528" y="13196"/>
                </a:cubicBezTo>
              </a:path>
              <a:path w="2705" h="2010">
                <a:moveTo>
                  <a:pt x="15726" y="12650"/>
                </a:moveTo>
                <a:cubicBezTo>
                  <a:pt x="15726" y="12762"/>
                  <a:pt x="15782" y="12871"/>
                  <a:pt x="15825" y="12973"/>
                </a:cubicBezTo>
                <a:cubicBezTo>
                  <a:pt x="15833" y="12989"/>
                  <a:pt x="15842" y="13006"/>
                  <a:pt x="15850" y="13022"/>
                </a:cubicBezTo>
              </a:path>
              <a:path w="2705" h="2010">
                <a:moveTo>
                  <a:pt x="15949" y="12626"/>
                </a:moveTo>
                <a:cubicBezTo>
                  <a:pt x="16040" y="12626"/>
                  <a:pt x="16140" y="12607"/>
                  <a:pt x="16222" y="12650"/>
                </a:cubicBezTo>
                <a:cubicBezTo>
                  <a:pt x="16310" y="12697"/>
                  <a:pt x="16262" y="12807"/>
                  <a:pt x="16247" y="12874"/>
                </a:cubicBezTo>
                <a:cubicBezTo>
                  <a:pt x="16225" y="12973"/>
                  <a:pt x="16197" y="13069"/>
                  <a:pt x="16197" y="13171"/>
                </a:cubicBezTo>
              </a:path>
              <a:path w="2705" h="2010">
                <a:moveTo>
                  <a:pt x="16718" y="12799"/>
                </a:moveTo>
                <a:cubicBezTo>
                  <a:pt x="16731" y="12899"/>
                  <a:pt x="16763" y="12996"/>
                  <a:pt x="16768" y="13097"/>
                </a:cubicBezTo>
                <a:cubicBezTo>
                  <a:pt x="16768" y="13138"/>
                  <a:pt x="16776" y="13154"/>
                  <a:pt x="16743" y="13146"/>
                </a:cubicBezTo>
              </a:path>
              <a:path w="2705" h="2010">
                <a:moveTo>
                  <a:pt x="17338" y="12650"/>
                </a:moveTo>
                <a:cubicBezTo>
                  <a:pt x="17241" y="12699"/>
                  <a:pt x="17209" y="12714"/>
                  <a:pt x="17165" y="12774"/>
                </a:cubicBezTo>
                <a:cubicBezTo>
                  <a:pt x="17191" y="12930"/>
                  <a:pt x="17318" y="12904"/>
                  <a:pt x="17388" y="13022"/>
                </a:cubicBezTo>
                <a:cubicBezTo>
                  <a:pt x="17388" y="13047"/>
                  <a:pt x="17388" y="13072"/>
                  <a:pt x="17388" y="13097"/>
                </a:cubicBezTo>
                <a:cubicBezTo>
                  <a:pt x="17216" y="13154"/>
                  <a:pt x="17197" y="13066"/>
                  <a:pt x="17264" y="12898"/>
                </a:cubicBezTo>
                <a:cubicBezTo>
                  <a:pt x="17309" y="12809"/>
                  <a:pt x="17322" y="12786"/>
                  <a:pt x="17338" y="12725"/>
                </a:cubicBezTo>
              </a:path>
              <a:path w="2705" h="2010">
                <a:moveTo>
                  <a:pt x="16049" y="14039"/>
                </a:moveTo>
                <a:cubicBezTo>
                  <a:pt x="16157" y="13999"/>
                  <a:pt x="16365" y="14029"/>
                  <a:pt x="16346" y="14213"/>
                </a:cubicBezTo>
                <a:cubicBezTo>
                  <a:pt x="16323" y="14439"/>
                  <a:pt x="16133" y="14493"/>
                  <a:pt x="15974" y="14436"/>
                </a:cubicBezTo>
                <a:cubicBezTo>
                  <a:pt x="16024" y="14329"/>
                  <a:pt x="16123" y="14227"/>
                  <a:pt x="16272" y="14312"/>
                </a:cubicBezTo>
                <a:cubicBezTo>
                  <a:pt x="16292" y="14323"/>
                  <a:pt x="16316" y="14391"/>
                  <a:pt x="16321" y="14412"/>
                </a:cubicBezTo>
              </a:path>
              <a:path w="2705" h="2010">
                <a:moveTo>
                  <a:pt x="16570" y="13990"/>
                </a:moveTo>
                <a:cubicBezTo>
                  <a:pt x="16475" y="14002"/>
                  <a:pt x="16469" y="14006"/>
                  <a:pt x="16446" y="14089"/>
                </a:cubicBezTo>
                <a:cubicBezTo>
                  <a:pt x="16427" y="14146"/>
                  <a:pt x="16418" y="14153"/>
                  <a:pt x="16421" y="14188"/>
                </a:cubicBezTo>
                <a:cubicBezTo>
                  <a:pt x="16472" y="14188"/>
                  <a:pt x="16556" y="14160"/>
                  <a:pt x="16594" y="14163"/>
                </a:cubicBezTo>
                <a:cubicBezTo>
                  <a:pt x="16736" y="14175"/>
                  <a:pt x="16655" y="14374"/>
                  <a:pt x="16545" y="14387"/>
                </a:cubicBezTo>
                <a:cubicBezTo>
                  <a:pt x="16438" y="14360"/>
                  <a:pt x="16407" y="14344"/>
                  <a:pt x="16470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3438360"/>
            <a:ext cx="2332080" cy="615960"/>
          </a:xfrm>
          <a:custGeom>
            <a:avLst/>
            <a:gdLst/>
            <a:ahLst/>
            <a:rect l="l" t="t" r="r" b="b"/>
            <a:pathLst>
              <a:path w="6475" h="1712">
                <a:moveTo>
                  <a:pt x="4266" y="9847"/>
                </a:moveTo>
                <a:cubicBezTo>
                  <a:pt x="4189" y="9983"/>
                  <a:pt x="4093" y="10156"/>
                  <a:pt x="4093" y="10319"/>
                </a:cubicBezTo>
                <a:cubicBezTo>
                  <a:pt x="4118" y="10368"/>
                  <a:pt x="4126" y="10384"/>
                  <a:pt x="4167" y="10393"/>
                </a:cubicBezTo>
              </a:path>
              <a:path w="6475" h="1712">
                <a:moveTo>
                  <a:pt x="4911" y="10145"/>
                </a:moveTo>
                <a:cubicBezTo>
                  <a:pt x="4949" y="10266"/>
                  <a:pt x="4935" y="10306"/>
                  <a:pt x="5035" y="10319"/>
                </a:cubicBezTo>
              </a:path>
              <a:path w="6475" h="1712">
                <a:moveTo>
                  <a:pt x="5060" y="10096"/>
                </a:moveTo>
                <a:cubicBezTo>
                  <a:pt x="5000" y="10189"/>
                  <a:pt x="4950" y="10281"/>
                  <a:pt x="4887" y="10368"/>
                </a:cubicBezTo>
              </a:path>
              <a:path w="6475" h="1712">
                <a:moveTo>
                  <a:pt x="6945" y="9699"/>
                </a:moveTo>
                <a:cubicBezTo>
                  <a:pt x="6819" y="9824"/>
                  <a:pt x="6718" y="10027"/>
                  <a:pt x="6747" y="10220"/>
                </a:cubicBezTo>
                <a:cubicBezTo>
                  <a:pt x="6791" y="10308"/>
                  <a:pt x="6795" y="10341"/>
                  <a:pt x="6871" y="10319"/>
                </a:cubicBezTo>
              </a:path>
              <a:path w="6475" h="1712">
                <a:moveTo>
                  <a:pt x="7516" y="9996"/>
                </a:moveTo>
                <a:cubicBezTo>
                  <a:pt x="7442" y="10021"/>
                  <a:pt x="7557" y="10149"/>
                  <a:pt x="7590" y="10195"/>
                </a:cubicBezTo>
                <a:cubicBezTo>
                  <a:pt x="7598" y="10203"/>
                  <a:pt x="7607" y="10212"/>
                  <a:pt x="7615" y="10220"/>
                </a:cubicBezTo>
              </a:path>
              <a:path w="6475" h="1712">
                <a:moveTo>
                  <a:pt x="8285" y="9823"/>
                </a:moveTo>
                <a:cubicBezTo>
                  <a:pt x="8406" y="10055"/>
                  <a:pt x="8483" y="10146"/>
                  <a:pt x="8334" y="10368"/>
                </a:cubicBezTo>
              </a:path>
              <a:path w="6475" h="1712">
                <a:moveTo>
                  <a:pt x="5730" y="10988"/>
                </a:moveTo>
                <a:cubicBezTo>
                  <a:pt x="5722" y="10988"/>
                  <a:pt x="5713" y="10988"/>
                  <a:pt x="5705" y="10988"/>
                </a:cubicBezTo>
              </a:path>
              <a:path w="6475" h="1712">
                <a:moveTo>
                  <a:pt x="5705" y="10988"/>
                </a:moveTo>
                <a:lnTo>
                  <a:pt x="5705" y="10988"/>
                </a:lnTo>
              </a:path>
              <a:path w="6475" h="1712">
                <a:moveTo>
                  <a:pt x="5705" y="10988"/>
                </a:moveTo>
                <a:lnTo>
                  <a:pt x="5705" y="10988"/>
                </a:lnTo>
              </a:path>
              <a:path w="6475" h="1712">
                <a:moveTo>
                  <a:pt x="5705" y="11013"/>
                </a:moveTo>
                <a:cubicBezTo>
                  <a:pt x="5727" y="11095"/>
                  <a:pt x="5763" y="11180"/>
                  <a:pt x="5779" y="11261"/>
                </a:cubicBezTo>
              </a:path>
              <a:path w="6475" h="1712">
                <a:moveTo>
                  <a:pt x="10145" y="9624"/>
                </a:moveTo>
                <a:cubicBezTo>
                  <a:pt x="10287" y="9591"/>
                  <a:pt x="10426" y="9577"/>
                  <a:pt x="10567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7040" y="3813120"/>
            <a:ext cx="187200" cy="108000"/>
          </a:xfrm>
          <a:custGeom>
            <a:avLst/>
            <a:gdLst/>
            <a:ahLst/>
            <a:rect l="l" t="t" r="r" b="b"/>
            <a:pathLst>
              <a:path w="522" h="298">
                <a:moveTo>
                  <a:pt x="4713" y="10616"/>
                </a:moveTo>
                <a:cubicBezTo>
                  <a:pt x="4730" y="10568"/>
                  <a:pt x="4806" y="10592"/>
                  <a:pt x="4862" y="10592"/>
                </a:cubicBezTo>
                <a:cubicBezTo>
                  <a:pt x="4870" y="10592"/>
                  <a:pt x="4879" y="10592"/>
                  <a:pt x="4887" y="10592"/>
                </a:cubicBezTo>
                <a:cubicBezTo>
                  <a:pt x="4887" y="10684"/>
                  <a:pt x="4838" y="10762"/>
                  <a:pt x="4787" y="10840"/>
                </a:cubicBezTo>
                <a:cubicBezTo>
                  <a:pt x="4764" y="10862"/>
                  <a:pt x="4756" y="10867"/>
                  <a:pt x="4762" y="10889"/>
                </a:cubicBezTo>
              </a:path>
              <a:path w="522" h="298">
                <a:moveTo>
                  <a:pt x="5085" y="10616"/>
                </a:moveTo>
                <a:cubicBezTo>
                  <a:pt x="5102" y="10568"/>
                  <a:pt x="5178" y="10592"/>
                  <a:pt x="5234" y="10592"/>
                </a:cubicBezTo>
                <a:cubicBezTo>
                  <a:pt x="5200" y="10691"/>
                  <a:pt x="5115" y="10730"/>
                  <a:pt x="5060" y="10815"/>
                </a:cubicBezTo>
                <a:cubicBezTo>
                  <a:pt x="5060" y="10823"/>
                  <a:pt x="5060" y="10832"/>
                  <a:pt x="5060" y="10840"/>
                </a:cubicBezTo>
                <a:cubicBezTo>
                  <a:pt x="5129" y="10873"/>
                  <a:pt x="5162" y="10854"/>
                  <a:pt x="5234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5800" y="3544920"/>
            <a:ext cx="223560" cy="536400"/>
          </a:xfrm>
          <a:custGeom>
            <a:avLst/>
            <a:gdLst/>
            <a:ahLst/>
            <a:rect l="l" t="t" r="r" b="b"/>
            <a:pathLst>
              <a:path w="621" h="1490">
                <a:moveTo>
                  <a:pt x="6276" y="9847"/>
                </a:moveTo>
                <a:cubicBezTo>
                  <a:pt x="6319" y="9907"/>
                  <a:pt x="6279" y="10020"/>
                  <a:pt x="6276" y="10096"/>
                </a:cubicBezTo>
                <a:cubicBezTo>
                  <a:pt x="6274" y="10147"/>
                  <a:pt x="6290" y="10153"/>
                  <a:pt x="6300" y="10195"/>
                </a:cubicBezTo>
              </a:path>
              <a:path w="621" h="1490">
                <a:moveTo>
                  <a:pt x="6176" y="10071"/>
                </a:moveTo>
                <a:cubicBezTo>
                  <a:pt x="6165" y="10036"/>
                  <a:pt x="6113" y="10046"/>
                  <a:pt x="6152" y="10046"/>
                </a:cubicBezTo>
                <a:cubicBezTo>
                  <a:pt x="6251" y="10046"/>
                  <a:pt x="6350" y="10046"/>
                  <a:pt x="6449" y="10046"/>
                </a:cubicBezTo>
              </a:path>
              <a:path w="621" h="1490">
                <a:moveTo>
                  <a:pt x="6251" y="10443"/>
                </a:moveTo>
                <a:cubicBezTo>
                  <a:pt x="6210" y="10470"/>
                  <a:pt x="6214" y="10622"/>
                  <a:pt x="6201" y="10691"/>
                </a:cubicBezTo>
              </a:path>
              <a:path w="621" h="1490">
                <a:moveTo>
                  <a:pt x="6052" y="10592"/>
                </a:moveTo>
                <a:cubicBezTo>
                  <a:pt x="6169" y="10592"/>
                  <a:pt x="6299" y="10574"/>
                  <a:pt x="6400" y="10616"/>
                </a:cubicBezTo>
              </a:path>
              <a:path w="621" h="1490">
                <a:moveTo>
                  <a:pt x="5953" y="10988"/>
                </a:moveTo>
                <a:cubicBezTo>
                  <a:pt x="5953" y="10964"/>
                  <a:pt x="5953" y="10956"/>
                  <a:pt x="5928" y="10964"/>
                </a:cubicBezTo>
                <a:cubicBezTo>
                  <a:pt x="5979" y="10964"/>
                  <a:pt x="6047" y="10937"/>
                  <a:pt x="6028" y="11013"/>
                </a:cubicBezTo>
                <a:cubicBezTo>
                  <a:pt x="6007" y="11096"/>
                  <a:pt x="5925" y="11069"/>
                  <a:pt x="5953" y="11088"/>
                </a:cubicBezTo>
                <a:cubicBezTo>
                  <a:pt x="5994" y="11116"/>
                  <a:pt x="6036" y="11135"/>
                  <a:pt x="6077" y="11162"/>
                </a:cubicBezTo>
                <a:cubicBezTo>
                  <a:pt x="6026" y="11254"/>
                  <a:pt x="6012" y="11293"/>
                  <a:pt x="5904" y="11311"/>
                </a:cubicBezTo>
              </a:path>
              <a:path w="621" h="1490">
                <a:moveTo>
                  <a:pt x="6524" y="11013"/>
                </a:moveTo>
                <a:cubicBezTo>
                  <a:pt x="6495" y="10970"/>
                  <a:pt x="6410" y="10983"/>
                  <a:pt x="6350" y="11013"/>
                </a:cubicBezTo>
                <a:cubicBezTo>
                  <a:pt x="6327" y="11036"/>
                  <a:pt x="6323" y="11044"/>
                  <a:pt x="6300" y="11038"/>
                </a:cubicBezTo>
                <a:cubicBezTo>
                  <a:pt x="6320" y="11135"/>
                  <a:pt x="6425" y="11171"/>
                  <a:pt x="6499" y="11237"/>
                </a:cubicBezTo>
                <a:cubicBezTo>
                  <a:pt x="6507" y="11245"/>
                  <a:pt x="6516" y="11253"/>
                  <a:pt x="6524" y="11261"/>
                </a:cubicBezTo>
                <a:cubicBezTo>
                  <a:pt x="6446" y="11352"/>
                  <a:pt x="6422" y="11329"/>
                  <a:pt x="6300" y="11311"/>
                </a:cubicBezTo>
                <a:cubicBezTo>
                  <a:pt x="6324" y="11190"/>
                  <a:pt x="6395" y="11162"/>
                  <a:pt x="6449" y="11063"/>
                </a:cubicBezTo>
                <a:cubicBezTo>
                  <a:pt x="6449" y="11055"/>
                  <a:pt x="6449" y="11046"/>
                  <a:pt x="6449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71840" y="3581280"/>
            <a:ext cx="357120" cy="303480"/>
          </a:xfrm>
          <a:custGeom>
            <a:avLst/>
            <a:gdLst/>
            <a:ahLst/>
            <a:rect l="l" t="t" r="r" b="b"/>
            <a:pathLst>
              <a:path w="993" h="844">
                <a:moveTo>
                  <a:pt x="7665" y="9996"/>
                </a:moveTo>
                <a:cubicBezTo>
                  <a:pt x="7627" y="10065"/>
                  <a:pt x="7584" y="10129"/>
                  <a:pt x="7541" y="10195"/>
                </a:cubicBezTo>
              </a:path>
              <a:path w="993" h="844">
                <a:moveTo>
                  <a:pt x="7987" y="9971"/>
                </a:moveTo>
                <a:cubicBezTo>
                  <a:pt x="7987" y="10060"/>
                  <a:pt x="7974" y="10134"/>
                  <a:pt x="7962" y="10220"/>
                </a:cubicBezTo>
              </a:path>
              <a:path w="993" h="844">
                <a:moveTo>
                  <a:pt x="8136" y="9947"/>
                </a:moveTo>
                <a:cubicBezTo>
                  <a:pt x="8136" y="10051"/>
                  <a:pt x="8126" y="10142"/>
                  <a:pt x="8111" y="10244"/>
                </a:cubicBezTo>
              </a:path>
              <a:path w="993" h="844">
                <a:moveTo>
                  <a:pt x="7293" y="10418"/>
                </a:moveTo>
                <a:cubicBezTo>
                  <a:pt x="7203" y="10441"/>
                  <a:pt x="7195" y="10536"/>
                  <a:pt x="7169" y="10616"/>
                </a:cubicBezTo>
                <a:cubicBezTo>
                  <a:pt x="7147" y="10682"/>
                  <a:pt x="7113" y="10774"/>
                  <a:pt x="7218" y="10790"/>
                </a:cubicBezTo>
                <a:cubicBezTo>
                  <a:pt x="7328" y="10807"/>
                  <a:pt x="7350" y="10757"/>
                  <a:pt x="7417" y="10691"/>
                </a:cubicBezTo>
                <a:cubicBezTo>
                  <a:pt x="7335" y="10691"/>
                  <a:pt x="7333" y="10694"/>
                  <a:pt x="7293" y="10765"/>
                </a:cubicBezTo>
              </a:path>
              <a:path w="993" h="844">
                <a:moveTo>
                  <a:pt x="7590" y="10443"/>
                </a:moveTo>
                <a:cubicBezTo>
                  <a:pt x="7578" y="10517"/>
                  <a:pt x="7551" y="10591"/>
                  <a:pt x="7541" y="10666"/>
                </a:cubicBezTo>
                <a:cubicBezTo>
                  <a:pt x="7525" y="10783"/>
                  <a:pt x="7603" y="10765"/>
                  <a:pt x="7689" y="10765"/>
                </a:cubicBezTo>
                <a:cubicBezTo>
                  <a:pt x="7750" y="10765"/>
                  <a:pt x="7775" y="10735"/>
                  <a:pt x="7764" y="10691"/>
                </a:cubicBezTo>
                <a:cubicBezTo>
                  <a:pt x="7727" y="10698"/>
                  <a:pt x="7631" y="10728"/>
                  <a:pt x="7640" y="10790"/>
                </a:cubicBezTo>
                <a:cubicBezTo>
                  <a:pt x="7648" y="10790"/>
                  <a:pt x="7657" y="10790"/>
                  <a:pt x="7665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8840" y="3375000"/>
            <a:ext cx="384120" cy="509760"/>
          </a:xfrm>
          <a:custGeom>
            <a:avLst/>
            <a:gdLst/>
            <a:ahLst/>
            <a:rect l="l" t="t" r="r" b="b"/>
            <a:pathLst>
              <a:path w="1067" h="1415">
                <a:moveTo>
                  <a:pt x="10716" y="9475"/>
                </a:moveTo>
                <a:cubicBezTo>
                  <a:pt x="10716" y="9596"/>
                  <a:pt x="10723" y="9728"/>
                  <a:pt x="10740" y="9847"/>
                </a:cubicBezTo>
                <a:cubicBezTo>
                  <a:pt x="10748" y="9880"/>
                  <a:pt x="10757" y="9914"/>
                  <a:pt x="10765" y="9947"/>
                </a:cubicBezTo>
                <a:cubicBezTo>
                  <a:pt x="10888" y="9933"/>
                  <a:pt x="11033" y="9885"/>
                  <a:pt x="11013" y="9723"/>
                </a:cubicBezTo>
                <a:cubicBezTo>
                  <a:pt x="10997" y="9715"/>
                  <a:pt x="10980" y="9707"/>
                  <a:pt x="10964" y="9699"/>
                </a:cubicBezTo>
                <a:cubicBezTo>
                  <a:pt x="10916" y="9766"/>
                  <a:pt x="10857" y="9821"/>
                  <a:pt x="10914" y="9897"/>
                </a:cubicBezTo>
              </a:path>
              <a:path w="1067" h="1415">
                <a:moveTo>
                  <a:pt x="11112" y="9376"/>
                </a:moveTo>
                <a:cubicBezTo>
                  <a:pt x="11082" y="9509"/>
                  <a:pt x="11075" y="9637"/>
                  <a:pt x="11112" y="9773"/>
                </a:cubicBezTo>
                <a:cubicBezTo>
                  <a:pt x="11148" y="9905"/>
                  <a:pt x="11239" y="9822"/>
                  <a:pt x="11286" y="9748"/>
                </a:cubicBezTo>
                <a:cubicBezTo>
                  <a:pt x="11303" y="9715"/>
                  <a:pt x="11319" y="9682"/>
                  <a:pt x="11336" y="9649"/>
                </a:cubicBezTo>
                <a:cubicBezTo>
                  <a:pt x="11336" y="9632"/>
                  <a:pt x="11336" y="9616"/>
                  <a:pt x="11336" y="9599"/>
                </a:cubicBezTo>
                <a:cubicBezTo>
                  <a:pt x="11240" y="9663"/>
                  <a:pt x="11224" y="9731"/>
                  <a:pt x="11212" y="9847"/>
                </a:cubicBezTo>
              </a:path>
              <a:path w="1067" h="1415">
                <a:moveTo>
                  <a:pt x="10468" y="10195"/>
                </a:moveTo>
                <a:cubicBezTo>
                  <a:pt x="10822" y="10106"/>
                  <a:pt x="11151" y="9944"/>
                  <a:pt x="11509" y="9872"/>
                </a:cubicBezTo>
                <a:cubicBezTo>
                  <a:pt x="11517" y="9872"/>
                  <a:pt x="11526" y="9872"/>
                  <a:pt x="11534" y="9872"/>
                </a:cubicBezTo>
              </a:path>
              <a:path w="1067" h="1415">
                <a:moveTo>
                  <a:pt x="11435" y="10195"/>
                </a:moveTo>
                <a:cubicBezTo>
                  <a:pt x="11417" y="10142"/>
                  <a:pt x="11352" y="10176"/>
                  <a:pt x="11311" y="10220"/>
                </a:cubicBezTo>
                <a:cubicBezTo>
                  <a:pt x="11303" y="10236"/>
                  <a:pt x="11294" y="10253"/>
                  <a:pt x="11286" y="10269"/>
                </a:cubicBezTo>
                <a:cubicBezTo>
                  <a:pt x="11336" y="10387"/>
                  <a:pt x="11427" y="10318"/>
                  <a:pt x="11534" y="10368"/>
                </a:cubicBezTo>
                <a:cubicBezTo>
                  <a:pt x="11534" y="10376"/>
                  <a:pt x="11534" y="10385"/>
                  <a:pt x="11534" y="10393"/>
                </a:cubicBezTo>
                <a:cubicBezTo>
                  <a:pt x="11406" y="10442"/>
                  <a:pt x="11435" y="10387"/>
                  <a:pt x="11435" y="10269"/>
                </a:cubicBezTo>
                <a:cubicBezTo>
                  <a:pt x="11435" y="10139"/>
                  <a:pt x="11438" y="10236"/>
                  <a:pt x="11460" y="10170"/>
                </a:cubicBezTo>
              </a:path>
              <a:path w="1067" h="1415">
                <a:moveTo>
                  <a:pt x="10641" y="10393"/>
                </a:moveTo>
                <a:cubicBezTo>
                  <a:pt x="10641" y="10515"/>
                  <a:pt x="10713" y="10623"/>
                  <a:pt x="10740" y="10740"/>
                </a:cubicBezTo>
                <a:cubicBezTo>
                  <a:pt x="10765" y="10848"/>
                  <a:pt x="10740" y="10698"/>
                  <a:pt x="10740" y="10641"/>
                </a:cubicBezTo>
              </a:path>
              <a:path w="1067" h="1415">
                <a:moveTo>
                  <a:pt x="10790" y="10344"/>
                </a:moveTo>
                <a:cubicBezTo>
                  <a:pt x="10841" y="10327"/>
                  <a:pt x="10973" y="10236"/>
                  <a:pt x="11013" y="10344"/>
                </a:cubicBezTo>
                <a:cubicBezTo>
                  <a:pt x="11040" y="10416"/>
                  <a:pt x="10973" y="10463"/>
                  <a:pt x="10939" y="10517"/>
                </a:cubicBezTo>
                <a:cubicBezTo>
                  <a:pt x="10939" y="10452"/>
                  <a:pt x="11011" y="10405"/>
                  <a:pt x="11063" y="10468"/>
                </a:cubicBezTo>
                <a:cubicBezTo>
                  <a:pt x="11145" y="10566"/>
                  <a:pt x="11034" y="10646"/>
                  <a:pt x="10964" y="106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5040" y="2670120"/>
            <a:ext cx="743040" cy="347760"/>
          </a:xfrm>
          <a:custGeom>
            <a:avLst/>
            <a:gdLst/>
            <a:ahLst/>
            <a:rect l="l" t="t" r="r" b="b"/>
            <a:pathLst>
              <a:path w="2060" h="968">
                <a:moveTo>
                  <a:pt x="4266" y="7466"/>
                </a:moveTo>
                <a:cubicBezTo>
                  <a:pt x="4284" y="7413"/>
                  <a:pt x="4377" y="7423"/>
                  <a:pt x="4440" y="7417"/>
                </a:cubicBezTo>
                <a:cubicBezTo>
                  <a:pt x="4440" y="7497"/>
                  <a:pt x="4425" y="7493"/>
                  <a:pt x="4366" y="7541"/>
                </a:cubicBezTo>
                <a:cubicBezTo>
                  <a:pt x="4426" y="7541"/>
                  <a:pt x="4505" y="7528"/>
                  <a:pt x="4490" y="7615"/>
                </a:cubicBezTo>
                <a:cubicBezTo>
                  <a:pt x="4471" y="7720"/>
                  <a:pt x="4344" y="7748"/>
                  <a:pt x="4316" y="7665"/>
                </a:cubicBezTo>
              </a:path>
              <a:path w="2060" h="968">
                <a:moveTo>
                  <a:pt x="4663" y="7417"/>
                </a:moveTo>
                <a:cubicBezTo>
                  <a:pt x="4739" y="7422"/>
                  <a:pt x="4897" y="7427"/>
                  <a:pt x="4837" y="7565"/>
                </a:cubicBezTo>
                <a:cubicBezTo>
                  <a:pt x="4796" y="7661"/>
                  <a:pt x="4696" y="7648"/>
                  <a:pt x="4638" y="7590"/>
                </a:cubicBezTo>
                <a:cubicBezTo>
                  <a:pt x="4704" y="7547"/>
                  <a:pt x="4767" y="7515"/>
                  <a:pt x="4837" y="7565"/>
                </a:cubicBezTo>
                <a:cubicBezTo>
                  <a:pt x="4860" y="7588"/>
                  <a:pt x="4868" y="7592"/>
                  <a:pt x="4862" y="7615"/>
                </a:cubicBezTo>
              </a:path>
              <a:path w="2060" h="968">
                <a:moveTo>
                  <a:pt x="5581" y="7838"/>
                </a:moveTo>
                <a:cubicBezTo>
                  <a:pt x="5565" y="7935"/>
                  <a:pt x="5536" y="8010"/>
                  <a:pt x="5531" y="8111"/>
                </a:cubicBezTo>
                <a:cubicBezTo>
                  <a:pt x="5526" y="8217"/>
                  <a:pt x="5738" y="8147"/>
                  <a:pt x="5779" y="8111"/>
                </a:cubicBezTo>
                <a:cubicBezTo>
                  <a:pt x="5803" y="8063"/>
                  <a:pt x="5812" y="8049"/>
                  <a:pt x="5804" y="8012"/>
                </a:cubicBezTo>
                <a:cubicBezTo>
                  <a:pt x="5710" y="8012"/>
                  <a:pt x="5694" y="8040"/>
                  <a:pt x="5680" y="8136"/>
                </a:cubicBezTo>
                <a:cubicBezTo>
                  <a:pt x="5680" y="8169"/>
                  <a:pt x="5688" y="8178"/>
                  <a:pt x="5730" y="8161"/>
                </a:cubicBezTo>
              </a:path>
              <a:path w="2060" h="968">
                <a:moveTo>
                  <a:pt x="6028" y="7838"/>
                </a:moveTo>
                <a:cubicBezTo>
                  <a:pt x="5944" y="7852"/>
                  <a:pt x="5905" y="7870"/>
                  <a:pt x="5829" y="7913"/>
                </a:cubicBezTo>
                <a:cubicBezTo>
                  <a:pt x="5967" y="7955"/>
                  <a:pt x="6017" y="7954"/>
                  <a:pt x="6077" y="8086"/>
                </a:cubicBezTo>
                <a:cubicBezTo>
                  <a:pt x="6010" y="8109"/>
                  <a:pt x="5899" y="8144"/>
                  <a:pt x="5953" y="8012"/>
                </a:cubicBezTo>
                <a:cubicBezTo>
                  <a:pt x="5960" y="7995"/>
                  <a:pt x="6113" y="7787"/>
                  <a:pt x="6028" y="7813"/>
                </a:cubicBezTo>
                <a:cubicBezTo>
                  <a:pt x="6011" y="7821"/>
                  <a:pt x="5995" y="7830"/>
                  <a:pt x="5978" y="7838"/>
                </a:cubicBezTo>
              </a:path>
              <a:path w="2060" h="968">
                <a:moveTo>
                  <a:pt x="5482" y="8310"/>
                </a:moveTo>
                <a:cubicBezTo>
                  <a:pt x="5579" y="8310"/>
                  <a:pt x="5661" y="8293"/>
                  <a:pt x="5755" y="8285"/>
                </a:cubicBezTo>
                <a:cubicBezTo>
                  <a:pt x="5874" y="8275"/>
                  <a:pt x="5986" y="8251"/>
                  <a:pt x="6102" y="8235"/>
                </a:cubicBezTo>
                <a:cubicBezTo>
                  <a:pt x="6194" y="8222"/>
                  <a:pt x="6224" y="8181"/>
                  <a:pt x="6276" y="8111"/>
                </a:cubicBezTo>
                <a:cubicBezTo>
                  <a:pt x="6330" y="8037"/>
                  <a:pt x="6334" y="7966"/>
                  <a:pt x="6300" y="7888"/>
                </a:cubicBezTo>
                <a:cubicBezTo>
                  <a:pt x="6258" y="7791"/>
                  <a:pt x="6202" y="7786"/>
                  <a:pt x="6152" y="7739"/>
                </a:cubicBezTo>
                <a:cubicBezTo>
                  <a:pt x="6083" y="7676"/>
                  <a:pt x="6042" y="7670"/>
                  <a:pt x="5953" y="7640"/>
                </a:cubicBezTo>
                <a:cubicBezTo>
                  <a:pt x="5881" y="7616"/>
                  <a:pt x="5811" y="7637"/>
                  <a:pt x="5730" y="7640"/>
                </a:cubicBezTo>
                <a:cubicBezTo>
                  <a:pt x="5631" y="7644"/>
                  <a:pt x="5554" y="7687"/>
                  <a:pt x="5457" y="7714"/>
                </a:cubicBezTo>
                <a:cubicBezTo>
                  <a:pt x="5400" y="7730"/>
                  <a:pt x="5280" y="7765"/>
                  <a:pt x="5234" y="7813"/>
                </a:cubicBezTo>
                <a:cubicBezTo>
                  <a:pt x="5174" y="7877"/>
                  <a:pt x="5092" y="7993"/>
                  <a:pt x="5110" y="8086"/>
                </a:cubicBezTo>
                <a:cubicBezTo>
                  <a:pt x="5129" y="8185"/>
                  <a:pt x="5233" y="8258"/>
                  <a:pt x="5308" y="8310"/>
                </a:cubicBezTo>
                <a:cubicBezTo>
                  <a:pt x="5433" y="8396"/>
                  <a:pt x="5489" y="8381"/>
                  <a:pt x="5631" y="8359"/>
                </a:cubicBezTo>
                <a:cubicBezTo>
                  <a:pt x="5639" y="8359"/>
                  <a:pt x="5647" y="8359"/>
                  <a:pt x="565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90760" y="3483000"/>
            <a:ext cx="1930320" cy="785880"/>
          </a:xfrm>
          <a:custGeom>
            <a:avLst/>
            <a:gdLst/>
            <a:ahLst/>
            <a:rect l="l" t="t" r="r" b="b"/>
            <a:pathLst>
              <a:path w="5359" h="2184">
                <a:moveTo>
                  <a:pt x="4415" y="10046"/>
                </a:moveTo>
                <a:cubicBezTo>
                  <a:pt x="4357" y="10148"/>
                  <a:pt x="4331" y="10252"/>
                  <a:pt x="4316" y="10368"/>
                </a:cubicBezTo>
                <a:cubicBezTo>
                  <a:pt x="4483" y="10356"/>
                  <a:pt x="4572" y="10335"/>
                  <a:pt x="4688" y="10220"/>
                </a:cubicBezTo>
                <a:cubicBezTo>
                  <a:pt x="4586" y="10220"/>
                  <a:pt x="4514" y="10213"/>
                  <a:pt x="4465" y="10319"/>
                </a:cubicBezTo>
                <a:cubicBezTo>
                  <a:pt x="4465" y="10370"/>
                  <a:pt x="4490" y="10372"/>
                  <a:pt x="4564" y="10319"/>
                </a:cubicBezTo>
              </a:path>
              <a:path w="5359" h="2184">
                <a:moveTo>
                  <a:pt x="5259" y="10021"/>
                </a:moveTo>
                <a:cubicBezTo>
                  <a:pt x="5259" y="10121"/>
                  <a:pt x="5240" y="10284"/>
                  <a:pt x="5283" y="10344"/>
                </a:cubicBezTo>
              </a:path>
              <a:path w="5359" h="2184">
                <a:moveTo>
                  <a:pt x="5358" y="10071"/>
                </a:moveTo>
                <a:cubicBezTo>
                  <a:pt x="5441" y="10071"/>
                  <a:pt x="5504" y="10073"/>
                  <a:pt x="5581" y="10096"/>
                </a:cubicBezTo>
                <a:cubicBezTo>
                  <a:pt x="5539" y="10199"/>
                  <a:pt x="5500" y="10253"/>
                  <a:pt x="5432" y="10344"/>
                </a:cubicBezTo>
                <a:cubicBezTo>
                  <a:pt x="5547" y="10360"/>
                  <a:pt x="5597" y="10362"/>
                  <a:pt x="5705" y="10319"/>
                </a:cubicBezTo>
              </a:path>
              <a:path w="5359" h="2184">
                <a:moveTo>
                  <a:pt x="5556" y="9674"/>
                </a:moveTo>
                <a:cubicBezTo>
                  <a:pt x="5710" y="9827"/>
                  <a:pt x="5978" y="9994"/>
                  <a:pt x="5879" y="10244"/>
                </a:cubicBezTo>
                <a:cubicBezTo>
                  <a:pt x="5765" y="10380"/>
                  <a:pt x="5738" y="10422"/>
                  <a:pt x="5631" y="10468"/>
                </a:cubicBezTo>
              </a:path>
              <a:path w="5359" h="2184">
                <a:moveTo>
                  <a:pt x="7094" y="9872"/>
                </a:moveTo>
                <a:cubicBezTo>
                  <a:pt x="7075" y="9965"/>
                  <a:pt x="6995" y="10045"/>
                  <a:pt x="6995" y="10145"/>
                </a:cubicBezTo>
                <a:cubicBezTo>
                  <a:pt x="6995" y="10219"/>
                  <a:pt x="7205" y="10237"/>
                  <a:pt x="7243" y="10220"/>
                </a:cubicBezTo>
                <a:cubicBezTo>
                  <a:pt x="7305" y="10157"/>
                  <a:pt x="7322" y="10147"/>
                  <a:pt x="7342" y="10096"/>
                </a:cubicBezTo>
                <a:cubicBezTo>
                  <a:pt x="7227" y="10070"/>
                  <a:pt x="7164" y="10102"/>
                  <a:pt x="7119" y="10220"/>
                </a:cubicBezTo>
                <a:cubicBezTo>
                  <a:pt x="7119" y="10253"/>
                  <a:pt x="7128" y="10261"/>
                  <a:pt x="7169" y="10244"/>
                </a:cubicBezTo>
              </a:path>
              <a:path w="5359" h="2184">
                <a:moveTo>
                  <a:pt x="8806" y="11063"/>
                </a:moveTo>
                <a:cubicBezTo>
                  <a:pt x="8945" y="11095"/>
                  <a:pt x="8983" y="11150"/>
                  <a:pt x="9079" y="11261"/>
                </a:cubicBezTo>
                <a:cubicBezTo>
                  <a:pt x="9128" y="11033"/>
                  <a:pt x="9225" y="10784"/>
                  <a:pt x="9426" y="10641"/>
                </a:cubicBezTo>
                <a:cubicBezTo>
                  <a:pt x="9451" y="10641"/>
                  <a:pt x="9475" y="10641"/>
                  <a:pt x="9500" y="10641"/>
                </a:cubicBezTo>
              </a:path>
              <a:path w="5359" h="2184">
                <a:moveTo>
                  <a:pt x="5383" y="11609"/>
                </a:moveTo>
                <a:cubicBezTo>
                  <a:pt x="5509" y="11566"/>
                  <a:pt x="5645" y="11589"/>
                  <a:pt x="5779" y="11559"/>
                </a:cubicBezTo>
                <a:cubicBezTo>
                  <a:pt x="6021" y="11504"/>
                  <a:pt x="6254" y="11427"/>
                  <a:pt x="6499" y="11385"/>
                </a:cubicBezTo>
                <a:cubicBezTo>
                  <a:pt x="6628" y="11363"/>
                  <a:pt x="6829" y="11339"/>
                  <a:pt x="6921" y="11237"/>
                </a:cubicBezTo>
                <a:cubicBezTo>
                  <a:pt x="6992" y="11159"/>
                  <a:pt x="6995" y="11115"/>
                  <a:pt x="6970" y="11013"/>
                </a:cubicBezTo>
                <a:cubicBezTo>
                  <a:pt x="6941" y="10894"/>
                  <a:pt x="6833" y="10848"/>
                  <a:pt x="6722" y="10815"/>
                </a:cubicBezTo>
                <a:cubicBezTo>
                  <a:pt x="6551" y="10764"/>
                  <a:pt x="6329" y="10770"/>
                  <a:pt x="6152" y="10765"/>
                </a:cubicBezTo>
                <a:cubicBezTo>
                  <a:pt x="6024" y="10762"/>
                  <a:pt x="5926" y="10776"/>
                  <a:pt x="5804" y="10815"/>
                </a:cubicBezTo>
                <a:cubicBezTo>
                  <a:pt x="5698" y="10849"/>
                  <a:pt x="5607" y="10858"/>
                  <a:pt x="5507" y="10914"/>
                </a:cubicBezTo>
                <a:cubicBezTo>
                  <a:pt x="5435" y="10954"/>
                  <a:pt x="5269" y="11064"/>
                  <a:pt x="5234" y="11137"/>
                </a:cubicBezTo>
                <a:cubicBezTo>
                  <a:pt x="5164" y="11285"/>
                  <a:pt x="5205" y="11485"/>
                  <a:pt x="5333" y="11584"/>
                </a:cubicBezTo>
                <a:cubicBezTo>
                  <a:pt x="5520" y="11729"/>
                  <a:pt x="5676" y="11550"/>
                  <a:pt x="5854" y="11534"/>
                </a:cubicBezTo>
                <a:cubicBezTo>
                  <a:pt x="5879" y="11542"/>
                  <a:pt x="5903" y="11551"/>
                  <a:pt x="5928" y="11559"/>
                </a:cubicBezTo>
              </a:path>
              <a:path w="5359" h="2184">
                <a:moveTo>
                  <a:pt x="4242" y="11807"/>
                </a:moveTo>
                <a:cubicBezTo>
                  <a:pt x="4234" y="11807"/>
                  <a:pt x="4225" y="11807"/>
                  <a:pt x="4217" y="11807"/>
                </a:cubicBezTo>
                <a:cubicBezTo>
                  <a:pt x="4234" y="11778"/>
                  <a:pt x="4351" y="11656"/>
                  <a:pt x="4390" y="11633"/>
                </a:cubicBezTo>
                <a:cubicBezTo>
                  <a:pt x="4514" y="11559"/>
                  <a:pt x="4678" y="11557"/>
                  <a:pt x="4812" y="11534"/>
                </a:cubicBezTo>
                <a:cubicBezTo>
                  <a:pt x="4937" y="11513"/>
                  <a:pt x="4991" y="11520"/>
                  <a:pt x="5110" y="11534"/>
                </a:cubicBezTo>
                <a:cubicBezTo>
                  <a:pt x="5187" y="11543"/>
                  <a:pt x="5218" y="11564"/>
                  <a:pt x="5283" y="11584"/>
                </a:cubicBezTo>
                <a:cubicBezTo>
                  <a:pt x="5335" y="11600"/>
                  <a:pt x="5333" y="11620"/>
                  <a:pt x="5358" y="11658"/>
                </a:cubicBezTo>
                <a:cubicBezTo>
                  <a:pt x="5378" y="11688"/>
                  <a:pt x="5423" y="11691"/>
                  <a:pt x="5432" y="11708"/>
                </a:cubicBezTo>
                <a:cubicBezTo>
                  <a:pt x="5462" y="11769"/>
                  <a:pt x="5408" y="11636"/>
                  <a:pt x="5407" y="11633"/>
                </a:cubicBezTo>
                <a:cubicBezTo>
                  <a:pt x="5407" y="11609"/>
                  <a:pt x="5407" y="11601"/>
                  <a:pt x="5407" y="11633"/>
                </a:cubicBezTo>
                <a:cubicBezTo>
                  <a:pt x="5421" y="11674"/>
                  <a:pt x="5443" y="11716"/>
                  <a:pt x="5457" y="11757"/>
                </a:cubicBezTo>
                <a:cubicBezTo>
                  <a:pt x="5386" y="11740"/>
                  <a:pt x="5317" y="11733"/>
                  <a:pt x="5234" y="11733"/>
                </a:cubicBezTo>
                <a:cubicBezTo>
                  <a:pt x="5226" y="11733"/>
                  <a:pt x="5217" y="11733"/>
                  <a:pt x="5209" y="11733"/>
                </a:cubicBezTo>
              </a:path>
              <a:path w="5359" h="2184">
                <a:moveTo>
                  <a:pt x="4142" y="11857"/>
                </a:moveTo>
                <a:cubicBezTo>
                  <a:pt x="4248" y="11773"/>
                  <a:pt x="4361" y="11659"/>
                  <a:pt x="4490" y="11609"/>
                </a:cubicBezTo>
                <a:cubicBezTo>
                  <a:pt x="4694" y="11530"/>
                  <a:pt x="4921" y="11518"/>
                  <a:pt x="5135" y="11485"/>
                </a:cubicBezTo>
                <a:cubicBezTo>
                  <a:pt x="5306" y="11459"/>
                  <a:pt x="5484" y="11449"/>
                  <a:pt x="5655" y="11435"/>
                </a:cubicBezTo>
                <a:cubicBezTo>
                  <a:pt x="5900" y="11415"/>
                  <a:pt x="6161" y="11434"/>
                  <a:pt x="6400" y="11460"/>
                </a:cubicBezTo>
                <a:cubicBezTo>
                  <a:pt x="6506" y="11471"/>
                  <a:pt x="6617" y="11490"/>
                  <a:pt x="6722" y="11509"/>
                </a:cubicBezTo>
                <a:cubicBezTo>
                  <a:pt x="6835" y="11530"/>
                  <a:pt x="6934" y="11596"/>
                  <a:pt x="7045" y="11633"/>
                </a:cubicBezTo>
                <a:cubicBezTo>
                  <a:pt x="7160" y="11671"/>
                  <a:pt x="7259" y="11734"/>
                  <a:pt x="7367" y="11782"/>
                </a:cubicBezTo>
                <a:cubicBezTo>
                  <a:pt x="7422" y="11807"/>
                  <a:pt x="7469" y="11833"/>
                  <a:pt x="7516" y="11857"/>
                </a:cubicBezTo>
                <a:cubicBezTo>
                  <a:pt x="7516" y="11782"/>
                  <a:pt x="7516" y="11708"/>
                  <a:pt x="7516" y="11633"/>
                </a:cubicBezTo>
                <a:cubicBezTo>
                  <a:pt x="7516" y="11707"/>
                  <a:pt x="7516" y="11733"/>
                  <a:pt x="7516" y="11807"/>
                </a:cubicBezTo>
                <a:cubicBezTo>
                  <a:pt x="7516" y="11815"/>
                  <a:pt x="7516" y="11824"/>
                  <a:pt x="7516" y="11832"/>
                </a:cubicBezTo>
                <a:cubicBezTo>
                  <a:pt x="7425" y="11843"/>
                  <a:pt x="7335" y="11852"/>
                  <a:pt x="7243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7040" y="5072040"/>
            <a:ext cx="1108080" cy="642960"/>
          </a:xfrm>
          <a:custGeom>
            <a:avLst/>
            <a:gdLst/>
            <a:ahLst/>
            <a:rect l="l" t="t" r="r" b="b"/>
            <a:pathLst>
              <a:path w="3077" h="1787">
                <a:moveTo>
                  <a:pt x="4911" y="14238"/>
                </a:moveTo>
                <a:cubicBezTo>
                  <a:pt x="4865" y="14257"/>
                  <a:pt x="4783" y="14287"/>
                  <a:pt x="4738" y="14312"/>
                </a:cubicBezTo>
                <a:cubicBezTo>
                  <a:pt x="4692" y="14337"/>
                  <a:pt x="4713" y="14419"/>
                  <a:pt x="4713" y="14461"/>
                </a:cubicBezTo>
                <a:cubicBezTo>
                  <a:pt x="4713" y="14489"/>
                  <a:pt x="4715" y="14500"/>
                  <a:pt x="4738" y="14511"/>
                </a:cubicBezTo>
                <a:cubicBezTo>
                  <a:pt x="4769" y="14469"/>
                  <a:pt x="4824" y="14457"/>
                  <a:pt x="4887" y="14436"/>
                </a:cubicBezTo>
                <a:cubicBezTo>
                  <a:pt x="4962" y="14551"/>
                  <a:pt x="4915" y="14621"/>
                  <a:pt x="4812" y="14709"/>
                </a:cubicBezTo>
                <a:cubicBezTo>
                  <a:pt x="4764" y="14733"/>
                  <a:pt x="4750" y="14741"/>
                  <a:pt x="4713" y="14734"/>
                </a:cubicBezTo>
              </a:path>
              <a:path w="3077" h="1787">
                <a:moveTo>
                  <a:pt x="5011" y="14288"/>
                </a:moveTo>
                <a:cubicBezTo>
                  <a:pt x="5037" y="14395"/>
                  <a:pt x="5035" y="14515"/>
                  <a:pt x="5035" y="14635"/>
                </a:cubicBezTo>
                <a:cubicBezTo>
                  <a:pt x="5035" y="14709"/>
                  <a:pt x="5035" y="14718"/>
                  <a:pt x="5035" y="14759"/>
                </a:cubicBezTo>
              </a:path>
              <a:path w="3077" h="1787">
                <a:moveTo>
                  <a:pt x="5953" y="14337"/>
                </a:moveTo>
                <a:cubicBezTo>
                  <a:pt x="5970" y="14406"/>
                  <a:pt x="6009" y="14485"/>
                  <a:pt x="6028" y="14560"/>
                </a:cubicBezTo>
                <a:cubicBezTo>
                  <a:pt x="6028" y="14568"/>
                  <a:pt x="6028" y="14577"/>
                  <a:pt x="6028" y="14585"/>
                </a:cubicBezTo>
              </a:path>
              <a:path w="3077" h="1787">
                <a:moveTo>
                  <a:pt x="6648" y="14337"/>
                </a:moveTo>
                <a:cubicBezTo>
                  <a:pt x="6660" y="14275"/>
                  <a:pt x="6687" y="14191"/>
                  <a:pt x="6772" y="14263"/>
                </a:cubicBezTo>
                <a:cubicBezTo>
                  <a:pt x="6863" y="14340"/>
                  <a:pt x="6841" y="14519"/>
                  <a:pt x="6747" y="14585"/>
                </a:cubicBezTo>
                <a:cubicBezTo>
                  <a:pt x="6730" y="14597"/>
                  <a:pt x="6694" y="14605"/>
                  <a:pt x="6672" y="14610"/>
                </a:cubicBezTo>
                <a:cubicBezTo>
                  <a:pt x="6701" y="14539"/>
                  <a:pt x="6744" y="14495"/>
                  <a:pt x="6821" y="14536"/>
                </a:cubicBezTo>
                <a:cubicBezTo>
                  <a:pt x="6864" y="14559"/>
                  <a:pt x="6861" y="14573"/>
                  <a:pt x="6896" y="14585"/>
                </a:cubicBezTo>
              </a:path>
              <a:path w="3077" h="1787">
                <a:moveTo>
                  <a:pt x="6945" y="14188"/>
                </a:moveTo>
                <a:cubicBezTo>
                  <a:pt x="6930" y="14264"/>
                  <a:pt x="6921" y="14311"/>
                  <a:pt x="6921" y="14387"/>
                </a:cubicBezTo>
                <a:cubicBezTo>
                  <a:pt x="6993" y="14380"/>
                  <a:pt x="7039" y="14378"/>
                  <a:pt x="7094" y="14337"/>
                </a:cubicBezTo>
              </a:path>
              <a:path w="3077" h="1787">
                <a:moveTo>
                  <a:pt x="7069" y="14089"/>
                </a:moveTo>
                <a:cubicBezTo>
                  <a:pt x="7069" y="14224"/>
                  <a:pt x="7086" y="14354"/>
                  <a:pt x="7119" y="14486"/>
                </a:cubicBezTo>
                <a:cubicBezTo>
                  <a:pt x="7127" y="14511"/>
                  <a:pt x="7136" y="14535"/>
                  <a:pt x="7144" y="14560"/>
                </a:cubicBezTo>
              </a:path>
              <a:path w="3077" h="1787">
                <a:moveTo>
                  <a:pt x="5829" y="15478"/>
                </a:moveTo>
                <a:cubicBezTo>
                  <a:pt x="5890" y="15468"/>
                  <a:pt x="6036" y="15372"/>
                  <a:pt x="6052" y="15478"/>
                </a:cubicBezTo>
                <a:cubicBezTo>
                  <a:pt x="6071" y="15605"/>
                  <a:pt x="6052" y="15746"/>
                  <a:pt x="6052" y="15875"/>
                </a:cubicBezTo>
              </a:path>
              <a:path w="3077" h="1787">
                <a:moveTo>
                  <a:pt x="6375" y="15329"/>
                </a:moveTo>
                <a:cubicBezTo>
                  <a:pt x="6366" y="15375"/>
                  <a:pt x="6347" y="15410"/>
                  <a:pt x="6325" y="15453"/>
                </a:cubicBezTo>
                <a:cubicBezTo>
                  <a:pt x="6434" y="15453"/>
                  <a:pt x="6524" y="15431"/>
                  <a:pt x="6524" y="15577"/>
                </a:cubicBezTo>
                <a:cubicBezTo>
                  <a:pt x="6524" y="15620"/>
                  <a:pt x="6393" y="15767"/>
                  <a:pt x="6375" y="15751"/>
                </a:cubicBezTo>
                <a:cubicBezTo>
                  <a:pt x="6367" y="15734"/>
                  <a:pt x="6358" y="15718"/>
                  <a:pt x="6350" y="15701"/>
                </a:cubicBezTo>
              </a:path>
              <a:path w="3077" h="1787">
                <a:moveTo>
                  <a:pt x="6325" y="15329"/>
                </a:moveTo>
                <a:cubicBezTo>
                  <a:pt x="6356" y="15306"/>
                  <a:pt x="6519" y="15139"/>
                  <a:pt x="6548" y="15156"/>
                </a:cubicBezTo>
                <a:cubicBezTo>
                  <a:pt x="6548" y="15164"/>
                  <a:pt x="6548" y="15172"/>
                  <a:pt x="6548" y="15180"/>
                </a:cubicBezTo>
              </a:path>
              <a:path w="3077" h="1787">
                <a:moveTo>
                  <a:pt x="7466" y="15304"/>
                </a:moveTo>
                <a:cubicBezTo>
                  <a:pt x="7523" y="15332"/>
                  <a:pt x="7573" y="15416"/>
                  <a:pt x="7615" y="15478"/>
                </a:cubicBezTo>
                <a:cubicBezTo>
                  <a:pt x="7640" y="15302"/>
                  <a:pt x="7687" y="15068"/>
                  <a:pt x="7764" y="14908"/>
                </a:cubicBezTo>
                <a:cubicBezTo>
                  <a:pt x="7772" y="14916"/>
                  <a:pt x="7781" y="14924"/>
                  <a:pt x="778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2880" y="4732200"/>
            <a:ext cx="20484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5507" y="13146"/>
                </a:moveTo>
                <a:cubicBezTo>
                  <a:pt x="5713" y="13250"/>
                  <a:pt x="5781" y="13356"/>
                  <a:pt x="5804" y="13593"/>
                </a:cubicBezTo>
                <a:cubicBezTo>
                  <a:pt x="5809" y="13649"/>
                  <a:pt x="5817" y="14027"/>
                  <a:pt x="5705" y="13891"/>
                </a:cubicBezTo>
              </a:path>
              <a:path w="571" h="795">
                <a:moveTo>
                  <a:pt x="6028" y="13494"/>
                </a:moveTo>
                <a:cubicBezTo>
                  <a:pt x="6043" y="13603"/>
                  <a:pt x="6054" y="13710"/>
                  <a:pt x="6077" y="138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8200" y="4759200"/>
            <a:ext cx="507960" cy="268560"/>
          </a:xfrm>
          <a:custGeom>
            <a:avLst/>
            <a:gdLst/>
            <a:ahLst/>
            <a:rect l="l" t="t" r="r" b="b"/>
            <a:pathLst>
              <a:path w="1414" h="745">
                <a:moveTo>
                  <a:pt x="4018" y="13221"/>
                </a:moveTo>
                <a:cubicBezTo>
                  <a:pt x="4018" y="13396"/>
                  <a:pt x="3971" y="13529"/>
                  <a:pt x="3994" y="13717"/>
                </a:cubicBezTo>
                <a:cubicBezTo>
                  <a:pt x="4008" y="13830"/>
                  <a:pt x="4045" y="13903"/>
                  <a:pt x="4118" y="13965"/>
                </a:cubicBezTo>
              </a:path>
              <a:path w="1414" h="745">
                <a:moveTo>
                  <a:pt x="4217" y="13395"/>
                </a:moveTo>
                <a:cubicBezTo>
                  <a:pt x="4238" y="13341"/>
                  <a:pt x="4347" y="13232"/>
                  <a:pt x="4415" y="13320"/>
                </a:cubicBezTo>
                <a:cubicBezTo>
                  <a:pt x="4455" y="13372"/>
                  <a:pt x="4454" y="13644"/>
                  <a:pt x="4390" y="13519"/>
                </a:cubicBezTo>
                <a:cubicBezTo>
                  <a:pt x="4547" y="13518"/>
                  <a:pt x="4602" y="13654"/>
                  <a:pt x="4465" y="13791"/>
                </a:cubicBezTo>
                <a:cubicBezTo>
                  <a:pt x="4407" y="13850"/>
                  <a:pt x="4358" y="13841"/>
                  <a:pt x="4291" y="13841"/>
                </a:cubicBezTo>
              </a:path>
              <a:path w="1414" h="745">
                <a:moveTo>
                  <a:pt x="4614" y="13320"/>
                </a:moveTo>
                <a:cubicBezTo>
                  <a:pt x="4703" y="13430"/>
                  <a:pt x="4810" y="13527"/>
                  <a:pt x="4887" y="13643"/>
                </a:cubicBezTo>
              </a:path>
              <a:path w="1414" h="745">
                <a:moveTo>
                  <a:pt x="4812" y="13320"/>
                </a:moveTo>
                <a:cubicBezTo>
                  <a:pt x="4800" y="13450"/>
                  <a:pt x="4780" y="13591"/>
                  <a:pt x="4738" y="13717"/>
                </a:cubicBezTo>
                <a:cubicBezTo>
                  <a:pt x="4714" y="13765"/>
                  <a:pt x="4706" y="13779"/>
                  <a:pt x="4713" y="13816"/>
                </a:cubicBezTo>
              </a:path>
              <a:path w="1414" h="745">
                <a:moveTo>
                  <a:pt x="4986" y="13345"/>
                </a:moveTo>
                <a:cubicBezTo>
                  <a:pt x="5052" y="13496"/>
                  <a:pt x="5060" y="13602"/>
                  <a:pt x="5060" y="13767"/>
                </a:cubicBezTo>
              </a:path>
              <a:path w="1414" h="745">
                <a:moveTo>
                  <a:pt x="5085" y="13320"/>
                </a:moveTo>
                <a:cubicBezTo>
                  <a:pt x="5189" y="13329"/>
                  <a:pt x="5254" y="13329"/>
                  <a:pt x="5358" y="13320"/>
                </a:cubicBezTo>
                <a:cubicBezTo>
                  <a:pt x="5366" y="13320"/>
                  <a:pt x="5375" y="13320"/>
                  <a:pt x="5383" y="13320"/>
                </a:cubicBezTo>
                <a:cubicBezTo>
                  <a:pt x="5383" y="13454"/>
                  <a:pt x="5403" y="13583"/>
                  <a:pt x="5407" y="13717"/>
                </a:cubicBezTo>
                <a:cubicBezTo>
                  <a:pt x="5407" y="13734"/>
                  <a:pt x="5407" y="13750"/>
                  <a:pt x="5407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2800" y="491976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5978" y="13692"/>
                </a:moveTo>
                <a:cubicBezTo>
                  <a:pt x="6064" y="13692"/>
                  <a:pt x="6142" y="13675"/>
                  <a:pt x="6226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57280" y="4660920"/>
            <a:ext cx="473400" cy="349200"/>
          </a:xfrm>
          <a:custGeom>
            <a:avLst/>
            <a:gdLst/>
            <a:ahLst/>
            <a:rect l="l" t="t" r="r" b="b"/>
            <a:pathLst>
              <a:path w="1316" h="968">
                <a:moveTo>
                  <a:pt x="6648" y="13146"/>
                </a:moveTo>
                <a:cubicBezTo>
                  <a:pt x="6507" y="13044"/>
                  <a:pt x="6549" y="13436"/>
                  <a:pt x="6548" y="13469"/>
                </a:cubicBezTo>
                <a:cubicBezTo>
                  <a:pt x="6547" y="13505"/>
                  <a:pt x="6518" y="13950"/>
                  <a:pt x="6623" y="13742"/>
                </a:cubicBezTo>
              </a:path>
              <a:path w="1316" h="968">
                <a:moveTo>
                  <a:pt x="6772" y="13320"/>
                </a:moveTo>
                <a:cubicBezTo>
                  <a:pt x="6802" y="13274"/>
                  <a:pt x="6843" y="13279"/>
                  <a:pt x="6846" y="13345"/>
                </a:cubicBezTo>
                <a:cubicBezTo>
                  <a:pt x="6850" y="13454"/>
                  <a:pt x="6824" y="13460"/>
                  <a:pt x="6772" y="13543"/>
                </a:cubicBezTo>
                <a:cubicBezTo>
                  <a:pt x="6824" y="13491"/>
                  <a:pt x="6938" y="13388"/>
                  <a:pt x="6945" y="13543"/>
                </a:cubicBezTo>
                <a:cubicBezTo>
                  <a:pt x="6947" y="13596"/>
                  <a:pt x="6791" y="13783"/>
                  <a:pt x="6747" y="13717"/>
                </a:cubicBezTo>
                <a:cubicBezTo>
                  <a:pt x="6747" y="13654"/>
                  <a:pt x="6754" y="13627"/>
                  <a:pt x="6796" y="13593"/>
                </a:cubicBezTo>
              </a:path>
              <a:path w="1316" h="968">
                <a:moveTo>
                  <a:pt x="7094" y="13320"/>
                </a:moveTo>
                <a:cubicBezTo>
                  <a:pt x="7155" y="13392"/>
                  <a:pt x="7207" y="13471"/>
                  <a:pt x="7268" y="13543"/>
                </a:cubicBezTo>
              </a:path>
              <a:path w="1316" h="968">
                <a:moveTo>
                  <a:pt x="7243" y="13246"/>
                </a:moveTo>
                <a:cubicBezTo>
                  <a:pt x="7198" y="13359"/>
                  <a:pt x="7139" y="13474"/>
                  <a:pt x="7119" y="13593"/>
                </a:cubicBezTo>
              </a:path>
              <a:path w="1316" h="968">
                <a:moveTo>
                  <a:pt x="7590" y="13097"/>
                </a:moveTo>
                <a:cubicBezTo>
                  <a:pt x="7487" y="13155"/>
                  <a:pt x="7459" y="13201"/>
                  <a:pt x="7392" y="13295"/>
                </a:cubicBezTo>
                <a:cubicBezTo>
                  <a:pt x="7452" y="13325"/>
                  <a:pt x="7640" y="13305"/>
                  <a:pt x="7640" y="13419"/>
                </a:cubicBezTo>
                <a:cubicBezTo>
                  <a:pt x="7596" y="13484"/>
                  <a:pt x="7590" y="13504"/>
                  <a:pt x="7541" y="13519"/>
                </a:cubicBezTo>
                <a:cubicBezTo>
                  <a:pt x="7516" y="13411"/>
                  <a:pt x="7531" y="13352"/>
                  <a:pt x="7541" y="13246"/>
                </a:cubicBezTo>
                <a:cubicBezTo>
                  <a:pt x="7541" y="13211"/>
                  <a:pt x="7545" y="13193"/>
                  <a:pt x="7565" y="13171"/>
                </a:cubicBezTo>
              </a:path>
              <a:path w="1316" h="968">
                <a:moveTo>
                  <a:pt x="7565" y="12948"/>
                </a:moveTo>
                <a:cubicBezTo>
                  <a:pt x="7801" y="13141"/>
                  <a:pt x="7924" y="13313"/>
                  <a:pt x="7838" y="13643"/>
                </a:cubicBezTo>
                <a:cubicBezTo>
                  <a:pt x="7754" y="13790"/>
                  <a:pt x="7734" y="13822"/>
                  <a:pt x="7689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65920" y="3089160"/>
            <a:ext cx="160200" cy="285840"/>
          </a:xfrm>
          <a:custGeom>
            <a:avLst/>
            <a:gdLst/>
            <a:ahLst/>
            <a:rect l="l" t="t" r="r" b="b"/>
            <a:pathLst>
              <a:path w="447" h="795">
                <a:moveTo>
                  <a:pt x="16570" y="8806"/>
                </a:moveTo>
                <a:cubicBezTo>
                  <a:pt x="16614" y="8939"/>
                  <a:pt x="16656" y="9063"/>
                  <a:pt x="16669" y="9203"/>
                </a:cubicBezTo>
              </a:path>
              <a:path w="447" h="795">
                <a:moveTo>
                  <a:pt x="16718" y="8582"/>
                </a:moveTo>
                <a:cubicBezTo>
                  <a:pt x="16999" y="8923"/>
                  <a:pt x="17094" y="9016"/>
                  <a:pt x="16818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3040" y="3143160"/>
            <a:ext cx="106200" cy="285840"/>
          </a:xfrm>
          <a:custGeom>
            <a:avLst/>
            <a:gdLst/>
            <a:ahLst/>
            <a:rect l="l" t="t" r="r" b="b"/>
            <a:pathLst>
              <a:path w="299" h="795">
                <a:moveTo>
                  <a:pt x="14312" y="8905"/>
                </a:moveTo>
                <a:cubicBezTo>
                  <a:pt x="14334" y="8934"/>
                  <a:pt x="14337" y="9040"/>
                  <a:pt x="14337" y="9004"/>
                </a:cubicBezTo>
                <a:cubicBezTo>
                  <a:pt x="14337" y="8959"/>
                  <a:pt x="14344" y="8848"/>
                  <a:pt x="14312" y="8880"/>
                </a:cubicBezTo>
                <a:cubicBezTo>
                  <a:pt x="14272" y="8920"/>
                  <a:pt x="14352" y="9044"/>
                  <a:pt x="14337" y="9103"/>
                </a:cubicBezTo>
                <a:cubicBezTo>
                  <a:pt x="14329" y="9111"/>
                  <a:pt x="14320" y="9120"/>
                  <a:pt x="14312" y="9128"/>
                </a:cubicBezTo>
                <a:cubicBezTo>
                  <a:pt x="14408" y="9128"/>
                  <a:pt x="14502" y="9132"/>
                  <a:pt x="14585" y="9153"/>
                </a:cubicBezTo>
                <a:cubicBezTo>
                  <a:pt x="14593" y="9153"/>
                  <a:pt x="14602" y="9153"/>
                  <a:pt x="14610" y="9153"/>
                </a:cubicBezTo>
              </a:path>
              <a:path w="299" h="795">
                <a:moveTo>
                  <a:pt x="14560" y="8731"/>
                </a:moveTo>
                <a:cubicBezTo>
                  <a:pt x="14560" y="8880"/>
                  <a:pt x="14583" y="9026"/>
                  <a:pt x="14585" y="9178"/>
                </a:cubicBezTo>
                <a:cubicBezTo>
                  <a:pt x="14587" y="9316"/>
                  <a:pt x="14594" y="9396"/>
                  <a:pt x="14610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7240" y="3106800"/>
            <a:ext cx="554040" cy="30456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15007" y="8632"/>
                </a:moveTo>
                <a:cubicBezTo>
                  <a:pt x="14970" y="8780"/>
                  <a:pt x="14923" y="8992"/>
                  <a:pt x="14908" y="9153"/>
                </a:cubicBezTo>
                <a:cubicBezTo>
                  <a:pt x="14899" y="9250"/>
                  <a:pt x="14895" y="9395"/>
                  <a:pt x="14957" y="9475"/>
                </a:cubicBezTo>
              </a:path>
              <a:path w="1539" h="844">
                <a:moveTo>
                  <a:pt x="15131" y="8905"/>
                </a:moveTo>
                <a:cubicBezTo>
                  <a:pt x="15170" y="9034"/>
                  <a:pt x="15164" y="9311"/>
                  <a:pt x="15230" y="9203"/>
                </a:cubicBezTo>
              </a:path>
              <a:path w="1539" h="844">
                <a:moveTo>
                  <a:pt x="15354" y="8954"/>
                </a:moveTo>
                <a:cubicBezTo>
                  <a:pt x="15435" y="8928"/>
                  <a:pt x="15467" y="8920"/>
                  <a:pt x="15528" y="8930"/>
                </a:cubicBezTo>
                <a:cubicBezTo>
                  <a:pt x="15511" y="9066"/>
                  <a:pt x="15458" y="9111"/>
                  <a:pt x="15404" y="9227"/>
                </a:cubicBezTo>
                <a:cubicBezTo>
                  <a:pt x="15377" y="9286"/>
                  <a:pt x="15624" y="9233"/>
                  <a:pt x="15652" y="9227"/>
                </a:cubicBezTo>
              </a:path>
              <a:path w="1539" h="844">
                <a:moveTo>
                  <a:pt x="15900" y="8905"/>
                </a:moveTo>
                <a:cubicBezTo>
                  <a:pt x="15919" y="8997"/>
                  <a:pt x="15940" y="9086"/>
                  <a:pt x="15949" y="9178"/>
                </a:cubicBezTo>
              </a:path>
              <a:path w="1539" h="844">
                <a:moveTo>
                  <a:pt x="15850" y="9029"/>
                </a:moveTo>
                <a:cubicBezTo>
                  <a:pt x="15994" y="9029"/>
                  <a:pt x="16108" y="9012"/>
                  <a:pt x="16247" y="8979"/>
                </a:cubicBezTo>
              </a:path>
              <a:path w="1539" h="844">
                <a:moveTo>
                  <a:pt x="16321" y="8830"/>
                </a:moveTo>
                <a:cubicBezTo>
                  <a:pt x="16341" y="8890"/>
                  <a:pt x="16359" y="9158"/>
                  <a:pt x="16421" y="9178"/>
                </a:cubicBezTo>
                <a:cubicBezTo>
                  <a:pt x="16429" y="9170"/>
                  <a:pt x="16438" y="9161"/>
                  <a:pt x="16446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24320" y="1901880"/>
            <a:ext cx="1133640" cy="2928960"/>
          </a:xfrm>
          <a:custGeom>
            <a:avLst/>
            <a:gdLst/>
            <a:ahLst/>
            <a:rect l="l" t="t" r="r" b="b"/>
            <a:pathLst>
              <a:path w="3151" h="8137">
                <a:moveTo>
                  <a:pt x="14635" y="5283"/>
                </a:moveTo>
                <a:cubicBezTo>
                  <a:pt x="14538" y="5496"/>
                  <a:pt x="14456" y="5837"/>
                  <a:pt x="14511" y="6077"/>
                </a:cubicBezTo>
                <a:cubicBezTo>
                  <a:pt x="14527" y="6148"/>
                  <a:pt x="14620" y="6286"/>
                  <a:pt x="14684" y="6325"/>
                </a:cubicBezTo>
              </a:path>
              <a:path w="3151" h="8137">
                <a:moveTo>
                  <a:pt x="15255" y="5333"/>
                </a:moveTo>
                <a:cubicBezTo>
                  <a:pt x="15543" y="5612"/>
                  <a:pt x="15747" y="5840"/>
                  <a:pt x="15528" y="6251"/>
                </a:cubicBezTo>
                <a:cubicBezTo>
                  <a:pt x="15495" y="6284"/>
                  <a:pt x="15462" y="6317"/>
                  <a:pt x="15429" y="6350"/>
                </a:cubicBezTo>
              </a:path>
              <a:path w="3151" h="8137">
                <a:moveTo>
                  <a:pt x="15230" y="9575"/>
                </a:moveTo>
                <a:cubicBezTo>
                  <a:pt x="15177" y="9798"/>
                  <a:pt x="15018" y="10143"/>
                  <a:pt x="15255" y="10319"/>
                </a:cubicBezTo>
                <a:cubicBezTo>
                  <a:pt x="15411" y="10370"/>
                  <a:pt x="15468" y="10385"/>
                  <a:pt x="15577" y="10319"/>
                </a:cubicBezTo>
              </a:path>
              <a:path w="3151" h="8137">
                <a:moveTo>
                  <a:pt x="16098" y="9451"/>
                </a:moveTo>
                <a:cubicBezTo>
                  <a:pt x="16300" y="9499"/>
                  <a:pt x="16510" y="9669"/>
                  <a:pt x="16495" y="9922"/>
                </a:cubicBezTo>
                <a:cubicBezTo>
                  <a:pt x="16427" y="10081"/>
                  <a:pt x="16414" y="10128"/>
                  <a:pt x="16321" y="10195"/>
                </a:cubicBezTo>
              </a:path>
              <a:path w="3151" h="8137">
                <a:moveTo>
                  <a:pt x="17363" y="12402"/>
                </a:moveTo>
                <a:cubicBezTo>
                  <a:pt x="17561" y="12612"/>
                  <a:pt x="17745" y="12803"/>
                  <a:pt x="17636" y="13122"/>
                </a:cubicBezTo>
                <a:cubicBezTo>
                  <a:pt x="17525" y="13299"/>
                  <a:pt x="17503" y="13349"/>
                  <a:pt x="17388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86240" y="200988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14684" y="5631"/>
                </a:moveTo>
                <a:cubicBezTo>
                  <a:pt x="14684" y="5762"/>
                  <a:pt x="14730" y="5923"/>
                  <a:pt x="14759" y="6052"/>
                </a:cubicBezTo>
                <a:cubicBezTo>
                  <a:pt x="14767" y="6077"/>
                  <a:pt x="14776" y="6102"/>
                  <a:pt x="14784" y="6127"/>
                </a:cubicBezTo>
              </a:path>
              <a:path w="547" h="671">
                <a:moveTo>
                  <a:pt x="14883" y="5581"/>
                </a:moveTo>
                <a:cubicBezTo>
                  <a:pt x="14984" y="5610"/>
                  <a:pt x="15047" y="5631"/>
                  <a:pt x="15156" y="5631"/>
                </a:cubicBezTo>
                <a:cubicBezTo>
                  <a:pt x="15179" y="5798"/>
                  <a:pt x="15202" y="5956"/>
                  <a:pt x="15205" y="6127"/>
                </a:cubicBezTo>
                <a:cubicBezTo>
                  <a:pt x="15205" y="6218"/>
                  <a:pt x="15172" y="6259"/>
                  <a:pt x="15230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9720" y="3463920"/>
            <a:ext cx="26028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5577" y="9748"/>
                </a:moveTo>
                <a:cubicBezTo>
                  <a:pt x="15645" y="9748"/>
                  <a:pt x="15680" y="9758"/>
                  <a:pt x="15751" y="9773"/>
                </a:cubicBezTo>
                <a:cubicBezTo>
                  <a:pt x="15767" y="9947"/>
                  <a:pt x="15666" y="10012"/>
                  <a:pt x="15528" y="10120"/>
                </a:cubicBezTo>
                <a:cubicBezTo>
                  <a:pt x="15600" y="10149"/>
                  <a:pt x="15709" y="10085"/>
                  <a:pt x="15801" y="10071"/>
                </a:cubicBezTo>
                <a:cubicBezTo>
                  <a:pt x="15845" y="10071"/>
                  <a:pt x="15859" y="10074"/>
                  <a:pt x="15875" y="10046"/>
                </a:cubicBezTo>
              </a:path>
              <a:path w="720" h="522">
                <a:moveTo>
                  <a:pt x="15925" y="9649"/>
                </a:moveTo>
                <a:cubicBezTo>
                  <a:pt x="15989" y="9638"/>
                  <a:pt x="16075" y="9579"/>
                  <a:pt x="16098" y="9674"/>
                </a:cubicBezTo>
                <a:cubicBezTo>
                  <a:pt x="16117" y="9756"/>
                  <a:pt x="16073" y="9774"/>
                  <a:pt x="16024" y="9823"/>
                </a:cubicBezTo>
                <a:cubicBezTo>
                  <a:pt x="16130" y="9794"/>
                  <a:pt x="16157" y="9799"/>
                  <a:pt x="16247" y="9847"/>
                </a:cubicBezTo>
                <a:cubicBezTo>
                  <a:pt x="16162" y="10041"/>
                  <a:pt x="16159" y="10012"/>
                  <a:pt x="15949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64080" y="3786120"/>
            <a:ext cx="403200" cy="21456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15180" y="10616"/>
                </a:moveTo>
                <a:cubicBezTo>
                  <a:pt x="15231" y="10781"/>
                  <a:pt x="15195" y="11246"/>
                  <a:pt x="15304" y="11112"/>
                </a:cubicBezTo>
                <a:cubicBezTo>
                  <a:pt x="15312" y="11079"/>
                  <a:pt x="15321" y="11046"/>
                  <a:pt x="15329" y="11013"/>
                </a:cubicBezTo>
              </a:path>
              <a:path w="1118" h="596">
                <a:moveTo>
                  <a:pt x="15429" y="10666"/>
                </a:moveTo>
                <a:cubicBezTo>
                  <a:pt x="15546" y="10632"/>
                  <a:pt x="15740" y="10564"/>
                  <a:pt x="15602" y="10765"/>
                </a:cubicBezTo>
                <a:cubicBezTo>
                  <a:pt x="15577" y="10790"/>
                  <a:pt x="15553" y="10815"/>
                  <a:pt x="15528" y="10840"/>
                </a:cubicBezTo>
                <a:cubicBezTo>
                  <a:pt x="15600" y="10822"/>
                  <a:pt x="15849" y="10736"/>
                  <a:pt x="15801" y="10939"/>
                </a:cubicBezTo>
                <a:cubicBezTo>
                  <a:pt x="15760" y="11112"/>
                  <a:pt x="15604" y="11065"/>
                  <a:pt x="15503" y="11038"/>
                </a:cubicBezTo>
              </a:path>
              <a:path w="1118" h="596">
                <a:moveTo>
                  <a:pt x="16098" y="10517"/>
                </a:moveTo>
                <a:cubicBezTo>
                  <a:pt x="15988" y="10605"/>
                  <a:pt x="15959" y="10625"/>
                  <a:pt x="15900" y="10691"/>
                </a:cubicBezTo>
                <a:cubicBezTo>
                  <a:pt x="15994" y="10731"/>
                  <a:pt x="16287" y="10780"/>
                  <a:pt x="16297" y="10914"/>
                </a:cubicBezTo>
                <a:cubicBezTo>
                  <a:pt x="16240" y="10998"/>
                  <a:pt x="16211" y="11025"/>
                  <a:pt x="16123" y="11013"/>
                </a:cubicBezTo>
                <a:cubicBezTo>
                  <a:pt x="16023" y="10785"/>
                  <a:pt x="16158" y="10780"/>
                  <a:pt x="16247" y="10567"/>
                </a:cubicBezTo>
                <a:cubicBezTo>
                  <a:pt x="16239" y="10567"/>
                  <a:pt x="16230" y="10567"/>
                  <a:pt x="16222" y="105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6120" y="1938240"/>
            <a:ext cx="152280" cy="258840"/>
          </a:xfrm>
          <a:custGeom>
            <a:avLst/>
            <a:gdLst/>
            <a:ahLst/>
            <a:rect l="l" t="t" r="r" b="b"/>
            <a:pathLst>
              <a:path w="422" h="720">
                <a:moveTo>
                  <a:pt x="13767" y="5383"/>
                </a:moveTo>
                <a:cubicBezTo>
                  <a:pt x="13829" y="5466"/>
                  <a:pt x="13828" y="5628"/>
                  <a:pt x="13816" y="5730"/>
                </a:cubicBezTo>
                <a:cubicBezTo>
                  <a:pt x="13808" y="5746"/>
                  <a:pt x="13799" y="5763"/>
                  <a:pt x="13791" y="5779"/>
                </a:cubicBezTo>
                <a:cubicBezTo>
                  <a:pt x="13925" y="5751"/>
                  <a:pt x="14029" y="5772"/>
                  <a:pt x="14163" y="5779"/>
                </a:cubicBezTo>
                <a:cubicBezTo>
                  <a:pt x="14171" y="5779"/>
                  <a:pt x="14180" y="5779"/>
                  <a:pt x="14188" y="5779"/>
                </a:cubicBezTo>
              </a:path>
              <a:path w="422" h="720">
                <a:moveTo>
                  <a:pt x="14114" y="5407"/>
                </a:moveTo>
                <a:cubicBezTo>
                  <a:pt x="14114" y="5596"/>
                  <a:pt x="14117" y="5791"/>
                  <a:pt x="14139" y="5978"/>
                </a:cubicBezTo>
                <a:cubicBezTo>
                  <a:pt x="14147" y="6019"/>
                  <a:pt x="14155" y="6061"/>
                  <a:pt x="14163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4760" y="2428920"/>
            <a:ext cx="258480" cy="196920"/>
          </a:xfrm>
          <a:custGeom>
            <a:avLst/>
            <a:gdLst/>
            <a:ahLst/>
            <a:rect l="l" t="t" r="r" b="b"/>
            <a:pathLst>
              <a:path w="721" h="547">
                <a:moveTo>
                  <a:pt x="14089" y="6772"/>
                </a:moveTo>
                <a:cubicBezTo>
                  <a:pt x="14061" y="6881"/>
                  <a:pt x="14014" y="7018"/>
                  <a:pt x="14039" y="7144"/>
                </a:cubicBezTo>
                <a:cubicBezTo>
                  <a:pt x="14086" y="7378"/>
                  <a:pt x="14292" y="7180"/>
                  <a:pt x="14337" y="7069"/>
                </a:cubicBezTo>
                <a:cubicBezTo>
                  <a:pt x="14337" y="7053"/>
                  <a:pt x="14337" y="7036"/>
                  <a:pt x="14337" y="7020"/>
                </a:cubicBezTo>
                <a:cubicBezTo>
                  <a:pt x="14316" y="7037"/>
                  <a:pt x="14120" y="7314"/>
                  <a:pt x="14213" y="7293"/>
                </a:cubicBezTo>
                <a:cubicBezTo>
                  <a:pt x="14246" y="7268"/>
                  <a:pt x="14279" y="7243"/>
                  <a:pt x="14312" y="7218"/>
                </a:cubicBezTo>
              </a:path>
              <a:path w="721" h="547">
                <a:moveTo>
                  <a:pt x="14511" y="6747"/>
                </a:moveTo>
                <a:cubicBezTo>
                  <a:pt x="14486" y="6772"/>
                  <a:pt x="14461" y="6796"/>
                  <a:pt x="14436" y="6821"/>
                </a:cubicBezTo>
                <a:cubicBezTo>
                  <a:pt x="14505" y="6959"/>
                  <a:pt x="14731" y="7006"/>
                  <a:pt x="14759" y="7144"/>
                </a:cubicBezTo>
                <a:cubicBezTo>
                  <a:pt x="14742" y="7160"/>
                  <a:pt x="14726" y="7177"/>
                  <a:pt x="14709" y="7193"/>
                </a:cubicBezTo>
                <a:cubicBezTo>
                  <a:pt x="14495" y="7165"/>
                  <a:pt x="14523" y="7106"/>
                  <a:pt x="14610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9040" y="3054240"/>
            <a:ext cx="312840" cy="677880"/>
          </a:xfrm>
          <a:custGeom>
            <a:avLst/>
            <a:gdLst/>
            <a:ahLst/>
            <a:rect l="l" t="t" r="r" b="b"/>
            <a:pathLst>
              <a:path w="870" h="1886">
                <a:moveTo>
                  <a:pt x="14684" y="9872"/>
                </a:moveTo>
                <a:cubicBezTo>
                  <a:pt x="14668" y="10007"/>
                  <a:pt x="14660" y="10132"/>
                  <a:pt x="14660" y="10269"/>
                </a:cubicBezTo>
                <a:cubicBezTo>
                  <a:pt x="14660" y="10302"/>
                  <a:pt x="14660" y="10335"/>
                  <a:pt x="14660" y="10368"/>
                </a:cubicBezTo>
                <a:cubicBezTo>
                  <a:pt x="14788" y="10356"/>
                  <a:pt x="14925" y="10332"/>
                  <a:pt x="15007" y="10220"/>
                </a:cubicBezTo>
                <a:cubicBezTo>
                  <a:pt x="15015" y="10195"/>
                  <a:pt x="15024" y="10170"/>
                  <a:pt x="15032" y="10145"/>
                </a:cubicBezTo>
                <a:cubicBezTo>
                  <a:pt x="14898" y="10123"/>
                  <a:pt x="14863" y="10146"/>
                  <a:pt x="14833" y="10294"/>
                </a:cubicBezTo>
                <a:cubicBezTo>
                  <a:pt x="14833" y="10351"/>
                  <a:pt x="14833" y="10393"/>
                  <a:pt x="14833" y="10344"/>
                </a:cubicBezTo>
              </a:path>
              <a:path w="870" h="1886">
                <a:moveTo>
                  <a:pt x="14263" y="8483"/>
                </a:moveTo>
                <a:cubicBezTo>
                  <a:pt x="14302" y="8535"/>
                  <a:pt x="14288" y="8589"/>
                  <a:pt x="14288" y="8657"/>
                </a:cubicBezTo>
                <a:cubicBezTo>
                  <a:pt x="14288" y="8829"/>
                  <a:pt x="14211" y="8975"/>
                  <a:pt x="14238" y="9153"/>
                </a:cubicBezTo>
                <a:cubicBezTo>
                  <a:pt x="14260" y="9298"/>
                  <a:pt x="14421" y="9319"/>
                  <a:pt x="14536" y="9277"/>
                </a:cubicBezTo>
                <a:cubicBezTo>
                  <a:pt x="14634" y="9241"/>
                  <a:pt x="14689" y="9097"/>
                  <a:pt x="14709" y="9004"/>
                </a:cubicBezTo>
                <a:cubicBezTo>
                  <a:pt x="14722" y="8943"/>
                  <a:pt x="14616" y="8918"/>
                  <a:pt x="14560" y="8930"/>
                </a:cubicBezTo>
                <a:cubicBezTo>
                  <a:pt x="14414" y="8961"/>
                  <a:pt x="14419" y="9142"/>
                  <a:pt x="14412" y="9252"/>
                </a:cubicBezTo>
                <a:cubicBezTo>
                  <a:pt x="14412" y="9277"/>
                  <a:pt x="14412" y="9302"/>
                  <a:pt x="14412" y="9327"/>
                </a:cubicBezTo>
                <a:cubicBezTo>
                  <a:pt x="14412" y="9390"/>
                  <a:pt x="14434" y="9134"/>
                  <a:pt x="14436" y="9128"/>
                </a:cubicBezTo>
                <a:cubicBezTo>
                  <a:pt x="14485" y="9031"/>
                  <a:pt x="14501" y="8999"/>
                  <a:pt x="14560" y="8954"/>
                </a:cubicBezTo>
                <a:cubicBezTo>
                  <a:pt x="14580" y="9122"/>
                  <a:pt x="14584" y="9292"/>
                  <a:pt x="14362" y="9302"/>
                </a:cubicBezTo>
                <a:cubicBezTo>
                  <a:pt x="14071" y="9315"/>
                  <a:pt x="14178" y="8989"/>
                  <a:pt x="14213" y="8830"/>
                </a:cubicBezTo>
                <a:cubicBezTo>
                  <a:pt x="14234" y="8733"/>
                  <a:pt x="14269" y="8650"/>
                  <a:pt x="14288" y="8558"/>
                </a:cubicBezTo>
                <a:cubicBezTo>
                  <a:pt x="14288" y="8726"/>
                  <a:pt x="14203" y="9168"/>
                  <a:pt x="14312" y="9302"/>
                </a:cubicBezTo>
                <a:cubicBezTo>
                  <a:pt x="14337" y="9302"/>
                  <a:pt x="14362" y="9302"/>
                  <a:pt x="14387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9800" y="3483000"/>
            <a:ext cx="36360" cy="98280"/>
          </a:xfrm>
          <a:custGeom>
            <a:avLst/>
            <a:gdLst/>
            <a:ahLst/>
            <a:rect l="l" t="t" r="r" b="b"/>
            <a:pathLst>
              <a:path w="100" h="274">
                <a:moveTo>
                  <a:pt x="18405" y="9674"/>
                </a:moveTo>
                <a:cubicBezTo>
                  <a:pt x="18347" y="9808"/>
                  <a:pt x="18280" y="9871"/>
                  <a:pt x="18355" y="99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43760" y="1704960"/>
            <a:ext cx="492120" cy="965160"/>
          </a:xfrm>
          <a:custGeom>
            <a:avLst/>
            <a:gdLst/>
            <a:ahLst/>
            <a:rect l="l" t="t" r="r" b="b"/>
            <a:pathLst>
              <a:path w="1365" h="2680">
                <a:moveTo>
                  <a:pt x="17413" y="5259"/>
                </a:moveTo>
                <a:cubicBezTo>
                  <a:pt x="17421" y="5316"/>
                  <a:pt x="17462" y="5736"/>
                  <a:pt x="17462" y="5631"/>
                </a:cubicBezTo>
              </a:path>
              <a:path w="1365" h="2680">
                <a:moveTo>
                  <a:pt x="17587" y="5159"/>
                </a:moveTo>
                <a:cubicBezTo>
                  <a:pt x="17721" y="5169"/>
                  <a:pt x="17830" y="5184"/>
                  <a:pt x="17959" y="5159"/>
                </a:cubicBezTo>
                <a:cubicBezTo>
                  <a:pt x="17967" y="5159"/>
                  <a:pt x="17975" y="5159"/>
                  <a:pt x="17983" y="5159"/>
                </a:cubicBezTo>
                <a:cubicBezTo>
                  <a:pt x="17983" y="5341"/>
                  <a:pt x="17998" y="5531"/>
                  <a:pt x="17959" y="5705"/>
                </a:cubicBezTo>
              </a:path>
              <a:path w="1365" h="2680">
                <a:moveTo>
                  <a:pt x="17959" y="6077"/>
                </a:moveTo>
                <a:cubicBezTo>
                  <a:pt x="17950" y="6120"/>
                  <a:pt x="17898" y="6213"/>
                  <a:pt x="17959" y="6251"/>
                </a:cubicBezTo>
                <a:cubicBezTo>
                  <a:pt x="18027" y="6251"/>
                  <a:pt x="18057" y="6238"/>
                  <a:pt x="18083" y="6176"/>
                </a:cubicBezTo>
              </a:path>
              <a:path w="1365" h="2680">
                <a:moveTo>
                  <a:pt x="18058" y="5928"/>
                </a:moveTo>
                <a:cubicBezTo>
                  <a:pt x="18067" y="6137"/>
                  <a:pt x="18107" y="6339"/>
                  <a:pt x="18107" y="6548"/>
                </a:cubicBezTo>
              </a:path>
              <a:path w="1365" h="2680">
                <a:moveTo>
                  <a:pt x="17190" y="6871"/>
                </a:moveTo>
                <a:cubicBezTo>
                  <a:pt x="17549" y="6771"/>
                  <a:pt x="17884" y="6668"/>
                  <a:pt x="18256" y="6648"/>
                </a:cubicBezTo>
                <a:cubicBezTo>
                  <a:pt x="18264" y="6648"/>
                  <a:pt x="18273" y="6648"/>
                  <a:pt x="18281" y="6648"/>
                </a:cubicBezTo>
              </a:path>
              <a:path w="1365" h="2680">
                <a:moveTo>
                  <a:pt x="18256" y="6970"/>
                </a:moveTo>
                <a:cubicBezTo>
                  <a:pt x="18328" y="6946"/>
                  <a:pt x="18223" y="6934"/>
                  <a:pt x="18182" y="6970"/>
                </a:cubicBezTo>
                <a:cubicBezTo>
                  <a:pt x="18169" y="6981"/>
                  <a:pt x="18110" y="7068"/>
                  <a:pt x="18132" y="7094"/>
                </a:cubicBezTo>
                <a:cubicBezTo>
                  <a:pt x="18216" y="7195"/>
                  <a:pt x="18331" y="7258"/>
                  <a:pt x="18430" y="7342"/>
                </a:cubicBezTo>
                <a:cubicBezTo>
                  <a:pt x="18340" y="7432"/>
                  <a:pt x="18193" y="7450"/>
                  <a:pt x="18182" y="7268"/>
                </a:cubicBezTo>
                <a:cubicBezTo>
                  <a:pt x="18177" y="7189"/>
                  <a:pt x="18273" y="7090"/>
                  <a:pt x="18207" y="7045"/>
                </a:cubicBezTo>
              </a:path>
              <a:path w="1365" h="2680">
                <a:moveTo>
                  <a:pt x="17066" y="4762"/>
                </a:moveTo>
                <a:cubicBezTo>
                  <a:pt x="17094" y="4762"/>
                  <a:pt x="17104" y="4760"/>
                  <a:pt x="17115" y="4738"/>
                </a:cubicBezTo>
                <a:cubicBezTo>
                  <a:pt x="17171" y="4877"/>
                  <a:pt x="17170" y="4937"/>
                  <a:pt x="17090" y="5060"/>
                </a:cubicBezTo>
                <a:cubicBezTo>
                  <a:pt x="17192" y="5060"/>
                  <a:pt x="17262" y="4986"/>
                  <a:pt x="17363" y="4986"/>
                </a:cubicBezTo>
                <a:cubicBezTo>
                  <a:pt x="17355" y="4994"/>
                  <a:pt x="17346" y="5003"/>
                  <a:pt x="17338" y="5011"/>
                </a:cubicBezTo>
              </a:path>
              <a:path w="1365" h="2680">
                <a:moveTo>
                  <a:pt x="17413" y="6995"/>
                </a:moveTo>
                <a:cubicBezTo>
                  <a:pt x="17393" y="7045"/>
                  <a:pt x="17390" y="7248"/>
                  <a:pt x="17413" y="7317"/>
                </a:cubicBezTo>
                <a:cubicBezTo>
                  <a:pt x="17473" y="7499"/>
                  <a:pt x="17648" y="7318"/>
                  <a:pt x="17686" y="7243"/>
                </a:cubicBezTo>
                <a:cubicBezTo>
                  <a:pt x="17694" y="7210"/>
                  <a:pt x="17703" y="7177"/>
                  <a:pt x="17711" y="7144"/>
                </a:cubicBezTo>
                <a:cubicBezTo>
                  <a:pt x="17600" y="7180"/>
                  <a:pt x="17584" y="7233"/>
                  <a:pt x="17562" y="7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62800" y="3027240"/>
            <a:ext cx="536400" cy="795600"/>
          </a:xfrm>
          <a:custGeom>
            <a:avLst/>
            <a:gdLst/>
            <a:ahLst/>
            <a:rect l="l" t="t" r="r" b="b"/>
            <a:pathLst>
              <a:path w="1490" h="2208">
                <a:moveTo>
                  <a:pt x="18380" y="8830"/>
                </a:moveTo>
                <a:cubicBezTo>
                  <a:pt x="18547" y="8809"/>
                  <a:pt x="18825" y="8849"/>
                  <a:pt x="18703" y="9103"/>
                </a:cubicBezTo>
                <a:cubicBezTo>
                  <a:pt x="18616" y="9285"/>
                  <a:pt x="18489" y="9247"/>
                  <a:pt x="18355" y="9203"/>
                </a:cubicBezTo>
                <a:cubicBezTo>
                  <a:pt x="18520" y="9106"/>
                  <a:pt x="18623" y="9181"/>
                  <a:pt x="18802" y="9153"/>
                </a:cubicBezTo>
                <a:cubicBezTo>
                  <a:pt x="18819" y="9145"/>
                  <a:pt x="18835" y="9136"/>
                  <a:pt x="18852" y="9128"/>
                </a:cubicBezTo>
              </a:path>
              <a:path w="1490" h="2208">
                <a:moveTo>
                  <a:pt x="18951" y="8731"/>
                </a:moveTo>
                <a:cubicBezTo>
                  <a:pt x="19028" y="8716"/>
                  <a:pt x="19260" y="8658"/>
                  <a:pt x="19149" y="8830"/>
                </a:cubicBezTo>
                <a:cubicBezTo>
                  <a:pt x="19124" y="8855"/>
                  <a:pt x="19100" y="8880"/>
                  <a:pt x="19075" y="8905"/>
                </a:cubicBezTo>
                <a:cubicBezTo>
                  <a:pt x="19211" y="8854"/>
                  <a:pt x="19381" y="8902"/>
                  <a:pt x="19273" y="9079"/>
                </a:cubicBezTo>
                <a:cubicBezTo>
                  <a:pt x="19171" y="9181"/>
                  <a:pt x="19135" y="9214"/>
                  <a:pt x="19025" y="9203"/>
                </a:cubicBezTo>
              </a:path>
              <a:path w="1490" h="2208">
                <a:moveTo>
                  <a:pt x="19100" y="9500"/>
                </a:moveTo>
                <a:cubicBezTo>
                  <a:pt x="19091" y="9597"/>
                  <a:pt x="19013" y="9825"/>
                  <a:pt x="19124" y="9897"/>
                </a:cubicBezTo>
                <a:cubicBezTo>
                  <a:pt x="19274" y="9995"/>
                  <a:pt x="19374" y="9804"/>
                  <a:pt x="19348" y="9699"/>
                </a:cubicBezTo>
                <a:cubicBezTo>
                  <a:pt x="19275" y="9771"/>
                  <a:pt x="19212" y="9820"/>
                  <a:pt x="19273" y="9922"/>
                </a:cubicBezTo>
              </a:path>
              <a:path w="1490" h="2208">
                <a:moveTo>
                  <a:pt x="18281" y="10393"/>
                </a:moveTo>
                <a:cubicBezTo>
                  <a:pt x="18699" y="10241"/>
                  <a:pt x="19130" y="10122"/>
                  <a:pt x="19571" y="10046"/>
                </a:cubicBezTo>
                <a:cubicBezTo>
                  <a:pt x="19638" y="10046"/>
                  <a:pt x="19638" y="10046"/>
                  <a:pt x="19521" y="10046"/>
                </a:cubicBezTo>
              </a:path>
              <a:path w="1490" h="2208">
                <a:moveTo>
                  <a:pt x="18231" y="9723"/>
                </a:moveTo>
                <a:cubicBezTo>
                  <a:pt x="18257" y="9738"/>
                  <a:pt x="18413" y="9911"/>
                  <a:pt x="18455" y="9897"/>
                </a:cubicBezTo>
                <a:cubicBezTo>
                  <a:pt x="18455" y="9889"/>
                  <a:pt x="18455" y="9880"/>
                  <a:pt x="18455" y="9872"/>
                </a:cubicBezTo>
              </a:path>
              <a:path w="1490" h="2208">
                <a:moveTo>
                  <a:pt x="19546" y="10195"/>
                </a:moveTo>
                <a:cubicBezTo>
                  <a:pt x="19414" y="10261"/>
                  <a:pt x="19372" y="10269"/>
                  <a:pt x="19348" y="10368"/>
                </a:cubicBezTo>
                <a:cubicBezTo>
                  <a:pt x="19468" y="10436"/>
                  <a:pt x="19605" y="10465"/>
                  <a:pt x="19720" y="10542"/>
                </a:cubicBezTo>
                <a:cubicBezTo>
                  <a:pt x="19552" y="10631"/>
                  <a:pt x="19346" y="10605"/>
                  <a:pt x="19472" y="10344"/>
                </a:cubicBezTo>
                <a:cubicBezTo>
                  <a:pt x="19544" y="10196"/>
                  <a:pt x="19633" y="10288"/>
                  <a:pt x="19472" y="10170"/>
                </a:cubicBezTo>
              </a:path>
              <a:path w="1490" h="2208">
                <a:moveTo>
                  <a:pt x="18380" y="8434"/>
                </a:moveTo>
                <a:cubicBezTo>
                  <a:pt x="18380" y="8372"/>
                  <a:pt x="18419" y="8497"/>
                  <a:pt x="18430" y="8558"/>
                </a:cubicBezTo>
                <a:cubicBezTo>
                  <a:pt x="18430" y="8650"/>
                  <a:pt x="18428" y="8676"/>
                  <a:pt x="1845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4152960"/>
            <a:ext cx="482760" cy="919080"/>
          </a:xfrm>
          <a:custGeom>
            <a:avLst/>
            <a:gdLst/>
            <a:ahLst/>
            <a:rect l="l" t="t" r="r" b="b"/>
            <a:pathLst>
              <a:path w="1340" h="2556">
                <a:moveTo>
                  <a:pt x="19645" y="12105"/>
                </a:moveTo>
                <a:cubicBezTo>
                  <a:pt x="19658" y="12255"/>
                  <a:pt x="19670" y="12399"/>
                  <a:pt x="19670" y="12551"/>
                </a:cubicBezTo>
              </a:path>
              <a:path w="1340" h="2556">
                <a:moveTo>
                  <a:pt x="19893" y="12105"/>
                </a:moveTo>
                <a:cubicBezTo>
                  <a:pt x="19939" y="12059"/>
                  <a:pt x="20105" y="12080"/>
                  <a:pt x="20191" y="12080"/>
                </a:cubicBezTo>
                <a:cubicBezTo>
                  <a:pt x="20265" y="12080"/>
                  <a:pt x="20274" y="12080"/>
                  <a:pt x="20315" y="12080"/>
                </a:cubicBezTo>
                <a:cubicBezTo>
                  <a:pt x="20315" y="12223"/>
                  <a:pt x="20280" y="12342"/>
                  <a:pt x="20241" y="12477"/>
                </a:cubicBezTo>
                <a:cubicBezTo>
                  <a:pt x="20219" y="12542"/>
                  <a:pt x="20211" y="12557"/>
                  <a:pt x="20216" y="12601"/>
                </a:cubicBezTo>
              </a:path>
              <a:path w="1340" h="2556">
                <a:moveTo>
                  <a:pt x="20290" y="12849"/>
                </a:moveTo>
                <a:cubicBezTo>
                  <a:pt x="20269" y="12786"/>
                  <a:pt x="20107" y="12877"/>
                  <a:pt x="20067" y="12898"/>
                </a:cubicBezTo>
                <a:cubicBezTo>
                  <a:pt x="20042" y="12915"/>
                  <a:pt x="20018" y="12931"/>
                  <a:pt x="19993" y="12948"/>
                </a:cubicBezTo>
                <a:cubicBezTo>
                  <a:pt x="20064" y="12995"/>
                  <a:pt x="20356" y="13058"/>
                  <a:pt x="20241" y="13196"/>
                </a:cubicBezTo>
                <a:cubicBezTo>
                  <a:pt x="20152" y="13240"/>
                  <a:pt x="20132" y="13257"/>
                  <a:pt x="20067" y="13246"/>
                </a:cubicBezTo>
                <a:cubicBezTo>
                  <a:pt x="20090" y="13119"/>
                  <a:pt x="20137" y="13028"/>
                  <a:pt x="20216" y="12923"/>
                </a:cubicBezTo>
              </a:path>
              <a:path w="1340" h="2556">
                <a:moveTo>
                  <a:pt x="19348" y="12948"/>
                </a:moveTo>
                <a:cubicBezTo>
                  <a:pt x="19348" y="13044"/>
                  <a:pt x="19336" y="13127"/>
                  <a:pt x="19323" y="13221"/>
                </a:cubicBezTo>
              </a:path>
              <a:path w="1340" h="2556">
                <a:moveTo>
                  <a:pt x="19273" y="13022"/>
                </a:moveTo>
                <a:cubicBezTo>
                  <a:pt x="19384" y="13054"/>
                  <a:pt x="19480" y="13072"/>
                  <a:pt x="19596" y="13072"/>
                </a:cubicBezTo>
              </a:path>
              <a:path w="1340" h="2556">
                <a:moveTo>
                  <a:pt x="19050" y="13271"/>
                </a:moveTo>
                <a:cubicBezTo>
                  <a:pt x="19422" y="13281"/>
                  <a:pt x="19796" y="13301"/>
                  <a:pt x="20166" y="13345"/>
                </a:cubicBezTo>
                <a:cubicBezTo>
                  <a:pt x="20291" y="13366"/>
                  <a:pt x="20318" y="13367"/>
                  <a:pt x="20389" y="13395"/>
                </a:cubicBezTo>
              </a:path>
              <a:path w="1340" h="2556">
                <a:moveTo>
                  <a:pt x="20340" y="13692"/>
                </a:moveTo>
                <a:cubicBezTo>
                  <a:pt x="20310" y="13702"/>
                  <a:pt x="20124" y="13708"/>
                  <a:pt x="20117" y="13717"/>
                </a:cubicBezTo>
                <a:cubicBezTo>
                  <a:pt x="20080" y="13768"/>
                  <a:pt x="20074" y="13855"/>
                  <a:pt x="20067" y="13915"/>
                </a:cubicBezTo>
                <a:cubicBezTo>
                  <a:pt x="20161" y="13915"/>
                  <a:pt x="20218" y="13883"/>
                  <a:pt x="20315" y="13915"/>
                </a:cubicBezTo>
                <a:cubicBezTo>
                  <a:pt x="20323" y="13923"/>
                  <a:pt x="20332" y="13932"/>
                  <a:pt x="20340" y="13940"/>
                </a:cubicBezTo>
                <a:cubicBezTo>
                  <a:pt x="20200" y="14184"/>
                  <a:pt x="20081" y="14094"/>
                  <a:pt x="19893" y="13940"/>
                </a:cubicBezTo>
              </a:path>
              <a:path w="1340" h="2556">
                <a:moveTo>
                  <a:pt x="19645" y="11534"/>
                </a:moveTo>
                <a:cubicBezTo>
                  <a:pt x="19645" y="11660"/>
                  <a:pt x="19628" y="11781"/>
                  <a:pt x="19621" y="11906"/>
                </a:cubicBezTo>
              </a:path>
              <a:path w="1340" h="2556">
                <a:moveTo>
                  <a:pt x="19298" y="13543"/>
                </a:moveTo>
                <a:cubicBezTo>
                  <a:pt x="19386" y="13565"/>
                  <a:pt x="19507" y="13543"/>
                  <a:pt x="19571" y="13643"/>
                </a:cubicBezTo>
                <a:cubicBezTo>
                  <a:pt x="19718" y="13870"/>
                  <a:pt x="19381" y="13983"/>
                  <a:pt x="19248" y="13990"/>
                </a:cubicBezTo>
                <a:cubicBezTo>
                  <a:pt x="19329" y="13850"/>
                  <a:pt x="19397" y="13790"/>
                  <a:pt x="19546" y="13891"/>
                </a:cubicBezTo>
                <a:cubicBezTo>
                  <a:pt x="19554" y="13899"/>
                  <a:pt x="19563" y="13907"/>
                  <a:pt x="19571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3160" y="3751200"/>
            <a:ext cx="223920" cy="169920"/>
          </a:xfrm>
          <a:custGeom>
            <a:avLst/>
            <a:gdLst/>
            <a:ahLst/>
            <a:rect l="l" t="t" r="r" b="b"/>
            <a:pathLst>
              <a:path w="622" h="472">
                <a:moveTo>
                  <a:pt x="18479" y="10542"/>
                </a:moveTo>
                <a:cubicBezTo>
                  <a:pt x="18530" y="10656"/>
                  <a:pt x="18562" y="10787"/>
                  <a:pt x="18628" y="10889"/>
                </a:cubicBezTo>
              </a:path>
              <a:path w="622" h="472">
                <a:moveTo>
                  <a:pt x="18752" y="10492"/>
                </a:moveTo>
                <a:cubicBezTo>
                  <a:pt x="18854" y="10444"/>
                  <a:pt x="19096" y="10337"/>
                  <a:pt x="18951" y="10567"/>
                </a:cubicBezTo>
                <a:cubicBezTo>
                  <a:pt x="18934" y="10583"/>
                  <a:pt x="18918" y="10600"/>
                  <a:pt x="18901" y="10616"/>
                </a:cubicBezTo>
                <a:cubicBezTo>
                  <a:pt x="18979" y="10601"/>
                  <a:pt x="19024" y="10585"/>
                  <a:pt x="19100" y="10616"/>
                </a:cubicBezTo>
                <a:cubicBezTo>
                  <a:pt x="18999" y="10758"/>
                  <a:pt x="19005" y="10746"/>
                  <a:pt x="18827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43080" y="5143680"/>
            <a:ext cx="268200" cy="71280"/>
          </a:xfrm>
          <a:custGeom>
            <a:avLst/>
            <a:gdLst/>
            <a:ahLst/>
            <a:rect l="l" t="t" r="r" b="b"/>
            <a:pathLst>
              <a:path w="745" h="199">
                <a:moveTo>
                  <a:pt x="5953" y="14486"/>
                </a:moveTo>
                <a:cubicBezTo>
                  <a:pt x="6020" y="14465"/>
                  <a:pt x="6083" y="14446"/>
                  <a:pt x="6152" y="14436"/>
                </a:cubicBezTo>
              </a:path>
              <a:path w="745" h="199">
                <a:moveTo>
                  <a:pt x="6697" y="14288"/>
                </a:moveTo>
                <a:cubicBezTo>
                  <a:pt x="6689" y="14288"/>
                  <a:pt x="6680" y="14288"/>
                  <a:pt x="6672" y="14288"/>
                </a:cubicBezTo>
              </a:path>
              <a:path w="745" h="199">
                <a:moveTo>
                  <a:pt x="6672" y="14288"/>
                </a:moveTo>
                <a:lnTo>
                  <a:pt x="6672" y="14288"/>
                </a:lnTo>
              </a:path>
              <a:path w="745" h="199">
                <a:moveTo>
                  <a:pt x="6672" y="14312"/>
                </a:moveTo>
                <a:lnTo>
                  <a:pt x="6672" y="143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27800" y="502776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15354" y="14114"/>
                </a:moveTo>
                <a:cubicBezTo>
                  <a:pt x="15354" y="14028"/>
                  <a:pt x="15422" y="13992"/>
                  <a:pt x="15503" y="13965"/>
                </a:cubicBezTo>
                <a:cubicBezTo>
                  <a:pt x="15634" y="13921"/>
                  <a:pt x="15491" y="14141"/>
                  <a:pt x="15478" y="14163"/>
                </a:cubicBezTo>
                <a:cubicBezTo>
                  <a:pt x="15518" y="14153"/>
                  <a:pt x="15669" y="14121"/>
                  <a:pt x="15627" y="14238"/>
                </a:cubicBezTo>
                <a:cubicBezTo>
                  <a:pt x="15593" y="14332"/>
                  <a:pt x="15448" y="14385"/>
                  <a:pt x="15379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26080" y="5357880"/>
            <a:ext cx="320760" cy="169920"/>
          </a:xfrm>
          <a:custGeom>
            <a:avLst/>
            <a:gdLst/>
            <a:ahLst/>
            <a:rect l="l" t="t" r="r" b="b"/>
            <a:pathLst>
              <a:path w="894" h="472">
                <a:moveTo>
                  <a:pt x="15627" y="14982"/>
                </a:moveTo>
                <a:cubicBezTo>
                  <a:pt x="15649" y="14949"/>
                  <a:pt x="15768" y="14945"/>
                  <a:pt x="15825" y="14932"/>
                </a:cubicBezTo>
                <a:cubicBezTo>
                  <a:pt x="15978" y="14897"/>
                  <a:pt x="15973" y="14904"/>
                  <a:pt x="15949" y="15056"/>
                </a:cubicBezTo>
                <a:cubicBezTo>
                  <a:pt x="15932" y="15165"/>
                  <a:pt x="15925" y="15245"/>
                  <a:pt x="15925" y="15354"/>
                </a:cubicBezTo>
              </a:path>
              <a:path w="894" h="472">
                <a:moveTo>
                  <a:pt x="16446" y="14883"/>
                </a:moveTo>
                <a:cubicBezTo>
                  <a:pt x="16376" y="14883"/>
                  <a:pt x="16294" y="14817"/>
                  <a:pt x="16272" y="14883"/>
                </a:cubicBezTo>
                <a:cubicBezTo>
                  <a:pt x="16245" y="14964"/>
                  <a:pt x="16247" y="15045"/>
                  <a:pt x="16247" y="15131"/>
                </a:cubicBezTo>
                <a:cubicBezTo>
                  <a:pt x="16320" y="15167"/>
                  <a:pt x="16363" y="15066"/>
                  <a:pt x="16446" y="15056"/>
                </a:cubicBezTo>
                <a:cubicBezTo>
                  <a:pt x="16454" y="15064"/>
                  <a:pt x="16462" y="15073"/>
                  <a:pt x="16470" y="15081"/>
                </a:cubicBezTo>
                <a:cubicBezTo>
                  <a:pt x="16535" y="15184"/>
                  <a:pt x="16499" y="15306"/>
                  <a:pt x="16346" y="15354"/>
                </a:cubicBezTo>
                <a:cubicBezTo>
                  <a:pt x="16288" y="15354"/>
                  <a:pt x="16280" y="15354"/>
                  <a:pt x="1624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82840" y="3490920"/>
            <a:ext cx="438120" cy="46080"/>
          </a:xfrm>
          <a:custGeom>
            <a:avLst/>
            <a:gdLst/>
            <a:ahLst/>
            <a:rect l="l" t="t" r="r" b="b"/>
            <a:pathLst>
              <a:path w="1216" h="125">
                <a:moveTo>
                  <a:pt x="5333" y="9699"/>
                </a:moveTo>
                <a:cubicBezTo>
                  <a:pt x="5325" y="9699"/>
                  <a:pt x="5316" y="9699"/>
                  <a:pt x="5308" y="9699"/>
                </a:cubicBezTo>
              </a:path>
              <a:path w="1216" h="125">
                <a:moveTo>
                  <a:pt x="4142" y="9723"/>
                </a:moveTo>
                <a:cubicBezTo>
                  <a:pt x="4142" y="9766"/>
                  <a:pt x="4137" y="9791"/>
                  <a:pt x="4118" y="98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29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2396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4.) 2(50 + 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5.) 4(60 + 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6.) 12(10 + 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419040" y="15228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 the distributive property to evalu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ould you use the distributive property to help solve the problem…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x 16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7765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6800" y="3152880"/>
            <a:ext cx="19080" cy="241200"/>
          </a:xfrm>
          <a:custGeom>
            <a:avLst/>
            <a:gdLst/>
            <a:ahLst/>
            <a:rect l="l" t="t" r="r" b="b"/>
            <a:pathLst>
              <a:path w="51" h="671">
                <a:moveTo>
                  <a:pt x="18430" y="8756"/>
                </a:moveTo>
                <a:cubicBezTo>
                  <a:pt x="18430" y="8962"/>
                  <a:pt x="18400" y="9148"/>
                  <a:pt x="18380" y="9351"/>
                </a:cubicBezTo>
                <a:cubicBezTo>
                  <a:pt x="18380" y="9376"/>
                  <a:pt x="18380" y="9401"/>
                  <a:pt x="18380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35800" y="3241800"/>
            <a:ext cx="125280" cy="63360"/>
          </a:xfrm>
          <a:custGeom>
            <a:avLst/>
            <a:gdLst/>
            <a:ahLst/>
            <a:rect l="l" t="t" r="r" b="b"/>
            <a:pathLst>
              <a:path w="348" h="175">
                <a:moveTo>
                  <a:pt x="18182" y="9004"/>
                </a:moveTo>
                <a:cubicBezTo>
                  <a:pt x="18168" y="9062"/>
                  <a:pt x="18157" y="9109"/>
                  <a:pt x="18157" y="9178"/>
                </a:cubicBezTo>
                <a:cubicBezTo>
                  <a:pt x="18331" y="9165"/>
                  <a:pt x="18394" y="9137"/>
                  <a:pt x="18504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13320" y="3268800"/>
            <a:ext cx="152640" cy="1695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17636" y="9079"/>
                </a:moveTo>
                <a:cubicBezTo>
                  <a:pt x="17615" y="9205"/>
                  <a:pt x="17558" y="9323"/>
                  <a:pt x="17537" y="9451"/>
                </a:cubicBezTo>
                <a:cubicBezTo>
                  <a:pt x="17537" y="9467"/>
                  <a:pt x="17537" y="9484"/>
                  <a:pt x="17537" y="9500"/>
                </a:cubicBezTo>
                <a:cubicBezTo>
                  <a:pt x="17702" y="9556"/>
                  <a:pt x="17851" y="9526"/>
                  <a:pt x="17959" y="9351"/>
                </a:cubicBezTo>
                <a:cubicBezTo>
                  <a:pt x="17959" y="9310"/>
                  <a:pt x="17967" y="9294"/>
                  <a:pt x="17934" y="9302"/>
                </a:cubicBezTo>
                <a:cubicBezTo>
                  <a:pt x="17865" y="9316"/>
                  <a:pt x="17597" y="9407"/>
                  <a:pt x="17686" y="9550"/>
                </a:cubicBezTo>
                <a:cubicBezTo>
                  <a:pt x="17702" y="9550"/>
                  <a:pt x="17719" y="9550"/>
                  <a:pt x="17735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10040" y="3714840"/>
            <a:ext cx="88920" cy="411120"/>
          </a:xfrm>
          <a:custGeom>
            <a:avLst/>
            <a:gdLst/>
            <a:ahLst/>
            <a:rect l="l" t="t" r="r" b="b"/>
            <a:pathLst>
              <a:path w="249" h="1142">
                <a:moveTo>
                  <a:pt x="11336" y="10319"/>
                </a:moveTo>
                <a:cubicBezTo>
                  <a:pt x="11196" y="10577"/>
                  <a:pt x="11069" y="10832"/>
                  <a:pt x="11162" y="11137"/>
                </a:cubicBezTo>
                <a:cubicBezTo>
                  <a:pt x="11203" y="11272"/>
                  <a:pt x="11335" y="11359"/>
                  <a:pt x="11385" y="114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60840" y="3813120"/>
            <a:ext cx="277920" cy="258840"/>
          </a:xfrm>
          <a:custGeom>
            <a:avLst/>
            <a:gdLst/>
            <a:ahLst/>
            <a:rect l="l" t="t" r="r" b="b"/>
            <a:pathLst>
              <a:path w="770" h="720">
                <a:moveTo>
                  <a:pt x="10170" y="10592"/>
                </a:moveTo>
                <a:cubicBezTo>
                  <a:pt x="10170" y="10707"/>
                  <a:pt x="10189" y="10799"/>
                  <a:pt x="10195" y="10914"/>
                </a:cubicBezTo>
                <a:cubicBezTo>
                  <a:pt x="10197" y="10951"/>
                  <a:pt x="10195" y="11388"/>
                  <a:pt x="10195" y="11261"/>
                </a:cubicBezTo>
              </a:path>
              <a:path w="770" h="720">
                <a:moveTo>
                  <a:pt x="10492" y="10716"/>
                </a:moveTo>
                <a:cubicBezTo>
                  <a:pt x="10659" y="10609"/>
                  <a:pt x="10814" y="10615"/>
                  <a:pt x="10840" y="10864"/>
                </a:cubicBezTo>
                <a:cubicBezTo>
                  <a:pt x="10867" y="11124"/>
                  <a:pt x="10667" y="11241"/>
                  <a:pt x="10468" y="11311"/>
                </a:cubicBezTo>
                <a:cubicBezTo>
                  <a:pt x="10485" y="11164"/>
                  <a:pt x="10524" y="10946"/>
                  <a:pt x="10740" y="11013"/>
                </a:cubicBezTo>
                <a:cubicBezTo>
                  <a:pt x="10870" y="11053"/>
                  <a:pt x="10885" y="11192"/>
                  <a:pt x="1093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25960" y="3697200"/>
            <a:ext cx="1312920" cy="347760"/>
          </a:xfrm>
          <a:custGeom>
            <a:avLst/>
            <a:gdLst/>
            <a:ahLst/>
            <a:rect l="l" t="t" r="r" b="b"/>
            <a:pathLst>
              <a:path w="3647" h="969">
                <a:moveTo>
                  <a:pt x="14734" y="10269"/>
                </a:moveTo>
                <a:cubicBezTo>
                  <a:pt x="14848" y="10298"/>
                  <a:pt x="14973" y="10413"/>
                  <a:pt x="15032" y="10517"/>
                </a:cubicBezTo>
                <a:cubicBezTo>
                  <a:pt x="15188" y="10790"/>
                  <a:pt x="15072" y="10985"/>
                  <a:pt x="14858" y="11162"/>
                </a:cubicBezTo>
                <a:cubicBezTo>
                  <a:pt x="14799" y="11202"/>
                  <a:pt x="14787" y="11206"/>
                  <a:pt x="14759" y="11237"/>
                </a:cubicBezTo>
              </a:path>
              <a:path w="3647" h="969">
                <a:moveTo>
                  <a:pt x="13047" y="10740"/>
                </a:moveTo>
                <a:cubicBezTo>
                  <a:pt x="13085" y="10753"/>
                  <a:pt x="13048" y="10911"/>
                  <a:pt x="13047" y="10964"/>
                </a:cubicBezTo>
                <a:cubicBezTo>
                  <a:pt x="13046" y="11030"/>
                  <a:pt x="13047" y="11096"/>
                  <a:pt x="13047" y="11162"/>
                </a:cubicBezTo>
              </a:path>
              <a:path w="3647" h="969">
                <a:moveTo>
                  <a:pt x="12874" y="10964"/>
                </a:moveTo>
                <a:cubicBezTo>
                  <a:pt x="12987" y="10964"/>
                  <a:pt x="13090" y="10960"/>
                  <a:pt x="13196" y="10939"/>
                </a:cubicBezTo>
                <a:cubicBezTo>
                  <a:pt x="13221" y="10939"/>
                  <a:pt x="13229" y="10939"/>
                  <a:pt x="13221" y="10964"/>
                </a:cubicBezTo>
              </a:path>
              <a:path w="3647" h="969">
                <a:moveTo>
                  <a:pt x="11534" y="10666"/>
                </a:moveTo>
                <a:cubicBezTo>
                  <a:pt x="11497" y="10691"/>
                  <a:pt x="11519" y="10897"/>
                  <a:pt x="11509" y="10964"/>
                </a:cubicBezTo>
                <a:cubicBezTo>
                  <a:pt x="11490" y="11065"/>
                  <a:pt x="11492" y="11085"/>
                  <a:pt x="11460" y="11137"/>
                </a:cubicBezTo>
              </a:path>
              <a:path w="3647" h="969">
                <a:moveTo>
                  <a:pt x="11708" y="10740"/>
                </a:moveTo>
                <a:cubicBezTo>
                  <a:pt x="11708" y="10876"/>
                  <a:pt x="11668" y="11006"/>
                  <a:pt x="11708" y="11137"/>
                </a:cubicBezTo>
                <a:cubicBezTo>
                  <a:pt x="11756" y="11294"/>
                  <a:pt x="11945" y="11036"/>
                  <a:pt x="11956" y="10988"/>
                </a:cubicBezTo>
                <a:cubicBezTo>
                  <a:pt x="11990" y="10839"/>
                  <a:pt x="11911" y="10842"/>
                  <a:pt x="11807" y="10790"/>
                </a:cubicBezTo>
              </a:path>
              <a:path w="3647" h="969">
                <a:moveTo>
                  <a:pt x="12254" y="10716"/>
                </a:moveTo>
                <a:cubicBezTo>
                  <a:pt x="12201" y="10802"/>
                  <a:pt x="12145" y="10900"/>
                  <a:pt x="12129" y="11013"/>
                </a:cubicBezTo>
                <a:cubicBezTo>
                  <a:pt x="12129" y="11114"/>
                  <a:pt x="12109" y="11145"/>
                  <a:pt x="12179" y="11162"/>
                </a:cubicBezTo>
                <a:cubicBezTo>
                  <a:pt x="12334" y="11162"/>
                  <a:pt x="12450" y="11099"/>
                  <a:pt x="12402" y="10914"/>
                </a:cubicBezTo>
                <a:cubicBezTo>
                  <a:pt x="12372" y="10801"/>
                  <a:pt x="12328" y="10807"/>
                  <a:pt x="12229" y="10790"/>
                </a:cubicBezTo>
              </a:path>
              <a:path w="3647" h="969">
                <a:moveTo>
                  <a:pt x="13767" y="10592"/>
                </a:moveTo>
                <a:cubicBezTo>
                  <a:pt x="13767" y="10696"/>
                  <a:pt x="13728" y="10788"/>
                  <a:pt x="13717" y="10889"/>
                </a:cubicBezTo>
                <a:cubicBezTo>
                  <a:pt x="13717" y="10922"/>
                  <a:pt x="13717" y="10955"/>
                  <a:pt x="13717" y="10988"/>
                </a:cubicBezTo>
                <a:cubicBezTo>
                  <a:pt x="13837" y="10988"/>
                  <a:pt x="13963" y="10989"/>
                  <a:pt x="14064" y="10914"/>
                </a:cubicBezTo>
                <a:cubicBezTo>
                  <a:pt x="14072" y="10897"/>
                  <a:pt x="14081" y="10881"/>
                  <a:pt x="14089" y="10864"/>
                </a:cubicBezTo>
                <a:cubicBezTo>
                  <a:pt x="14079" y="10796"/>
                  <a:pt x="14019" y="10719"/>
                  <a:pt x="13940" y="10790"/>
                </a:cubicBezTo>
                <a:cubicBezTo>
                  <a:pt x="13859" y="10862"/>
                  <a:pt x="13826" y="10932"/>
                  <a:pt x="13891" y="11013"/>
                </a:cubicBezTo>
              </a:path>
              <a:path w="3647" h="969">
                <a:moveTo>
                  <a:pt x="14163" y="10567"/>
                </a:moveTo>
                <a:cubicBezTo>
                  <a:pt x="14163" y="10666"/>
                  <a:pt x="14118" y="10770"/>
                  <a:pt x="14238" y="10790"/>
                </a:cubicBezTo>
                <a:cubicBezTo>
                  <a:pt x="14368" y="10812"/>
                  <a:pt x="14439" y="10756"/>
                  <a:pt x="14511" y="10666"/>
                </a:cubicBezTo>
              </a:path>
              <a:path w="3647" h="969">
                <a:moveTo>
                  <a:pt x="14412" y="10468"/>
                </a:moveTo>
                <a:cubicBezTo>
                  <a:pt x="14412" y="10658"/>
                  <a:pt x="14412" y="10848"/>
                  <a:pt x="14412" y="110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88040" y="3446640"/>
            <a:ext cx="581040" cy="53640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17314" y="9575"/>
                </a:moveTo>
                <a:cubicBezTo>
                  <a:pt x="17277" y="9684"/>
                  <a:pt x="17177" y="9895"/>
                  <a:pt x="17214" y="9971"/>
                </a:cubicBezTo>
              </a:path>
              <a:path w="1613" h="1489">
                <a:moveTo>
                  <a:pt x="17859" y="9798"/>
                </a:moveTo>
                <a:cubicBezTo>
                  <a:pt x="17830" y="9896"/>
                  <a:pt x="17855" y="10188"/>
                  <a:pt x="17810" y="10096"/>
                </a:cubicBezTo>
                <a:cubicBezTo>
                  <a:pt x="17810" y="10079"/>
                  <a:pt x="17810" y="10063"/>
                  <a:pt x="17810" y="10046"/>
                </a:cubicBezTo>
              </a:path>
              <a:path w="1613" h="1489">
                <a:moveTo>
                  <a:pt x="18132" y="9748"/>
                </a:moveTo>
                <a:cubicBezTo>
                  <a:pt x="18249" y="9682"/>
                  <a:pt x="18377" y="9681"/>
                  <a:pt x="18455" y="9823"/>
                </a:cubicBezTo>
                <a:cubicBezTo>
                  <a:pt x="18538" y="9974"/>
                  <a:pt x="18393" y="10146"/>
                  <a:pt x="18231" y="10096"/>
                </a:cubicBezTo>
                <a:cubicBezTo>
                  <a:pt x="18215" y="10079"/>
                  <a:pt x="18198" y="10063"/>
                  <a:pt x="18182" y="10046"/>
                </a:cubicBezTo>
                <a:cubicBezTo>
                  <a:pt x="18264" y="9948"/>
                  <a:pt x="18327" y="9892"/>
                  <a:pt x="18455" y="9996"/>
                </a:cubicBezTo>
                <a:cubicBezTo>
                  <a:pt x="18483" y="10019"/>
                  <a:pt x="18520" y="10084"/>
                  <a:pt x="18529" y="10120"/>
                </a:cubicBezTo>
              </a:path>
              <a:path w="1613" h="1489">
                <a:moveTo>
                  <a:pt x="17239" y="10344"/>
                </a:moveTo>
                <a:cubicBezTo>
                  <a:pt x="17624" y="10284"/>
                  <a:pt x="18017" y="10260"/>
                  <a:pt x="18405" y="10220"/>
                </a:cubicBezTo>
                <a:cubicBezTo>
                  <a:pt x="18555" y="10204"/>
                  <a:pt x="18662" y="10200"/>
                  <a:pt x="18802" y="10195"/>
                </a:cubicBezTo>
              </a:path>
              <a:path w="1613" h="1489">
                <a:moveTo>
                  <a:pt x="18529" y="10492"/>
                </a:moveTo>
                <a:cubicBezTo>
                  <a:pt x="18592" y="10492"/>
                  <a:pt x="18475" y="10492"/>
                  <a:pt x="18455" y="10492"/>
                </a:cubicBezTo>
              </a:path>
              <a:path w="1613" h="1489">
                <a:moveTo>
                  <a:pt x="18430" y="10492"/>
                </a:moveTo>
                <a:cubicBezTo>
                  <a:pt x="18343" y="10541"/>
                  <a:pt x="18288" y="10569"/>
                  <a:pt x="18256" y="10666"/>
                </a:cubicBezTo>
                <a:cubicBezTo>
                  <a:pt x="18324" y="10708"/>
                  <a:pt x="18545" y="10778"/>
                  <a:pt x="18554" y="10864"/>
                </a:cubicBezTo>
                <a:cubicBezTo>
                  <a:pt x="18563" y="10947"/>
                  <a:pt x="18445" y="10935"/>
                  <a:pt x="18405" y="10939"/>
                </a:cubicBezTo>
                <a:cubicBezTo>
                  <a:pt x="18381" y="10783"/>
                  <a:pt x="18434" y="10747"/>
                  <a:pt x="18504" y="10616"/>
                </a:cubicBezTo>
                <a:cubicBezTo>
                  <a:pt x="18504" y="10592"/>
                  <a:pt x="18504" y="10584"/>
                  <a:pt x="18479" y="10592"/>
                </a:cubicBezTo>
              </a:path>
              <a:path w="1613" h="1489">
                <a:moveTo>
                  <a:pt x="17388" y="10616"/>
                </a:moveTo>
                <a:cubicBezTo>
                  <a:pt x="17424" y="10760"/>
                  <a:pt x="17456" y="10886"/>
                  <a:pt x="17462" y="11038"/>
                </a:cubicBezTo>
                <a:cubicBezTo>
                  <a:pt x="17462" y="11066"/>
                  <a:pt x="17464" y="11072"/>
                  <a:pt x="17487" y="11038"/>
                </a:cubicBezTo>
              </a:path>
              <a:path w="1613" h="1489">
                <a:moveTo>
                  <a:pt x="17859" y="10641"/>
                </a:moveTo>
                <a:cubicBezTo>
                  <a:pt x="17962" y="10573"/>
                  <a:pt x="18063" y="10562"/>
                  <a:pt x="18157" y="10666"/>
                </a:cubicBezTo>
                <a:cubicBezTo>
                  <a:pt x="18288" y="10812"/>
                  <a:pt x="18134" y="10939"/>
                  <a:pt x="17983" y="10939"/>
                </a:cubicBezTo>
                <a:cubicBezTo>
                  <a:pt x="17950" y="10931"/>
                  <a:pt x="17917" y="10922"/>
                  <a:pt x="17884" y="10914"/>
                </a:cubicBezTo>
                <a:cubicBezTo>
                  <a:pt x="17884" y="10818"/>
                  <a:pt x="17933" y="10800"/>
                  <a:pt x="18033" y="10815"/>
                </a:cubicBezTo>
                <a:cubicBezTo>
                  <a:pt x="18100" y="10825"/>
                  <a:pt x="18158" y="10891"/>
                  <a:pt x="18182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73680" y="4249800"/>
            <a:ext cx="1393560" cy="376200"/>
          </a:xfrm>
          <a:custGeom>
            <a:avLst/>
            <a:gdLst/>
            <a:ahLst/>
            <a:rect l="l" t="t" r="r" b="b"/>
            <a:pathLst>
              <a:path w="3871" h="1043">
                <a:moveTo>
                  <a:pt x="11063" y="12030"/>
                </a:moveTo>
                <a:cubicBezTo>
                  <a:pt x="11055" y="12022"/>
                  <a:pt x="11046" y="12013"/>
                  <a:pt x="11038" y="12005"/>
                </a:cubicBezTo>
                <a:cubicBezTo>
                  <a:pt x="11059" y="12154"/>
                  <a:pt x="11063" y="12299"/>
                  <a:pt x="11063" y="12452"/>
                </a:cubicBezTo>
                <a:cubicBezTo>
                  <a:pt x="11063" y="12485"/>
                  <a:pt x="11063" y="12535"/>
                  <a:pt x="11063" y="12502"/>
                </a:cubicBezTo>
              </a:path>
              <a:path w="3871" h="1043">
                <a:moveTo>
                  <a:pt x="11385" y="12055"/>
                </a:moveTo>
                <a:cubicBezTo>
                  <a:pt x="11409" y="11983"/>
                  <a:pt x="11489" y="12000"/>
                  <a:pt x="11559" y="12005"/>
                </a:cubicBezTo>
                <a:cubicBezTo>
                  <a:pt x="11592" y="12161"/>
                  <a:pt x="11605" y="12316"/>
                  <a:pt x="11460" y="12427"/>
                </a:cubicBezTo>
                <a:cubicBezTo>
                  <a:pt x="11385" y="12452"/>
                  <a:pt x="11361" y="12460"/>
                  <a:pt x="11311" y="12427"/>
                </a:cubicBezTo>
                <a:cubicBezTo>
                  <a:pt x="11311" y="12368"/>
                  <a:pt x="11313" y="12280"/>
                  <a:pt x="11385" y="12254"/>
                </a:cubicBezTo>
                <a:cubicBezTo>
                  <a:pt x="11450" y="12231"/>
                  <a:pt x="11577" y="12322"/>
                  <a:pt x="11609" y="12378"/>
                </a:cubicBezTo>
                <a:cubicBezTo>
                  <a:pt x="11609" y="12386"/>
                  <a:pt x="11609" y="12394"/>
                  <a:pt x="11609" y="12402"/>
                </a:cubicBezTo>
              </a:path>
              <a:path w="3871" h="1043">
                <a:moveTo>
                  <a:pt x="11931" y="12030"/>
                </a:moveTo>
                <a:cubicBezTo>
                  <a:pt x="11827" y="12030"/>
                  <a:pt x="11777" y="12166"/>
                  <a:pt x="11757" y="12254"/>
                </a:cubicBezTo>
                <a:cubicBezTo>
                  <a:pt x="11716" y="12430"/>
                  <a:pt x="11952" y="12430"/>
                  <a:pt x="12055" y="12353"/>
                </a:cubicBezTo>
                <a:cubicBezTo>
                  <a:pt x="12182" y="12258"/>
                  <a:pt x="12229" y="12078"/>
                  <a:pt x="12080" y="11981"/>
                </a:cubicBezTo>
                <a:cubicBezTo>
                  <a:pt x="12016" y="11939"/>
                  <a:pt x="12000" y="11948"/>
                  <a:pt x="11956" y="11981"/>
                </a:cubicBezTo>
              </a:path>
              <a:path w="3871" h="1043">
                <a:moveTo>
                  <a:pt x="12452" y="11956"/>
                </a:moveTo>
                <a:cubicBezTo>
                  <a:pt x="12395" y="11998"/>
                  <a:pt x="12328" y="12164"/>
                  <a:pt x="12328" y="12254"/>
                </a:cubicBezTo>
                <a:cubicBezTo>
                  <a:pt x="12336" y="12270"/>
                  <a:pt x="12345" y="12287"/>
                  <a:pt x="12353" y="12303"/>
                </a:cubicBezTo>
                <a:cubicBezTo>
                  <a:pt x="12520" y="12342"/>
                  <a:pt x="12664" y="12310"/>
                  <a:pt x="12700" y="12105"/>
                </a:cubicBezTo>
                <a:cubicBezTo>
                  <a:pt x="12731" y="11930"/>
                  <a:pt x="12515" y="11961"/>
                  <a:pt x="12427" y="11981"/>
                </a:cubicBezTo>
              </a:path>
              <a:path w="3871" h="1043">
                <a:moveTo>
                  <a:pt x="11237" y="12675"/>
                </a:moveTo>
                <a:cubicBezTo>
                  <a:pt x="11249" y="12748"/>
                  <a:pt x="11279" y="12805"/>
                  <a:pt x="11237" y="12849"/>
                </a:cubicBezTo>
              </a:path>
              <a:path w="3871" h="1043">
                <a:moveTo>
                  <a:pt x="13171" y="11956"/>
                </a:moveTo>
                <a:cubicBezTo>
                  <a:pt x="13189" y="12096"/>
                  <a:pt x="13186" y="12191"/>
                  <a:pt x="13171" y="12328"/>
                </a:cubicBezTo>
                <a:cubicBezTo>
                  <a:pt x="13171" y="12370"/>
                  <a:pt x="13179" y="12386"/>
                  <a:pt x="13146" y="12378"/>
                </a:cubicBezTo>
              </a:path>
              <a:path w="3871" h="1043">
                <a:moveTo>
                  <a:pt x="13022" y="12204"/>
                </a:moveTo>
                <a:cubicBezTo>
                  <a:pt x="13135" y="12204"/>
                  <a:pt x="13236" y="12196"/>
                  <a:pt x="13345" y="12179"/>
                </a:cubicBezTo>
                <a:cubicBezTo>
                  <a:pt x="13370" y="12179"/>
                  <a:pt x="13378" y="12179"/>
                  <a:pt x="13370" y="12204"/>
                </a:cubicBezTo>
              </a:path>
              <a:path w="3871" h="1043">
                <a:moveTo>
                  <a:pt x="13643" y="11857"/>
                </a:moveTo>
                <a:cubicBezTo>
                  <a:pt x="13747" y="11857"/>
                  <a:pt x="13839" y="11826"/>
                  <a:pt x="13940" y="11807"/>
                </a:cubicBezTo>
                <a:cubicBezTo>
                  <a:pt x="14035" y="11790"/>
                  <a:pt x="13974" y="11965"/>
                  <a:pt x="13940" y="12055"/>
                </a:cubicBezTo>
                <a:cubicBezTo>
                  <a:pt x="13882" y="12171"/>
                  <a:pt x="13874" y="12188"/>
                  <a:pt x="13841" y="12254"/>
                </a:cubicBezTo>
              </a:path>
              <a:path w="3871" h="1043">
                <a:moveTo>
                  <a:pt x="14213" y="11857"/>
                </a:moveTo>
                <a:cubicBezTo>
                  <a:pt x="14174" y="11963"/>
                  <a:pt x="14117" y="12141"/>
                  <a:pt x="14163" y="12254"/>
                </a:cubicBezTo>
                <a:cubicBezTo>
                  <a:pt x="14234" y="12429"/>
                  <a:pt x="14513" y="12212"/>
                  <a:pt x="14560" y="12129"/>
                </a:cubicBezTo>
                <a:cubicBezTo>
                  <a:pt x="14560" y="12072"/>
                  <a:pt x="14577" y="12047"/>
                  <a:pt x="14536" y="12055"/>
                </a:cubicBezTo>
                <a:cubicBezTo>
                  <a:pt x="14514" y="12061"/>
                  <a:pt x="14195" y="12259"/>
                  <a:pt x="14312" y="12303"/>
                </a:cubicBezTo>
                <a:cubicBezTo>
                  <a:pt x="14337" y="12295"/>
                  <a:pt x="14362" y="12286"/>
                  <a:pt x="14387" y="12278"/>
                </a:cubicBezTo>
              </a:path>
              <a:path w="3871" h="1043">
                <a:moveTo>
                  <a:pt x="14784" y="11807"/>
                </a:moveTo>
                <a:cubicBezTo>
                  <a:pt x="14681" y="11884"/>
                  <a:pt x="14541" y="11942"/>
                  <a:pt x="14684" y="12055"/>
                </a:cubicBezTo>
                <a:cubicBezTo>
                  <a:pt x="14802" y="12126"/>
                  <a:pt x="14839" y="12146"/>
                  <a:pt x="14908" y="12204"/>
                </a:cubicBezTo>
                <a:cubicBezTo>
                  <a:pt x="14908" y="12212"/>
                  <a:pt x="14908" y="12221"/>
                  <a:pt x="14908" y="12229"/>
                </a:cubicBezTo>
                <a:cubicBezTo>
                  <a:pt x="14727" y="12303"/>
                  <a:pt x="14700" y="12206"/>
                  <a:pt x="14808" y="12030"/>
                </a:cubicBezTo>
                <a:cubicBezTo>
                  <a:pt x="14836" y="11984"/>
                  <a:pt x="15002" y="11801"/>
                  <a:pt x="14808" y="11906"/>
                </a:cubicBezTo>
                <a:cubicBezTo>
                  <a:pt x="14800" y="11914"/>
                  <a:pt x="14792" y="11923"/>
                  <a:pt x="14784" y="119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43760" y="4010040"/>
            <a:ext cx="706320" cy="527040"/>
          </a:xfrm>
          <a:custGeom>
            <a:avLst/>
            <a:gdLst/>
            <a:ahLst/>
            <a:rect l="l" t="t" r="r" b="b"/>
            <a:pathLst>
              <a:path w="1960" h="1465">
                <a:moveTo>
                  <a:pt x="18504" y="11187"/>
                </a:moveTo>
                <a:cubicBezTo>
                  <a:pt x="18464" y="11106"/>
                  <a:pt x="18401" y="11383"/>
                  <a:pt x="18405" y="11435"/>
                </a:cubicBezTo>
                <a:cubicBezTo>
                  <a:pt x="18413" y="11452"/>
                  <a:pt x="18422" y="11468"/>
                  <a:pt x="18430" y="11485"/>
                </a:cubicBezTo>
                <a:cubicBezTo>
                  <a:pt x="18583" y="11496"/>
                  <a:pt x="18696" y="11423"/>
                  <a:pt x="18703" y="11237"/>
                </a:cubicBezTo>
                <a:cubicBezTo>
                  <a:pt x="18706" y="11153"/>
                  <a:pt x="18599" y="11166"/>
                  <a:pt x="18554" y="11162"/>
                </a:cubicBezTo>
              </a:path>
              <a:path w="1960" h="1465">
                <a:moveTo>
                  <a:pt x="17909" y="11212"/>
                </a:moveTo>
                <a:cubicBezTo>
                  <a:pt x="17909" y="11297"/>
                  <a:pt x="17900" y="11352"/>
                  <a:pt x="17884" y="11435"/>
                </a:cubicBezTo>
                <a:cubicBezTo>
                  <a:pt x="17976" y="11424"/>
                  <a:pt x="18041" y="11408"/>
                  <a:pt x="18132" y="11385"/>
                </a:cubicBezTo>
              </a:path>
              <a:path w="1960" h="1465">
                <a:moveTo>
                  <a:pt x="18107" y="11137"/>
                </a:moveTo>
                <a:cubicBezTo>
                  <a:pt x="18080" y="11288"/>
                  <a:pt x="18058" y="11430"/>
                  <a:pt x="18058" y="11584"/>
                </a:cubicBezTo>
              </a:path>
              <a:path w="1960" h="1465">
                <a:moveTo>
                  <a:pt x="17438" y="11286"/>
                </a:moveTo>
                <a:cubicBezTo>
                  <a:pt x="17511" y="11311"/>
                  <a:pt x="17419" y="11436"/>
                  <a:pt x="17413" y="11485"/>
                </a:cubicBezTo>
                <a:cubicBezTo>
                  <a:pt x="17396" y="11620"/>
                  <a:pt x="17411" y="11695"/>
                  <a:pt x="17462" y="11807"/>
                </a:cubicBezTo>
                <a:cubicBezTo>
                  <a:pt x="17587" y="11780"/>
                  <a:pt x="17827" y="11766"/>
                  <a:pt x="17835" y="11584"/>
                </a:cubicBezTo>
                <a:cubicBezTo>
                  <a:pt x="17827" y="11567"/>
                  <a:pt x="17818" y="11551"/>
                  <a:pt x="17810" y="11534"/>
                </a:cubicBezTo>
                <a:cubicBezTo>
                  <a:pt x="17647" y="11548"/>
                  <a:pt x="17590" y="11598"/>
                  <a:pt x="17537" y="11757"/>
                </a:cubicBezTo>
                <a:cubicBezTo>
                  <a:pt x="17537" y="11765"/>
                  <a:pt x="17537" y="11774"/>
                  <a:pt x="17537" y="11782"/>
                </a:cubicBezTo>
              </a:path>
              <a:path w="1960" h="1465">
                <a:moveTo>
                  <a:pt x="17066" y="11906"/>
                </a:moveTo>
                <a:cubicBezTo>
                  <a:pt x="17405" y="11890"/>
                  <a:pt x="17743" y="11893"/>
                  <a:pt x="18083" y="11881"/>
                </a:cubicBezTo>
                <a:cubicBezTo>
                  <a:pt x="18390" y="11870"/>
                  <a:pt x="18693" y="11857"/>
                  <a:pt x="19000" y="11857"/>
                </a:cubicBezTo>
                <a:cubicBezTo>
                  <a:pt x="19008" y="11857"/>
                  <a:pt x="19017" y="11857"/>
                  <a:pt x="19025" y="11857"/>
                </a:cubicBezTo>
              </a:path>
              <a:path w="1960" h="1465">
                <a:moveTo>
                  <a:pt x="18728" y="12129"/>
                </a:moveTo>
                <a:cubicBezTo>
                  <a:pt x="18739" y="12096"/>
                  <a:pt x="18760" y="12048"/>
                  <a:pt x="18653" y="12080"/>
                </a:cubicBezTo>
                <a:cubicBezTo>
                  <a:pt x="18551" y="12110"/>
                  <a:pt x="18490" y="12177"/>
                  <a:pt x="18430" y="12254"/>
                </a:cubicBezTo>
                <a:cubicBezTo>
                  <a:pt x="18514" y="12304"/>
                  <a:pt x="18760" y="12373"/>
                  <a:pt x="18802" y="12452"/>
                </a:cubicBezTo>
                <a:cubicBezTo>
                  <a:pt x="18802" y="12469"/>
                  <a:pt x="18802" y="12485"/>
                  <a:pt x="18802" y="12502"/>
                </a:cubicBezTo>
                <a:cubicBezTo>
                  <a:pt x="18676" y="12550"/>
                  <a:pt x="18504" y="12532"/>
                  <a:pt x="18604" y="12328"/>
                </a:cubicBezTo>
                <a:cubicBezTo>
                  <a:pt x="18646" y="12242"/>
                  <a:pt x="18818" y="12174"/>
                  <a:pt x="18703" y="12154"/>
                </a:cubicBezTo>
              </a:path>
              <a:path w="1960" h="1465">
                <a:moveTo>
                  <a:pt x="17983" y="12179"/>
                </a:moveTo>
                <a:cubicBezTo>
                  <a:pt x="17965" y="12292"/>
                  <a:pt x="17917" y="12407"/>
                  <a:pt x="17934" y="12526"/>
                </a:cubicBezTo>
                <a:cubicBezTo>
                  <a:pt x="17959" y="12700"/>
                  <a:pt x="18207" y="12557"/>
                  <a:pt x="18256" y="12502"/>
                </a:cubicBezTo>
                <a:cubicBezTo>
                  <a:pt x="18264" y="12477"/>
                  <a:pt x="18273" y="12452"/>
                  <a:pt x="18281" y="12427"/>
                </a:cubicBezTo>
                <a:cubicBezTo>
                  <a:pt x="18224" y="12342"/>
                  <a:pt x="18132" y="12485"/>
                  <a:pt x="18107" y="12551"/>
                </a:cubicBezTo>
                <a:cubicBezTo>
                  <a:pt x="18107" y="12568"/>
                  <a:pt x="18107" y="12584"/>
                  <a:pt x="18107" y="12601"/>
                </a:cubicBezTo>
              </a:path>
              <a:path w="1960" h="1465">
                <a:moveTo>
                  <a:pt x="17264" y="12204"/>
                </a:moveTo>
                <a:cubicBezTo>
                  <a:pt x="17394" y="12223"/>
                  <a:pt x="17481" y="12222"/>
                  <a:pt x="17611" y="12204"/>
                </a:cubicBezTo>
                <a:cubicBezTo>
                  <a:pt x="17619" y="12204"/>
                  <a:pt x="17628" y="12204"/>
                  <a:pt x="17636" y="12204"/>
                </a:cubicBezTo>
                <a:cubicBezTo>
                  <a:pt x="17620" y="12313"/>
                  <a:pt x="17585" y="12419"/>
                  <a:pt x="17562" y="12526"/>
                </a:cubicBezTo>
                <a:cubicBezTo>
                  <a:pt x="17562" y="12551"/>
                  <a:pt x="17562" y="12559"/>
                  <a:pt x="17562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03800" y="4830840"/>
            <a:ext cx="733320" cy="27756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1981" y="13568"/>
                </a:moveTo>
                <a:cubicBezTo>
                  <a:pt x="11981" y="13489"/>
                  <a:pt x="11958" y="13911"/>
                  <a:pt x="11956" y="13940"/>
                </a:cubicBezTo>
                <a:cubicBezTo>
                  <a:pt x="11956" y="14023"/>
                  <a:pt x="11956" y="14039"/>
                  <a:pt x="11956" y="14089"/>
                </a:cubicBezTo>
              </a:path>
              <a:path w="2035" h="770">
                <a:moveTo>
                  <a:pt x="12278" y="14039"/>
                </a:moveTo>
                <a:cubicBezTo>
                  <a:pt x="12299" y="14134"/>
                  <a:pt x="12274" y="14209"/>
                  <a:pt x="12328" y="14139"/>
                </a:cubicBezTo>
              </a:path>
              <a:path w="2035" h="770">
                <a:moveTo>
                  <a:pt x="12824" y="13643"/>
                </a:moveTo>
                <a:cubicBezTo>
                  <a:pt x="12824" y="13555"/>
                  <a:pt x="12789" y="13512"/>
                  <a:pt x="12700" y="13469"/>
                </a:cubicBezTo>
                <a:cubicBezTo>
                  <a:pt x="12533" y="13388"/>
                  <a:pt x="12500" y="13517"/>
                  <a:pt x="12452" y="13643"/>
                </a:cubicBezTo>
                <a:cubicBezTo>
                  <a:pt x="12567" y="13694"/>
                  <a:pt x="12657" y="13688"/>
                  <a:pt x="12750" y="13593"/>
                </a:cubicBezTo>
                <a:cubicBezTo>
                  <a:pt x="12758" y="13585"/>
                  <a:pt x="12766" y="13576"/>
                  <a:pt x="12774" y="13568"/>
                </a:cubicBezTo>
                <a:cubicBezTo>
                  <a:pt x="12774" y="13695"/>
                  <a:pt x="12778" y="13815"/>
                  <a:pt x="12750" y="13940"/>
                </a:cubicBezTo>
                <a:cubicBezTo>
                  <a:pt x="12734" y="14015"/>
                  <a:pt x="12699" y="14039"/>
                  <a:pt x="12725" y="14039"/>
                </a:cubicBezTo>
              </a:path>
              <a:path w="2035" h="770">
                <a:moveTo>
                  <a:pt x="13196" y="13543"/>
                </a:moveTo>
                <a:cubicBezTo>
                  <a:pt x="13185" y="13683"/>
                  <a:pt x="13132" y="13802"/>
                  <a:pt x="13122" y="13940"/>
                </a:cubicBezTo>
                <a:cubicBezTo>
                  <a:pt x="13122" y="13957"/>
                  <a:pt x="13122" y="13973"/>
                  <a:pt x="13122" y="13990"/>
                </a:cubicBezTo>
                <a:cubicBezTo>
                  <a:pt x="13276" y="13999"/>
                  <a:pt x="13454" y="13989"/>
                  <a:pt x="13494" y="13791"/>
                </a:cubicBezTo>
                <a:cubicBezTo>
                  <a:pt x="13464" y="13762"/>
                  <a:pt x="13449" y="13751"/>
                  <a:pt x="13419" y="13742"/>
                </a:cubicBezTo>
                <a:cubicBezTo>
                  <a:pt x="13316" y="13826"/>
                  <a:pt x="13244" y="13883"/>
                  <a:pt x="13320" y="13990"/>
                </a:cubicBezTo>
              </a:path>
              <a:path w="2035" h="770">
                <a:moveTo>
                  <a:pt x="13866" y="13419"/>
                </a:moveTo>
                <a:cubicBezTo>
                  <a:pt x="13778" y="13460"/>
                  <a:pt x="13716" y="13502"/>
                  <a:pt x="13643" y="13568"/>
                </a:cubicBezTo>
                <a:cubicBezTo>
                  <a:pt x="13729" y="13710"/>
                  <a:pt x="13946" y="13776"/>
                  <a:pt x="13990" y="13940"/>
                </a:cubicBezTo>
                <a:cubicBezTo>
                  <a:pt x="13982" y="13957"/>
                  <a:pt x="13973" y="13973"/>
                  <a:pt x="13965" y="13990"/>
                </a:cubicBezTo>
                <a:cubicBezTo>
                  <a:pt x="13734" y="13957"/>
                  <a:pt x="13839" y="13849"/>
                  <a:pt x="13915" y="13667"/>
                </a:cubicBezTo>
                <a:cubicBezTo>
                  <a:pt x="13938" y="13613"/>
                  <a:pt x="14032" y="13501"/>
                  <a:pt x="13940" y="13494"/>
                </a:cubicBezTo>
                <a:cubicBezTo>
                  <a:pt x="13924" y="13494"/>
                  <a:pt x="13907" y="13494"/>
                  <a:pt x="13891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43760" y="3490920"/>
            <a:ext cx="500040" cy="287280"/>
          </a:xfrm>
          <a:custGeom>
            <a:avLst/>
            <a:gdLst/>
            <a:ahLst/>
            <a:rect l="l" t="t" r="r" b="b"/>
            <a:pathLst>
              <a:path w="1390" h="794">
                <a:moveTo>
                  <a:pt x="17066" y="9699"/>
                </a:moveTo>
                <a:cubicBezTo>
                  <a:pt x="17152" y="9778"/>
                  <a:pt x="17192" y="9837"/>
                  <a:pt x="17239" y="9947"/>
                </a:cubicBezTo>
              </a:path>
              <a:path w="1390" h="794">
                <a:moveTo>
                  <a:pt x="18455" y="10492"/>
                </a:moveTo>
                <a:lnTo>
                  <a:pt x="18455" y="1049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348000"/>
            <a:ext cx="573120" cy="366840"/>
          </a:xfrm>
          <a:custGeom>
            <a:avLst/>
            <a:gdLst/>
            <a:ahLst/>
            <a:rect l="l" t="t" r="r" b="b"/>
            <a:pathLst>
              <a:path w="1589" h="1018">
                <a:moveTo>
                  <a:pt x="2853" y="9302"/>
                </a:moveTo>
                <a:cubicBezTo>
                  <a:pt x="2765" y="9544"/>
                  <a:pt x="2716" y="9813"/>
                  <a:pt x="2778" y="10071"/>
                </a:cubicBezTo>
                <a:cubicBezTo>
                  <a:pt x="2813" y="10217"/>
                  <a:pt x="2887" y="10261"/>
                  <a:pt x="3001" y="10319"/>
                </a:cubicBezTo>
              </a:path>
              <a:path w="1589" h="1018">
                <a:moveTo>
                  <a:pt x="3994" y="9575"/>
                </a:moveTo>
                <a:cubicBezTo>
                  <a:pt x="3982" y="9710"/>
                  <a:pt x="3940" y="10021"/>
                  <a:pt x="4192" y="9947"/>
                </a:cubicBezTo>
                <a:cubicBezTo>
                  <a:pt x="4357" y="9899"/>
                  <a:pt x="4407" y="9617"/>
                  <a:pt x="4266" y="9525"/>
                </a:cubicBezTo>
                <a:cubicBezTo>
                  <a:pt x="4176" y="9502"/>
                  <a:pt x="4152" y="9494"/>
                  <a:pt x="4093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2960" y="3411360"/>
            <a:ext cx="268200" cy="249480"/>
          </a:xfrm>
          <a:custGeom>
            <a:avLst/>
            <a:gdLst/>
            <a:ahLst/>
            <a:rect l="l" t="t" r="r" b="b"/>
            <a:pathLst>
              <a:path w="745" h="696">
                <a:moveTo>
                  <a:pt x="1786" y="9475"/>
                </a:moveTo>
                <a:cubicBezTo>
                  <a:pt x="1809" y="9657"/>
                  <a:pt x="1793" y="9838"/>
                  <a:pt x="1811" y="10021"/>
                </a:cubicBezTo>
                <a:cubicBezTo>
                  <a:pt x="1819" y="10054"/>
                  <a:pt x="1828" y="10087"/>
                  <a:pt x="1836" y="10120"/>
                </a:cubicBezTo>
              </a:path>
              <a:path w="745" h="696">
                <a:moveTo>
                  <a:pt x="2059" y="9575"/>
                </a:moveTo>
                <a:cubicBezTo>
                  <a:pt x="2264" y="9547"/>
                  <a:pt x="2516" y="9612"/>
                  <a:pt x="2431" y="9897"/>
                </a:cubicBezTo>
                <a:cubicBezTo>
                  <a:pt x="2362" y="10129"/>
                  <a:pt x="2170" y="10140"/>
                  <a:pt x="1984" y="10170"/>
                </a:cubicBezTo>
                <a:cubicBezTo>
                  <a:pt x="2073" y="9973"/>
                  <a:pt x="2245" y="9771"/>
                  <a:pt x="2480" y="9971"/>
                </a:cubicBezTo>
                <a:cubicBezTo>
                  <a:pt x="2497" y="10004"/>
                  <a:pt x="2513" y="10038"/>
                  <a:pt x="253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2000" y="3411360"/>
            <a:ext cx="339840" cy="204840"/>
          </a:xfrm>
          <a:custGeom>
            <a:avLst/>
            <a:gdLst/>
            <a:ahLst/>
            <a:rect l="l" t="t" r="r" b="b"/>
            <a:pathLst>
              <a:path w="943" h="572">
                <a:moveTo>
                  <a:pt x="3076" y="9575"/>
                </a:moveTo>
                <a:cubicBezTo>
                  <a:pt x="3126" y="9448"/>
                  <a:pt x="3286" y="9479"/>
                  <a:pt x="3373" y="9575"/>
                </a:cubicBezTo>
                <a:cubicBezTo>
                  <a:pt x="3599" y="9825"/>
                  <a:pt x="3237" y="10071"/>
                  <a:pt x="3001" y="10046"/>
                </a:cubicBezTo>
                <a:cubicBezTo>
                  <a:pt x="2985" y="10029"/>
                  <a:pt x="2968" y="10013"/>
                  <a:pt x="2952" y="9996"/>
                </a:cubicBezTo>
                <a:cubicBezTo>
                  <a:pt x="3070" y="9835"/>
                  <a:pt x="3172" y="9871"/>
                  <a:pt x="3349" y="9971"/>
                </a:cubicBezTo>
                <a:cubicBezTo>
                  <a:pt x="3371" y="9994"/>
                  <a:pt x="3376" y="10002"/>
                  <a:pt x="3398" y="9996"/>
                </a:cubicBezTo>
              </a:path>
              <a:path w="943" h="572">
                <a:moveTo>
                  <a:pt x="3621" y="9475"/>
                </a:moveTo>
                <a:cubicBezTo>
                  <a:pt x="3561" y="9586"/>
                  <a:pt x="3467" y="9835"/>
                  <a:pt x="3597" y="9947"/>
                </a:cubicBezTo>
                <a:cubicBezTo>
                  <a:pt x="3638" y="9955"/>
                  <a:pt x="3680" y="9963"/>
                  <a:pt x="3721" y="9971"/>
                </a:cubicBezTo>
                <a:cubicBezTo>
                  <a:pt x="3834" y="9885"/>
                  <a:pt x="4054" y="9595"/>
                  <a:pt x="3770" y="9500"/>
                </a:cubicBezTo>
                <a:cubicBezTo>
                  <a:pt x="3749" y="9493"/>
                  <a:pt x="3533" y="9570"/>
                  <a:pt x="3721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7960" y="3251160"/>
            <a:ext cx="554040" cy="419040"/>
          </a:xfrm>
          <a:custGeom>
            <a:avLst/>
            <a:gdLst/>
            <a:ahLst/>
            <a:rect l="l" t="t" r="r" b="b"/>
            <a:pathLst>
              <a:path w="1539" h="1167">
                <a:moveTo>
                  <a:pt x="4663" y="9699"/>
                </a:moveTo>
                <a:cubicBezTo>
                  <a:pt x="4713" y="9699"/>
                  <a:pt x="4762" y="9699"/>
                  <a:pt x="4812" y="9699"/>
                </a:cubicBezTo>
              </a:path>
              <a:path w="1539" h="1167">
                <a:moveTo>
                  <a:pt x="5110" y="9500"/>
                </a:moveTo>
                <a:cubicBezTo>
                  <a:pt x="5150" y="9496"/>
                  <a:pt x="5377" y="9430"/>
                  <a:pt x="5383" y="9500"/>
                </a:cubicBezTo>
                <a:cubicBezTo>
                  <a:pt x="5394" y="9625"/>
                  <a:pt x="5294" y="9656"/>
                  <a:pt x="5209" y="9699"/>
                </a:cubicBezTo>
                <a:cubicBezTo>
                  <a:pt x="5334" y="9677"/>
                  <a:pt x="5646" y="9668"/>
                  <a:pt x="5457" y="9897"/>
                </a:cubicBezTo>
                <a:cubicBezTo>
                  <a:pt x="5371" y="10001"/>
                  <a:pt x="5258" y="9979"/>
                  <a:pt x="5159" y="9947"/>
                </a:cubicBezTo>
              </a:path>
              <a:path w="1539" h="1167">
                <a:moveTo>
                  <a:pt x="5655" y="9401"/>
                </a:moveTo>
                <a:cubicBezTo>
                  <a:pt x="5655" y="9519"/>
                  <a:pt x="5621" y="9627"/>
                  <a:pt x="5631" y="9748"/>
                </a:cubicBezTo>
                <a:cubicBezTo>
                  <a:pt x="5645" y="9919"/>
                  <a:pt x="5766" y="10029"/>
                  <a:pt x="5904" y="9872"/>
                </a:cubicBezTo>
                <a:cubicBezTo>
                  <a:pt x="5929" y="9831"/>
                  <a:pt x="5953" y="9789"/>
                  <a:pt x="5978" y="9748"/>
                </a:cubicBezTo>
                <a:cubicBezTo>
                  <a:pt x="5978" y="9705"/>
                  <a:pt x="5961" y="9692"/>
                  <a:pt x="5904" y="9699"/>
                </a:cubicBezTo>
                <a:cubicBezTo>
                  <a:pt x="5891" y="9710"/>
                  <a:pt x="5691" y="9963"/>
                  <a:pt x="5779" y="9947"/>
                </a:cubicBezTo>
                <a:cubicBezTo>
                  <a:pt x="5909" y="9882"/>
                  <a:pt x="5962" y="9837"/>
                  <a:pt x="6003" y="9723"/>
                </a:cubicBezTo>
              </a:path>
              <a:path w="1539" h="1167">
                <a:moveTo>
                  <a:pt x="5705" y="9029"/>
                </a:moveTo>
                <a:cubicBezTo>
                  <a:pt x="5924" y="9183"/>
                  <a:pt x="6230" y="9434"/>
                  <a:pt x="6201" y="9748"/>
                </a:cubicBezTo>
                <a:cubicBezTo>
                  <a:pt x="6181" y="9962"/>
                  <a:pt x="6038" y="10060"/>
                  <a:pt x="5904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d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) 28 students are visiting the zoo. The cost is $5 for each student plus an extra $3 to see the panda exhibit. Use the distributive property to find out the total cost for all of the students to go to the zoo and see the panda exhib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0"/>
            <a:ext cx="567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Students will simplify numeric expressions using the distributive prope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5840" y="4518000"/>
            <a:ext cx="2813040" cy="519120"/>
          </a:xfrm>
          <a:custGeom>
            <a:avLst/>
            <a:gdLst/>
            <a:ahLst/>
            <a:rect l="l" t="t" r="r" b="b"/>
            <a:pathLst>
              <a:path w="7814" h="1440">
                <a:moveTo>
                  <a:pt x="12700" y="13122"/>
                </a:moveTo>
                <a:cubicBezTo>
                  <a:pt x="12739" y="13302"/>
                  <a:pt x="12812" y="13482"/>
                  <a:pt x="12849" y="13667"/>
                </a:cubicBezTo>
                <a:cubicBezTo>
                  <a:pt x="12849" y="13675"/>
                  <a:pt x="12849" y="13684"/>
                  <a:pt x="12849" y="13692"/>
                </a:cubicBezTo>
              </a:path>
              <a:path w="7814" h="1440">
                <a:moveTo>
                  <a:pt x="13717" y="12551"/>
                </a:moveTo>
                <a:cubicBezTo>
                  <a:pt x="14098" y="12788"/>
                  <a:pt x="14531" y="12953"/>
                  <a:pt x="14536" y="13469"/>
                </a:cubicBezTo>
                <a:cubicBezTo>
                  <a:pt x="14538" y="13677"/>
                  <a:pt x="14383" y="13844"/>
                  <a:pt x="14263" y="13990"/>
                </a:cubicBezTo>
              </a:path>
              <a:path w="7814" h="1440">
                <a:moveTo>
                  <a:pt x="10542" y="12998"/>
                </a:moveTo>
                <a:cubicBezTo>
                  <a:pt x="10574" y="12791"/>
                  <a:pt x="10712" y="12715"/>
                  <a:pt x="10914" y="12650"/>
                </a:cubicBezTo>
                <a:cubicBezTo>
                  <a:pt x="11143" y="12577"/>
                  <a:pt x="11418" y="12554"/>
                  <a:pt x="11609" y="12725"/>
                </a:cubicBezTo>
                <a:cubicBezTo>
                  <a:pt x="11651" y="12762"/>
                  <a:pt x="11673" y="12823"/>
                  <a:pt x="11683" y="12874"/>
                </a:cubicBezTo>
              </a:path>
              <a:path w="7814" h="1440">
                <a:moveTo>
                  <a:pt x="17165" y="12799"/>
                </a:moveTo>
                <a:cubicBezTo>
                  <a:pt x="17216" y="12853"/>
                  <a:pt x="17389" y="12998"/>
                  <a:pt x="17338" y="13047"/>
                </a:cubicBezTo>
              </a:path>
              <a:path w="7814" h="1440">
                <a:moveTo>
                  <a:pt x="17289" y="12725"/>
                </a:moveTo>
                <a:cubicBezTo>
                  <a:pt x="17256" y="12852"/>
                  <a:pt x="17213" y="12956"/>
                  <a:pt x="17239" y="13072"/>
                </a:cubicBezTo>
              </a:path>
              <a:path w="7814" h="1440">
                <a:moveTo>
                  <a:pt x="18355" y="13246"/>
                </a:moveTo>
                <a:cubicBezTo>
                  <a:pt x="18340" y="13421"/>
                  <a:pt x="18332" y="13595"/>
                  <a:pt x="18306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1360" y="4749840"/>
            <a:ext cx="419400" cy="420480"/>
          </a:xfrm>
          <a:custGeom>
            <a:avLst/>
            <a:gdLst/>
            <a:ahLst/>
            <a:rect l="l" t="t" r="r" b="b"/>
            <a:pathLst>
              <a:path w="1167" h="1167">
                <a:moveTo>
                  <a:pt x="9599" y="13519"/>
                </a:moveTo>
                <a:cubicBezTo>
                  <a:pt x="9676" y="13289"/>
                  <a:pt x="9929" y="13433"/>
                  <a:pt x="9971" y="13643"/>
                </a:cubicBezTo>
                <a:cubicBezTo>
                  <a:pt x="10042" y="13998"/>
                  <a:pt x="9791" y="14159"/>
                  <a:pt x="9575" y="14362"/>
                </a:cubicBezTo>
                <a:cubicBezTo>
                  <a:pt x="9436" y="14150"/>
                  <a:pt x="9522" y="13860"/>
                  <a:pt x="9872" y="13940"/>
                </a:cubicBezTo>
                <a:cubicBezTo>
                  <a:pt x="9998" y="13969"/>
                  <a:pt x="10042" y="14068"/>
                  <a:pt x="10096" y="14163"/>
                </a:cubicBezTo>
              </a:path>
              <a:path w="1167" h="1167">
                <a:moveTo>
                  <a:pt x="10344" y="13196"/>
                </a:moveTo>
                <a:cubicBezTo>
                  <a:pt x="10183" y="13334"/>
                  <a:pt x="10134" y="13370"/>
                  <a:pt x="10071" y="13494"/>
                </a:cubicBezTo>
                <a:cubicBezTo>
                  <a:pt x="10210" y="13647"/>
                  <a:pt x="10547" y="13570"/>
                  <a:pt x="10641" y="13791"/>
                </a:cubicBezTo>
                <a:cubicBezTo>
                  <a:pt x="10615" y="13948"/>
                  <a:pt x="10601" y="14003"/>
                  <a:pt x="10492" y="14064"/>
                </a:cubicBezTo>
                <a:cubicBezTo>
                  <a:pt x="10346" y="13785"/>
                  <a:pt x="10475" y="13646"/>
                  <a:pt x="10567" y="13345"/>
                </a:cubicBezTo>
                <a:cubicBezTo>
                  <a:pt x="10559" y="13353"/>
                  <a:pt x="10550" y="13362"/>
                  <a:pt x="10542" y="133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17960" y="4626000"/>
            <a:ext cx="366840" cy="473040"/>
          </a:xfrm>
          <a:custGeom>
            <a:avLst/>
            <a:gdLst/>
            <a:ahLst/>
            <a:rect l="l" t="t" r="r" b="b"/>
            <a:pathLst>
              <a:path w="1018" h="1315">
                <a:moveTo>
                  <a:pt x="11237" y="12849"/>
                </a:moveTo>
                <a:cubicBezTo>
                  <a:pt x="11186" y="13179"/>
                  <a:pt x="11115" y="13504"/>
                  <a:pt x="11212" y="13841"/>
                </a:cubicBezTo>
                <a:cubicBezTo>
                  <a:pt x="11272" y="14049"/>
                  <a:pt x="11350" y="14077"/>
                  <a:pt x="11509" y="14163"/>
                </a:cubicBezTo>
              </a:path>
              <a:path w="1018" h="1315">
                <a:moveTo>
                  <a:pt x="11931" y="13072"/>
                </a:moveTo>
                <a:cubicBezTo>
                  <a:pt x="11867" y="13093"/>
                  <a:pt x="11587" y="13156"/>
                  <a:pt x="11584" y="13246"/>
                </a:cubicBezTo>
                <a:cubicBezTo>
                  <a:pt x="11581" y="13331"/>
                  <a:pt x="11630" y="13441"/>
                  <a:pt x="11658" y="13519"/>
                </a:cubicBezTo>
                <a:cubicBezTo>
                  <a:pt x="11774" y="13490"/>
                  <a:pt x="12012" y="13340"/>
                  <a:pt x="12129" y="13444"/>
                </a:cubicBezTo>
                <a:cubicBezTo>
                  <a:pt x="12354" y="13644"/>
                  <a:pt x="11956" y="13915"/>
                  <a:pt x="11782" y="13915"/>
                </a:cubicBezTo>
                <a:cubicBezTo>
                  <a:pt x="11693" y="13856"/>
                  <a:pt x="11677" y="13823"/>
                  <a:pt x="11782" y="137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54360" y="4687920"/>
            <a:ext cx="455760" cy="268200"/>
          </a:xfrm>
          <a:custGeom>
            <a:avLst/>
            <a:gdLst/>
            <a:ahLst/>
            <a:rect l="l" t="t" r="r" b="b"/>
            <a:pathLst>
              <a:path w="1266" h="746">
                <a:moveTo>
                  <a:pt x="12650" y="13469"/>
                </a:moveTo>
                <a:cubicBezTo>
                  <a:pt x="12856" y="13429"/>
                  <a:pt x="12975" y="13412"/>
                  <a:pt x="13146" y="13295"/>
                </a:cubicBezTo>
              </a:path>
              <a:path w="1266" h="746">
                <a:moveTo>
                  <a:pt x="13370" y="13047"/>
                </a:moveTo>
                <a:cubicBezTo>
                  <a:pt x="13444" y="13037"/>
                  <a:pt x="13866" y="12944"/>
                  <a:pt x="13767" y="13146"/>
                </a:cubicBezTo>
                <a:cubicBezTo>
                  <a:pt x="13654" y="13282"/>
                  <a:pt x="13625" y="13319"/>
                  <a:pt x="13543" y="13395"/>
                </a:cubicBezTo>
                <a:cubicBezTo>
                  <a:pt x="13701" y="13355"/>
                  <a:pt x="13976" y="13266"/>
                  <a:pt x="13915" y="13543"/>
                </a:cubicBezTo>
                <a:cubicBezTo>
                  <a:pt x="13872" y="13737"/>
                  <a:pt x="13632" y="13781"/>
                  <a:pt x="13519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0760" y="4089240"/>
            <a:ext cx="401400" cy="581040"/>
          </a:xfrm>
          <a:custGeom>
            <a:avLst/>
            <a:gdLst/>
            <a:ahLst/>
            <a:rect l="l" t="t" r="r" b="b"/>
            <a:pathLst>
              <a:path w="1117" h="1613">
                <a:moveTo>
                  <a:pt x="17413" y="12030"/>
                </a:moveTo>
                <a:cubicBezTo>
                  <a:pt x="17412" y="11982"/>
                  <a:pt x="17517" y="11978"/>
                  <a:pt x="17611" y="11956"/>
                </a:cubicBezTo>
                <a:cubicBezTo>
                  <a:pt x="17718" y="12144"/>
                  <a:pt x="17671" y="12427"/>
                  <a:pt x="17363" y="12427"/>
                </a:cubicBezTo>
                <a:cubicBezTo>
                  <a:pt x="17338" y="12402"/>
                  <a:pt x="17314" y="12378"/>
                  <a:pt x="17289" y="12353"/>
                </a:cubicBezTo>
                <a:cubicBezTo>
                  <a:pt x="17403" y="12248"/>
                  <a:pt x="17477" y="12220"/>
                  <a:pt x="17611" y="12328"/>
                </a:cubicBezTo>
                <a:cubicBezTo>
                  <a:pt x="17619" y="12336"/>
                  <a:pt x="17628" y="12345"/>
                  <a:pt x="17636" y="12353"/>
                </a:cubicBezTo>
              </a:path>
              <a:path w="1117" h="1613">
                <a:moveTo>
                  <a:pt x="17983" y="11857"/>
                </a:moveTo>
                <a:cubicBezTo>
                  <a:pt x="17882" y="11857"/>
                  <a:pt x="17848" y="11858"/>
                  <a:pt x="17810" y="11931"/>
                </a:cubicBezTo>
                <a:cubicBezTo>
                  <a:pt x="17823" y="12076"/>
                  <a:pt x="18051" y="12077"/>
                  <a:pt x="18058" y="12254"/>
                </a:cubicBezTo>
                <a:cubicBezTo>
                  <a:pt x="18041" y="12270"/>
                  <a:pt x="18025" y="12287"/>
                  <a:pt x="18008" y="12303"/>
                </a:cubicBezTo>
                <a:cubicBezTo>
                  <a:pt x="17834" y="12251"/>
                  <a:pt x="17936" y="12127"/>
                  <a:pt x="18008" y="11981"/>
                </a:cubicBezTo>
              </a:path>
              <a:path w="1117" h="1613">
                <a:moveTo>
                  <a:pt x="17909" y="12576"/>
                </a:moveTo>
                <a:cubicBezTo>
                  <a:pt x="17985" y="12545"/>
                  <a:pt x="18299" y="12412"/>
                  <a:pt x="18107" y="12650"/>
                </a:cubicBezTo>
                <a:cubicBezTo>
                  <a:pt x="18074" y="12675"/>
                  <a:pt x="18041" y="12700"/>
                  <a:pt x="18008" y="12725"/>
                </a:cubicBezTo>
                <a:cubicBezTo>
                  <a:pt x="18000" y="12733"/>
                  <a:pt x="17991" y="12742"/>
                  <a:pt x="17983" y="12750"/>
                </a:cubicBezTo>
                <a:cubicBezTo>
                  <a:pt x="18120" y="12715"/>
                  <a:pt x="18117" y="12718"/>
                  <a:pt x="18256" y="12725"/>
                </a:cubicBezTo>
                <a:cubicBezTo>
                  <a:pt x="18191" y="12985"/>
                  <a:pt x="18096" y="12962"/>
                  <a:pt x="17859" y="12898"/>
                </a:cubicBezTo>
              </a:path>
              <a:path w="1117" h="1613">
                <a:moveTo>
                  <a:pt x="17264" y="11534"/>
                </a:moveTo>
                <a:cubicBezTo>
                  <a:pt x="17264" y="11482"/>
                  <a:pt x="17295" y="11387"/>
                  <a:pt x="17338" y="11361"/>
                </a:cubicBezTo>
                <a:cubicBezTo>
                  <a:pt x="17355" y="11361"/>
                  <a:pt x="17371" y="11361"/>
                  <a:pt x="17388" y="11361"/>
                </a:cubicBezTo>
                <a:cubicBezTo>
                  <a:pt x="17415" y="11573"/>
                  <a:pt x="17385" y="11696"/>
                  <a:pt x="17190" y="11807"/>
                </a:cubicBezTo>
                <a:cubicBezTo>
                  <a:pt x="17155" y="11807"/>
                  <a:pt x="17142" y="11798"/>
                  <a:pt x="17140" y="11757"/>
                </a:cubicBezTo>
                <a:cubicBezTo>
                  <a:pt x="17207" y="11624"/>
                  <a:pt x="17319" y="11623"/>
                  <a:pt x="17462" y="11683"/>
                </a:cubicBezTo>
                <a:cubicBezTo>
                  <a:pt x="17528" y="11711"/>
                  <a:pt x="17506" y="11705"/>
                  <a:pt x="17462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6240" y="5214960"/>
            <a:ext cx="250920" cy="366840"/>
          </a:xfrm>
          <a:custGeom>
            <a:avLst/>
            <a:gdLst/>
            <a:ahLst/>
            <a:rect l="l" t="t" r="r" b="b"/>
            <a:pathLst>
              <a:path w="695" h="1018">
                <a:moveTo>
                  <a:pt x="11435" y="14759"/>
                </a:moveTo>
                <a:cubicBezTo>
                  <a:pt x="11552" y="14687"/>
                  <a:pt x="11665" y="14632"/>
                  <a:pt x="11782" y="14560"/>
                </a:cubicBezTo>
              </a:path>
              <a:path w="695" h="1018">
                <a:moveTo>
                  <a:pt x="11832" y="14486"/>
                </a:moveTo>
                <a:cubicBezTo>
                  <a:pt x="12035" y="14744"/>
                  <a:pt x="12354" y="15167"/>
                  <a:pt x="11956" y="15453"/>
                </a:cubicBezTo>
                <a:cubicBezTo>
                  <a:pt x="11882" y="15470"/>
                  <a:pt x="11807" y="15486"/>
                  <a:pt x="11733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46640" y="5303880"/>
            <a:ext cx="750600" cy="465120"/>
          </a:xfrm>
          <a:custGeom>
            <a:avLst/>
            <a:gdLst/>
            <a:ahLst/>
            <a:rect l="l" t="t" r="r" b="b"/>
            <a:pathLst>
              <a:path w="2084" h="1291">
                <a:moveTo>
                  <a:pt x="9798" y="15032"/>
                </a:moveTo>
                <a:cubicBezTo>
                  <a:pt x="10099" y="15019"/>
                  <a:pt x="10290" y="15129"/>
                  <a:pt x="10046" y="15453"/>
                </a:cubicBezTo>
                <a:cubicBezTo>
                  <a:pt x="9868" y="15609"/>
                  <a:pt x="9829" y="15659"/>
                  <a:pt x="9674" y="15677"/>
                </a:cubicBezTo>
                <a:cubicBezTo>
                  <a:pt x="9688" y="15458"/>
                  <a:pt x="9852" y="15307"/>
                  <a:pt x="10096" y="15429"/>
                </a:cubicBezTo>
                <a:cubicBezTo>
                  <a:pt x="10133" y="15485"/>
                  <a:pt x="10150" y="15489"/>
                  <a:pt x="10145" y="15528"/>
                </a:cubicBezTo>
              </a:path>
              <a:path w="2084" h="1291">
                <a:moveTo>
                  <a:pt x="10517" y="14932"/>
                </a:moveTo>
                <a:cubicBezTo>
                  <a:pt x="10434" y="14960"/>
                  <a:pt x="10403" y="14975"/>
                  <a:pt x="10368" y="15032"/>
                </a:cubicBezTo>
                <a:cubicBezTo>
                  <a:pt x="10405" y="15177"/>
                  <a:pt x="10586" y="15165"/>
                  <a:pt x="10641" y="15304"/>
                </a:cubicBezTo>
                <a:cubicBezTo>
                  <a:pt x="10688" y="15422"/>
                  <a:pt x="10474" y="15421"/>
                  <a:pt x="10418" y="15429"/>
                </a:cubicBezTo>
                <a:cubicBezTo>
                  <a:pt x="10447" y="15371"/>
                  <a:pt x="10694" y="15014"/>
                  <a:pt x="10666" y="14982"/>
                </a:cubicBezTo>
                <a:cubicBezTo>
                  <a:pt x="10614" y="14982"/>
                  <a:pt x="10597" y="14984"/>
                  <a:pt x="10592" y="15032"/>
                </a:cubicBezTo>
              </a:path>
              <a:path w="2084" h="1291">
                <a:moveTo>
                  <a:pt x="10864" y="15032"/>
                </a:moveTo>
                <a:cubicBezTo>
                  <a:pt x="10994" y="15084"/>
                  <a:pt x="10981" y="15175"/>
                  <a:pt x="11063" y="15255"/>
                </a:cubicBezTo>
                <a:cubicBezTo>
                  <a:pt x="11063" y="15247"/>
                  <a:pt x="11063" y="15238"/>
                  <a:pt x="11063" y="15230"/>
                </a:cubicBezTo>
              </a:path>
              <a:path w="2084" h="1291">
                <a:moveTo>
                  <a:pt x="11013" y="15032"/>
                </a:moveTo>
                <a:cubicBezTo>
                  <a:pt x="10960" y="15134"/>
                  <a:pt x="10914" y="15419"/>
                  <a:pt x="10914" y="15304"/>
                </a:cubicBezTo>
              </a:path>
              <a:path w="2084" h="1291">
                <a:moveTo>
                  <a:pt x="11460" y="14759"/>
                </a:moveTo>
                <a:cubicBezTo>
                  <a:pt x="11420" y="14812"/>
                  <a:pt x="11362" y="14903"/>
                  <a:pt x="11385" y="14982"/>
                </a:cubicBezTo>
                <a:cubicBezTo>
                  <a:pt x="11393" y="14990"/>
                  <a:pt x="11402" y="14999"/>
                  <a:pt x="11410" y="15007"/>
                </a:cubicBezTo>
                <a:cubicBezTo>
                  <a:pt x="11471" y="14966"/>
                  <a:pt x="11615" y="14896"/>
                  <a:pt x="11658" y="15007"/>
                </a:cubicBezTo>
                <a:cubicBezTo>
                  <a:pt x="11767" y="15293"/>
                  <a:pt x="11443" y="15162"/>
                  <a:pt x="11361" y="15056"/>
                </a:cubicBezTo>
              </a:path>
              <a:path w="2084" h="1291">
                <a:moveTo>
                  <a:pt x="9897" y="14734"/>
                </a:moveTo>
                <a:cubicBezTo>
                  <a:pt x="9737" y="14734"/>
                  <a:pt x="9735" y="14788"/>
                  <a:pt x="9674" y="14982"/>
                </a:cubicBezTo>
                <a:cubicBezTo>
                  <a:pt x="9522" y="15465"/>
                  <a:pt x="9478" y="15762"/>
                  <a:pt x="989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00720" y="5286240"/>
            <a:ext cx="36360" cy="162000"/>
          </a:xfrm>
          <a:custGeom>
            <a:avLst/>
            <a:gdLst/>
            <a:ahLst/>
            <a:rect l="l" t="t" r="r" b="b"/>
            <a:pathLst>
              <a:path w="100" h="448">
                <a:moveTo>
                  <a:pt x="12502" y="14684"/>
                </a:moveTo>
                <a:cubicBezTo>
                  <a:pt x="12554" y="14845"/>
                  <a:pt x="12598" y="14966"/>
                  <a:pt x="12576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07040" y="4680000"/>
            <a:ext cx="492120" cy="142920"/>
          </a:xfrm>
          <a:custGeom>
            <a:avLst/>
            <a:gdLst/>
            <a:ahLst/>
            <a:rect l="l" t="t" r="r" b="b"/>
            <a:pathLst>
              <a:path w="1366" h="398">
                <a:moveTo>
                  <a:pt x="16966" y="13395"/>
                </a:moveTo>
                <a:cubicBezTo>
                  <a:pt x="17357" y="13276"/>
                  <a:pt x="17733" y="13116"/>
                  <a:pt x="18132" y="13022"/>
                </a:cubicBezTo>
                <a:cubicBezTo>
                  <a:pt x="18256" y="13005"/>
                  <a:pt x="18264" y="12997"/>
                  <a:pt x="1833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13120" y="5724360"/>
            <a:ext cx="33984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10616" y="16024"/>
                </a:moveTo>
                <a:cubicBezTo>
                  <a:pt x="10549" y="16047"/>
                  <a:pt x="10630" y="16171"/>
                  <a:pt x="10641" y="16222"/>
                </a:cubicBezTo>
                <a:cubicBezTo>
                  <a:pt x="10661" y="16312"/>
                  <a:pt x="10691" y="16539"/>
                  <a:pt x="10691" y="16446"/>
                </a:cubicBezTo>
              </a:path>
              <a:path w="943" h="571">
                <a:moveTo>
                  <a:pt x="10716" y="16024"/>
                </a:moveTo>
                <a:cubicBezTo>
                  <a:pt x="10716" y="16090"/>
                  <a:pt x="10716" y="16156"/>
                  <a:pt x="10716" y="16222"/>
                </a:cubicBezTo>
                <a:cubicBezTo>
                  <a:pt x="10829" y="16222"/>
                  <a:pt x="10904" y="16174"/>
                  <a:pt x="11013" y="16148"/>
                </a:cubicBezTo>
                <a:cubicBezTo>
                  <a:pt x="11056" y="16138"/>
                  <a:pt x="11038" y="16116"/>
                  <a:pt x="11038" y="16073"/>
                </a:cubicBezTo>
              </a:path>
              <a:path w="943" h="571">
                <a:moveTo>
                  <a:pt x="10964" y="15949"/>
                </a:moveTo>
                <a:cubicBezTo>
                  <a:pt x="10998" y="16070"/>
                  <a:pt x="11040" y="16192"/>
                  <a:pt x="11063" y="16321"/>
                </a:cubicBezTo>
                <a:cubicBezTo>
                  <a:pt x="11063" y="16356"/>
                  <a:pt x="11068" y="16355"/>
                  <a:pt x="11088" y="16297"/>
                </a:cubicBezTo>
              </a:path>
              <a:path w="943" h="571">
                <a:moveTo>
                  <a:pt x="11336" y="15900"/>
                </a:moveTo>
                <a:cubicBezTo>
                  <a:pt x="11257" y="15970"/>
                  <a:pt x="11103" y="16135"/>
                  <a:pt x="11237" y="16247"/>
                </a:cubicBezTo>
                <a:cubicBezTo>
                  <a:pt x="11361" y="16351"/>
                  <a:pt x="11590" y="16169"/>
                  <a:pt x="11534" y="16024"/>
                </a:cubicBezTo>
                <a:cubicBezTo>
                  <a:pt x="11509" y="15958"/>
                  <a:pt x="11442" y="15936"/>
                  <a:pt x="11385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1800" y="5670720"/>
            <a:ext cx="125280" cy="115560"/>
          </a:xfrm>
          <a:custGeom>
            <a:avLst/>
            <a:gdLst/>
            <a:ahLst/>
            <a:rect l="l" t="t" r="r" b="b"/>
            <a:pathLst>
              <a:path w="348" h="323">
                <a:moveTo>
                  <a:pt x="12303" y="15751"/>
                </a:moveTo>
                <a:cubicBezTo>
                  <a:pt x="12318" y="15853"/>
                  <a:pt x="12353" y="15964"/>
                  <a:pt x="12378" y="16073"/>
                </a:cubicBezTo>
              </a:path>
              <a:path w="348" h="323">
                <a:moveTo>
                  <a:pt x="12254" y="15949"/>
                </a:moveTo>
                <a:cubicBezTo>
                  <a:pt x="12369" y="15905"/>
                  <a:pt x="12484" y="15864"/>
                  <a:pt x="12601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3960" y="4813200"/>
            <a:ext cx="339840" cy="214560"/>
          </a:xfrm>
          <a:custGeom>
            <a:avLst/>
            <a:gdLst/>
            <a:ahLst/>
            <a:rect l="l" t="t" r="r" b="b"/>
            <a:pathLst>
              <a:path w="944" h="596">
                <a:moveTo>
                  <a:pt x="18182" y="13370"/>
                </a:moveTo>
                <a:cubicBezTo>
                  <a:pt x="18174" y="13436"/>
                  <a:pt x="18163" y="13502"/>
                  <a:pt x="18157" y="13568"/>
                </a:cubicBezTo>
                <a:cubicBezTo>
                  <a:pt x="18201" y="13563"/>
                  <a:pt x="18455" y="13554"/>
                  <a:pt x="18455" y="13494"/>
                </a:cubicBezTo>
                <a:cubicBezTo>
                  <a:pt x="18447" y="13486"/>
                  <a:pt x="18438" y="13477"/>
                  <a:pt x="18430" y="13469"/>
                </a:cubicBezTo>
              </a:path>
              <a:path w="944" h="596">
                <a:moveTo>
                  <a:pt x="17835" y="13519"/>
                </a:moveTo>
                <a:cubicBezTo>
                  <a:pt x="17815" y="13578"/>
                  <a:pt x="17811" y="13491"/>
                  <a:pt x="17735" y="13494"/>
                </a:cubicBezTo>
                <a:cubicBezTo>
                  <a:pt x="17605" y="13499"/>
                  <a:pt x="17567" y="13574"/>
                  <a:pt x="17512" y="13667"/>
                </a:cubicBezTo>
                <a:cubicBezTo>
                  <a:pt x="17608" y="13713"/>
                  <a:pt x="17881" y="13761"/>
                  <a:pt x="17810" y="13891"/>
                </a:cubicBezTo>
                <a:cubicBezTo>
                  <a:pt x="17731" y="13969"/>
                  <a:pt x="17699" y="13994"/>
                  <a:pt x="17611" y="13965"/>
                </a:cubicBezTo>
                <a:cubicBezTo>
                  <a:pt x="17637" y="13836"/>
                  <a:pt x="17703" y="13723"/>
                  <a:pt x="17735" y="135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27320" y="4973760"/>
            <a:ext cx="1563840" cy="1473120"/>
          </a:xfrm>
          <a:custGeom>
            <a:avLst/>
            <a:gdLst/>
            <a:ahLst/>
            <a:rect l="l" t="t" r="r" b="b"/>
            <a:pathLst>
              <a:path w="4342" h="4094">
                <a:moveTo>
                  <a:pt x="12427" y="14982"/>
                </a:moveTo>
                <a:cubicBezTo>
                  <a:pt x="12551" y="14904"/>
                  <a:pt x="12675" y="14837"/>
                  <a:pt x="12799" y="14759"/>
                </a:cubicBezTo>
              </a:path>
              <a:path w="4342" h="4094">
                <a:moveTo>
                  <a:pt x="13171" y="14188"/>
                </a:moveTo>
                <a:cubicBezTo>
                  <a:pt x="13055" y="14464"/>
                  <a:pt x="12943" y="14784"/>
                  <a:pt x="13146" y="15056"/>
                </a:cubicBezTo>
                <a:cubicBezTo>
                  <a:pt x="13179" y="15073"/>
                  <a:pt x="13213" y="15089"/>
                  <a:pt x="13246" y="15106"/>
                </a:cubicBezTo>
              </a:path>
              <a:path w="4342" h="4094">
                <a:moveTo>
                  <a:pt x="13345" y="14387"/>
                </a:moveTo>
                <a:cubicBezTo>
                  <a:pt x="13608" y="14328"/>
                  <a:pt x="13749" y="14466"/>
                  <a:pt x="13643" y="14759"/>
                </a:cubicBezTo>
                <a:cubicBezTo>
                  <a:pt x="13581" y="14931"/>
                  <a:pt x="13511" y="14954"/>
                  <a:pt x="13395" y="14908"/>
                </a:cubicBezTo>
                <a:cubicBezTo>
                  <a:pt x="13409" y="14700"/>
                  <a:pt x="13553" y="14746"/>
                  <a:pt x="13742" y="14833"/>
                </a:cubicBezTo>
                <a:cubicBezTo>
                  <a:pt x="13772" y="14863"/>
                  <a:pt x="13786" y="14868"/>
                  <a:pt x="13816" y="14833"/>
                </a:cubicBezTo>
              </a:path>
              <a:path w="4342" h="4094">
                <a:moveTo>
                  <a:pt x="13915" y="14288"/>
                </a:moveTo>
                <a:cubicBezTo>
                  <a:pt x="13839" y="14359"/>
                  <a:pt x="13610" y="14543"/>
                  <a:pt x="13816" y="14635"/>
                </a:cubicBezTo>
                <a:cubicBezTo>
                  <a:pt x="14000" y="14680"/>
                  <a:pt x="14055" y="14687"/>
                  <a:pt x="14139" y="14784"/>
                </a:cubicBezTo>
                <a:cubicBezTo>
                  <a:pt x="14139" y="14809"/>
                  <a:pt x="14139" y="14833"/>
                  <a:pt x="14139" y="14858"/>
                </a:cubicBezTo>
                <a:cubicBezTo>
                  <a:pt x="13895" y="14901"/>
                  <a:pt x="13822" y="14751"/>
                  <a:pt x="13965" y="14511"/>
                </a:cubicBezTo>
                <a:cubicBezTo>
                  <a:pt x="14037" y="14439"/>
                  <a:pt x="14070" y="14444"/>
                  <a:pt x="14064" y="14387"/>
                </a:cubicBezTo>
              </a:path>
              <a:path w="4342" h="4094">
                <a:moveTo>
                  <a:pt x="14337" y="14412"/>
                </a:moveTo>
                <a:cubicBezTo>
                  <a:pt x="14433" y="14534"/>
                  <a:pt x="14536" y="14654"/>
                  <a:pt x="14610" y="14784"/>
                </a:cubicBezTo>
              </a:path>
              <a:path w="4342" h="4094">
                <a:moveTo>
                  <a:pt x="14536" y="14436"/>
                </a:moveTo>
                <a:cubicBezTo>
                  <a:pt x="14527" y="14464"/>
                  <a:pt x="14390" y="14837"/>
                  <a:pt x="14486" y="14709"/>
                </a:cubicBezTo>
              </a:path>
              <a:path w="4342" h="4094">
                <a:moveTo>
                  <a:pt x="14635" y="14238"/>
                </a:moveTo>
                <a:cubicBezTo>
                  <a:pt x="14739" y="14238"/>
                  <a:pt x="14790" y="14155"/>
                  <a:pt x="14908" y="14188"/>
                </a:cubicBezTo>
                <a:cubicBezTo>
                  <a:pt x="15033" y="14223"/>
                  <a:pt x="14857" y="14379"/>
                  <a:pt x="14833" y="14412"/>
                </a:cubicBezTo>
                <a:cubicBezTo>
                  <a:pt x="14817" y="14420"/>
                  <a:pt x="14800" y="14428"/>
                  <a:pt x="14784" y="14436"/>
                </a:cubicBezTo>
                <a:cubicBezTo>
                  <a:pt x="14853" y="14297"/>
                  <a:pt x="14991" y="14200"/>
                  <a:pt x="15081" y="14412"/>
                </a:cubicBezTo>
                <a:cubicBezTo>
                  <a:pt x="15155" y="14588"/>
                  <a:pt x="14902" y="14662"/>
                  <a:pt x="14784" y="14610"/>
                </a:cubicBezTo>
                <a:cubicBezTo>
                  <a:pt x="14784" y="14551"/>
                  <a:pt x="14790" y="14510"/>
                  <a:pt x="14808" y="14461"/>
                </a:cubicBezTo>
              </a:path>
              <a:path w="4342" h="4094">
                <a:moveTo>
                  <a:pt x="14858" y="13816"/>
                </a:moveTo>
                <a:cubicBezTo>
                  <a:pt x="15151" y="13944"/>
                  <a:pt x="15424" y="14021"/>
                  <a:pt x="15528" y="14362"/>
                </a:cubicBezTo>
                <a:cubicBezTo>
                  <a:pt x="15602" y="14606"/>
                  <a:pt x="15449" y="14714"/>
                  <a:pt x="15304" y="14858"/>
                </a:cubicBezTo>
              </a:path>
              <a:path w="4342" h="4094">
                <a:moveTo>
                  <a:pt x="13097" y="15577"/>
                </a:moveTo>
                <a:cubicBezTo>
                  <a:pt x="13177" y="15551"/>
                  <a:pt x="13036" y="15553"/>
                  <a:pt x="12998" y="15577"/>
                </a:cubicBezTo>
                <a:cubicBezTo>
                  <a:pt x="12935" y="15640"/>
                  <a:pt x="12918" y="15650"/>
                  <a:pt x="12898" y="15701"/>
                </a:cubicBezTo>
                <a:cubicBezTo>
                  <a:pt x="13024" y="15809"/>
                  <a:pt x="13143" y="15890"/>
                  <a:pt x="13246" y="16024"/>
                </a:cubicBezTo>
                <a:cubicBezTo>
                  <a:pt x="13131" y="16075"/>
                  <a:pt x="13004" y="16091"/>
                  <a:pt x="13022" y="15900"/>
                </a:cubicBezTo>
                <a:cubicBezTo>
                  <a:pt x="13032" y="15797"/>
                  <a:pt x="13108" y="15752"/>
                  <a:pt x="13146" y="15677"/>
                </a:cubicBezTo>
              </a:path>
              <a:path w="4342" h="4094">
                <a:moveTo>
                  <a:pt x="13345" y="15577"/>
                </a:moveTo>
                <a:cubicBezTo>
                  <a:pt x="13345" y="15634"/>
                  <a:pt x="13326" y="15773"/>
                  <a:pt x="13419" y="15776"/>
                </a:cubicBezTo>
                <a:cubicBezTo>
                  <a:pt x="13591" y="15781"/>
                  <a:pt x="13593" y="15701"/>
                  <a:pt x="13618" y="15577"/>
                </a:cubicBezTo>
              </a:path>
              <a:path w="4342" h="4094">
                <a:moveTo>
                  <a:pt x="13494" y="15379"/>
                </a:moveTo>
                <a:cubicBezTo>
                  <a:pt x="13530" y="15566"/>
                  <a:pt x="13568" y="15735"/>
                  <a:pt x="13568" y="15925"/>
                </a:cubicBezTo>
              </a:path>
              <a:path w="4342" h="4094">
                <a:moveTo>
                  <a:pt x="12799" y="16768"/>
                </a:moveTo>
                <a:cubicBezTo>
                  <a:pt x="12809" y="16813"/>
                  <a:pt x="12759" y="17068"/>
                  <a:pt x="12874" y="17090"/>
                </a:cubicBezTo>
                <a:cubicBezTo>
                  <a:pt x="12977" y="17109"/>
                  <a:pt x="13077" y="16999"/>
                  <a:pt x="13146" y="16942"/>
                </a:cubicBezTo>
              </a:path>
              <a:path w="4342" h="4094">
                <a:moveTo>
                  <a:pt x="12973" y="16619"/>
                </a:moveTo>
                <a:cubicBezTo>
                  <a:pt x="12973" y="16795"/>
                  <a:pt x="12990" y="16965"/>
                  <a:pt x="12998" y="17140"/>
                </a:cubicBezTo>
                <a:cubicBezTo>
                  <a:pt x="12998" y="17165"/>
                  <a:pt x="12998" y="17173"/>
                  <a:pt x="12998" y="17140"/>
                </a:cubicBezTo>
              </a:path>
              <a:path w="4342" h="4094">
                <a:moveTo>
                  <a:pt x="12353" y="17066"/>
                </a:moveTo>
                <a:cubicBezTo>
                  <a:pt x="12353" y="16995"/>
                  <a:pt x="12358" y="17041"/>
                  <a:pt x="12402" y="17016"/>
                </a:cubicBezTo>
                <a:cubicBezTo>
                  <a:pt x="12505" y="16958"/>
                  <a:pt x="12593" y="17035"/>
                  <a:pt x="12601" y="17165"/>
                </a:cubicBezTo>
                <a:cubicBezTo>
                  <a:pt x="12612" y="17343"/>
                  <a:pt x="12505" y="17452"/>
                  <a:pt x="12353" y="17438"/>
                </a:cubicBezTo>
                <a:cubicBezTo>
                  <a:pt x="12323" y="17302"/>
                  <a:pt x="12376" y="17273"/>
                  <a:pt x="12526" y="17289"/>
                </a:cubicBezTo>
                <a:cubicBezTo>
                  <a:pt x="12604" y="17308"/>
                  <a:pt x="12621" y="17300"/>
                  <a:pt x="12650" y="17338"/>
                </a:cubicBezTo>
              </a:path>
              <a:path w="4342" h="4094">
                <a:moveTo>
                  <a:pt x="11881" y="17239"/>
                </a:moveTo>
                <a:cubicBezTo>
                  <a:pt x="11804" y="17199"/>
                  <a:pt x="12029" y="17168"/>
                  <a:pt x="12055" y="17165"/>
                </a:cubicBezTo>
                <a:cubicBezTo>
                  <a:pt x="12166" y="17331"/>
                  <a:pt x="12204" y="17494"/>
                  <a:pt x="11981" y="17611"/>
                </a:cubicBezTo>
                <a:cubicBezTo>
                  <a:pt x="11880" y="17631"/>
                  <a:pt x="11850" y="17661"/>
                  <a:pt x="11832" y="17587"/>
                </a:cubicBezTo>
                <a:cubicBezTo>
                  <a:pt x="11926" y="17451"/>
                  <a:pt x="12025" y="17478"/>
                  <a:pt x="12179" y="17562"/>
                </a:cubicBezTo>
                <a:cubicBezTo>
                  <a:pt x="12202" y="17585"/>
                  <a:pt x="12213" y="17593"/>
                  <a:pt x="12179" y="17587"/>
                </a:cubicBezTo>
              </a:path>
              <a:path w="4342" h="4094">
                <a:moveTo>
                  <a:pt x="11485" y="17140"/>
                </a:moveTo>
                <a:cubicBezTo>
                  <a:pt x="11413" y="17164"/>
                  <a:pt x="11390" y="17170"/>
                  <a:pt x="11361" y="17214"/>
                </a:cubicBezTo>
                <a:cubicBezTo>
                  <a:pt x="11310" y="17290"/>
                  <a:pt x="11504" y="17203"/>
                  <a:pt x="11559" y="17264"/>
                </a:cubicBezTo>
                <a:cubicBezTo>
                  <a:pt x="11683" y="17403"/>
                  <a:pt x="11419" y="17431"/>
                  <a:pt x="11361" y="17413"/>
                </a:cubicBezTo>
                <a:cubicBezTo>
                  <a:pt x="11334" y="17306"/>
                  <a:pt x="11327" y="17265"/>
                  <a:pt x="11361" y="17190"/>
                </a:cubicBezTo>
              </a:path>
              <a:path w="4342" h="4094">
                <a:moveTo>
                  <a:pt x="11385" y="17016"/>
                </a:moveTo>
                <a:cubicBezTo>
                  <a:pt x="11426" y="17162"/>
                  <a:pt x="11472" y="17300"/>
                  <a:pt x="11534" y="17438"/>
                </a:cubicBezTo>
              </a:path>
              <a:path w="4342" h="4094">
                <a:moveTo>
                  <a:pt x="11385" y="17810"/>
                </a:moveTo>
                <a:cubicBezTo>
                  <a:pt x="11705" y="17839"/>
                  <a:pt x="12031" y="17777"/>
                  <a:pt x="12353" y="17735"/>
                </a:cubicBezTo>
                <a:cubicBezTo>
                  <a:pt x="12748" y="17684"/>
                  <a:pt x="13280" y="17592"/>
                  <a:pt x="13519" y="17214"/>
                </a:cubicBezTo>
                <a:cubicBezTo>
                  <a:pt x="13753" y="16843"/>
                  <a:pt x="13267" y="16582"/>
                  <a:pt x="12998" y="16495"/>
                </a:cubicBezTo>
                <a:cubicBezTo>
                  <a:pt x="12420" y="16308"/>
                  <a:pt x="11821" y="16467"/>
                  <a:pt x="11435" y="16942"/>
                </a:cubicBezTo>
                <a:cubicBezTo>
                  <a:pt x="10937" y="17555"/>
                  <a:pt x="11152" y="17857"/>
                  <a:pt x="11782" y="178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95840" y="4384800"/>
            <a:ext cx="936360" cy="268200"/>
          </a:xfrm>
          <a:custGeom>
            <a:avLst/>
            <a:gdLst/>
            <a:ahLst/>
            <a:rect l="l" t="t" r="r" b="b"/>
            <a:pathLst>
              <a:path w="2605" h="745">
                <a:moveTo>
                  <a:pt x="10542" y="12923"/>
                </a:moveTo>
                <a:cubicBezTo>
                  <a:pt x="10642" y="12690"/>
                  <a:pt x="10795" y="12586"/>
                  <a:pt x="11013" y="12452"/>
                </a:cubicBezTo>
                <a:cubicBezTo>
                  <a:pt x="11337" y="12253"/>
                  <a:pt x="11666" y="12131"/>
                  <a:pt x="12055" y="12179"/>
                </a:cubicBezTo>
                <a:cubicBezTo>
                  <a:pt x="12335" y="12213"/>
                  <a:pt x="12658" y="12311"/>
                  <a:pt x="12898" y="12452"/>
                </a:cubicBezTo>
                <a:cubicBezTo>
                  <a:pt x="12999" y="12511"/>
                  <a:pt x="13007" y="12567"/>
                  <a:pt x="13072" y="12650"/>
                </a:cubicBezTo>
                <a:cubicBezTo>
                  <a:pt x="13114" y="12692"/>
                  <a:pt x="13122" y="12699"/>
                  <a:pt x="13146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71800" y="4768920"/>
            <a:ext cx="590400" cy="1017360"/>
          </a:xfrm>
          <a:custGeom>
            <a:avLst/>
            <a:gdLst/>
            <a:ahLst/>
            <a:rect l="l" t="t" r="r" b="b"/>
            <a:pathLst>
              <a:path w="1638" h="2828">
                <a:moveTo>
                  <a:pt x="6127" y="13841"/>
                </a:moveTo>
                <a:cubicBezTo>
                  <a:pt x="6431" y="13865"/>
                  <a:pt x="6552" y="13952"/>
                  <a:pt x="6276" y="14238"/>
                </a:cubicBezTo>
                <a:cubicBezTo>
                  <a:pt x="6218" y="14279"/>
                  <a:pt x="6160" y="14321"/>
                  <a:pt x="6102" y="14362"/>
                </a:cubicBezTo>
                <a:cubicBezTo>
                  <a:pt x="6069" y="14354"/>
                  <a:pt x="6036" y="14345"/>
                  <a:pt x="6003" y="14337"/>
                </a:cubicBezTo>
                <a:cubicBezTo>
                  <a:pt x="6100" y="14152"/>
                  <a:pt x="6189" y="14005"/>
                  <a:pt x="6350" y="14213"/>
                </a:cubicBezTo>
                <a:cubicBezTo>
                  <a:pt x="6378" y="14270"/>
                  <a:pt x="6394" y="14284"/>
                  <a:pt x="6449" y="14238"/>
                </a:cubicBezTo>
              </a:path>
              <a:path w="1638" h="2828">
                <a:moveTo>
                  <a:pt x="6623" y="13717"/>
                </a:moveTo>
                <a:cubicBezTo>
                  <a:pt x="6532" y="13898"/>
                  <a:pt x="6615" y="13883"/>
                  <a:pt x="6772" y="13990"/>
                </a:cubicBezTo>
                <a:cubicBezTo>
                  <a:pt x="6805" y="14015"/>
                  <a:pt x="6838" y="14039"/>
                  <a:pt x="6871" y="14064"/>
                </a:cubicBezTo>
                <a:cubicBezTo>
                  <a:pt x="6778" y="14192"/>
                  <a:pt x="6561" y="14283"/>
                  <a:pt x="6623" y="13990"/>
                </a:cubicBezTo>
                <a:cubicBezTo>
                  <a:pt x="6686" y="13864"/>
                  <a:pt x="6696" y="13836"/>
                  <a:pt x="6747" y="13767"/>
                </a:cubicBezTo>
              </a:path>
              <a:path w="1638" h="2828">
                <a:moveTo>
                  <a:pt x="6821" y="14436"/>
                </a:moveTo>
                <a:cubicBezTo>
                  <a:pt x="6759" y="14463"/>
                  <a:pt x="6747" y="14449"/>
                  <a:pt x="6747" y="14511"/>
                </a:cubicBezTo>
                <a:cubicBezTo>
                  <a:pt x="6747" y="14569"/>
                  <a:pt x="6747" y="14577"/>
                  <a:pt x="6747" y="14610"/>
                </a:cubicBezTo>
                <a:cubicBezTo>
                  <a:pt x="6830" y="14610"/>
                  <a:pt x="6965" y="14582"/>
                  <a:pt x="6995" y="14684"/>
                </a:cubicBezTo>
                <a:cubicBezTo>
                  <a:pt x="7043" y="14847"/>
                  <a:pt x="6897" y="14839"/>
                  <a:pt x="6796" y="14858"/>
                </a:cubicBezTo>
              </a:path>
              <a:path w="1638" h="2828">
                <a:moveTo>
                  <a:pt x="5854" y="14784"/>
                </a:moveTo>
                <a:cubicBezTo>
                  <a:pt x="5911" y="14798"/>
                  <a:pt x="5973" y="14880"/>
                  <a:pt x="6003" y="14932"/>
                </a:cubicBezTo>
                <a:cubicBezTo>
                  <a:pt x="6003" y="14940"/>
                  <a:pt x="6003" y="14949"/>
                  <a:pt x="6003" y="14957"/>
                </a:cubicBezTo>
              </a:path>
              <a:path w="1638" h="2828">
                <a:moveTo>
                  <a:pt x="5953" y="14709"/>
                </a:moveTo>
                <a:cubicBezTo>
                  <a:pt x="5907" y="14842"/>
                  <a:pt x="5879" y="14940"/>
                  <a:pt x="5879" y="15081"/>
                </a:cubicBezTo>
              </a:path>
              <a:path w="1638" h="2828">
                <a:moveTo>
                  <a:pt x="5879" y="15553"/>
                </a:moveTo>
                <a:cubicBezTo>
                  <a:pt x="6217" y="15384"/>
                  <a:pt x="6564" y="15197"/>
                  <a:pt x="6921" y="15056"/>
                </a:cubicBezTo>
                <a:cubicBezTo>
                  <a:pt x="7037" y="15010"/>
                  <a:pt x="7215" y="14955"/>
                  <a:pt x="7342" y="14908"/>
                </a:cubicBezTo>
              </a:path>
              <a:path w="1638" h="2828">
                <a:moveTo>
                  <a:pt x="7069" y="15280"/>
                </a:moveTo>
                <a:cubicBezTo>
                  <a:pt x="7126" y="15195"/>
                  <a:pt x="6996" y="15450"/>
                  <a:pt x="6995" y="15478"/>
                </a:cubicBezTo>
                <a:cubicBezTo>
                  <a:pt x="6986" y="15747"/>
                  <a:pt x="7210" y="15815"/>
                  <a:pt x="7342" y="15577"/>
                </a:cubicBezTo>
                <a:cubicBezTo>
                  <a:pt x="7484" y="15319"/>
                  <a:pt x="7342" y="15313"/>
                  <a:pt x="7169" y="15255"/>
                </a:cubicBezTo>
                <a:cubicBezTo>
                  <a:pt x="7161" y="15247"/>
                  <a:pt x="7152" y="15238"/>
                  <a:pt x="7144" y="15230"/>
                </a:cubicBezTo>
              </a:path>
              <a:path w="1638" h="2828">
                <a:moveTo>
                  <a:pt x="5755" y="13444"/>
                </a:moveTo>
                <a:cubicBezTo>
                  <a:pt x="5755" y="13498"/>
                  <a:pt x="5725" y="13613"/>
                  <a:pt x="5779" y="13643"/>
                </a:cubicBezTo>
                <a:cubicBezTo>
                  <a:pt x="5867" y="13692"/>
                  <a:pt x="5988" y="13557"/>
                  <a:pt x="5978" y="13519"/>
                </a:cubicBezTo>
              </a:path>
              <a:path w="1638" h="2828">
                <a:moveTo>
                  <a:pt x="5879" y="13246"/>
                </a:moveTo>
                <a:cubicBezTo>
                  <a:pt x="5896" y="13471"/>
                  <a:pt x="5939" y="13691"/>
                  <a:pt x="5978" y="13915"/>
                </a:cubicBezTo>
              </a:path>
              <a:path w="1638" h="2828">
                <a:moveTo>
                  <a:pt x="6102" y="15677"/>
                </a:moveTo>
                <a:cubicBezTo>
                  <a:pt x="6102" y="15781"/>
                  <a:pt x="6147" y="15924"/>
                  <a:pt x="6176" y="16024"/>
                </a:cubicBezTo>
                <a:cubicBezTo>
                  <a:pt x="6201" y="16073"/>
                  <a:pt x="6209" y="16089"/>
                  <a:pt x="6226" y="16024"/>
                </a:cubicBezTo>
              </a:path>
              <a:path w="1638" h="2828">
                <a:moveTo>
                  <a:pt x="6499" y="15404"/>
                </a:moveTo>
                <a:cubicBezTo>
                  <a:pt x="6526" y="15580"/>
                  <a:pt x="6590" y="15749"/>
                  <a:pt x="6623" y="15925"/>
                </a:cubicBezTo>
                <a:cubicBezTo>
                  <a:pt x="6623" y="15959"/>
                  <a:pt x="6632" y="15963"/>
                  <a:pt x="6672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5126040"/>
            <a:ext cx="285840" cy="561960"/>
          </a:xfrm>
          <a:custGeom>
            <a:avLst/>
            <a:gdLst/>
            <a:ahLst/>
            <a:rect l="l" t="t" r="r" b="b"/>
            <a:pathLst>
              <a:path w="795" h="1564">
                <a:moveTo>
                  <a:pt x="6747" y="14436"/>
                </a:moveTo>
                <a:cubicBezTo>
                  <a:pt x="6865" y="14352"/>
                  <a:pt x="6959" y="14292"/>
                  <a:pt x="7094" y="14238"/>
                </a:cubicBezTo>
              </a:path>
              <a:path w="795" h="1564">
                <a:moveTo>
                  <a:pt x="6300" y="15677"/>
                </a:moveTo>
                <a:cubicBezTo>
                  <a:pt x="6300" y="15736"/>
                  <a:pt x="6303" y="15762"/>
                  <a:pt x="6325" y="15801"/>
                </a:cubicBezTo>
                <a:cubicBezTo>
                  <a:pt x="6448" y="15783"/>
                  <a:pt x="6541" y="15737"/>
                  <a:pt x="6648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ve Property 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7:42:23Z</dcterms:created>
  <dc:creator>TAMMY  COON</dc:creator>
  <dc:description/>
  <dc:language>en-US</dc:language>
  <cp:lastModifiedBy>deanne elizabeth mcgrath</cp:lastModifiedBy>
  <dcterms:modified xsi:type="dcterms:W3CDTF">2011-12-01T20:21:33Z</dcterms:modified>
  <cp:revision>8</cp:revision>
  <dc:subject/>
  <dc:title>Opener: Find the % of the number </dc:title>
</cp:coreProperties>
</file>